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3E6-A60A-4D50-82BF-1A6D96F4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B5F-CEA1-4CE0-B960-12A37F9E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A30-AC98-43EF-90E5-BB7F81A8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903-55B2-43E6-982C-0E1FA009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91A-0D39-4291-B94B-C3AE18E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C7C-DEED-451A-8B35-7E0400C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65D-9EE5-4C75-9515-DC83F652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132-A813-4E4A-87D7-C72B2301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293-7ABF-48C6-83A0-78D1BC04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F6F-E5B0-4BF3-8202-4F6BA537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E8E-F332-4324-8E84-886DD89B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E36-7803-4DE6-87AC-D5CE5F6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5BFD-86A2-4E98-9919-0EEBB9FF08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Verify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600200" y="1676520"/>
          <a:ext cx="51814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5181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4"/>
          <p:cNvSpPr/>
          <p:nvPr/>
        </p:nvSpPr>
        <p:spPr>
          <a:xfrm>
            <a:off x="1371600" y="57913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When finished please make sure you have a calculato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rule sheet, and your unit circle hando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esting solutions to trigonometric equations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2sinx –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Ink 5"/>
          <p:cNvSpPr/>
          <p:nvPr/>
        </p:nvSpPr>
        <p:spPr>
          <a:xfrm>
            <a:off x="2768760" y="1554120"/>
            <a:ext cx="1428480" cy="615960"/>
          </a:xfrm>
          <a:custGeom>
            <a:avLst/>
            <a:gdLst/>
            <a:ahLst/>
            <a:rect l="l" t="t" r="r" b="b"/>
            <a:pathLst>
              <a:path w="3970" h="1713">
                <a:moveTo>
                  <a:pt x="7987" y="4887"/>
                </a:moveTo>
                <a:cubicBezTo>
                  <a:pt x="7987" y="4879"/>
                  <a:pt x="7987" y="4870"/>
                  <a:pt x="7987" y="4862"/>
                </a:cubicBezTo>
              </a:path>
              <a:path w="3970" h="1713">
                <a:moveTo>
                  <a:pt x="7987" y="4887"/>
                </a:moveTo>
                <a:cubicBezTo>
                  <a:pt x="7987" y="4825"/>
                  <a:pt x="7978" y="4810"/>
                  <a:pt x="8012" y="4787"/>
                </a:cubicBezTo>
              </a:path>
              <a:path w="3970" h="1713">
                <a:moveTo>
                  <a:pt x="7987" y="4812"/>
                </a:moveTo>
                <a:cubicBezTo>
                  <a:pt x="8021" y="4728"/>
                  <a:pt x="8046" y="4702"/>
                  <a:pt x="8111" y="4638"/>
                </a:cubicBezTo>
                <a:cubicBezTo>
                  <a:pt x="8164" y="4586"/>
                  <a:pt x="8191" y="4583"/>
                  <a:pt x="8235" y="4589"/>
                </a:cubicBezTo>
                <a:cubicBezTo>
                  <a:pt x="8290" y="4597"/>
                  <a:pt x="8325" y="4611"/>
                  <a:pt x="8359" y="4663"/>
                </a:cubicBezTo>
                <a:cubicBezTo>
                  <a:pt x="8406" y="4737"/>
                  <a:pt x="8421" y="4924"/>
                  <a:pt x="8409" y="5011"/>
                </a:cubicBezTo>
                <a:cubicBezTo>
                  <a:pt x="8395" y="5109"/>
                  <a:pt x="8383" y="5212"/>
                  <a:pt x="8359" y="5308"/>
                </a:cubicBezTo>
                <a:cubicBezTo>
                  <a:pt x="8334" y="5412"/>
                  <a:pt x="8302" y="5439"/>
                  <a:pt x="8260" y="5531"/>
                </a:cubicBezTo>
                <a:cubicBezTo>
                  <a:pt x="8225" y="5608"/>
                  <a:pt x="8182" y="5701"/>
                  <a:pt x="8111" y="5755"/>
                </a:cubicBezTo>
                <a:cubicBezTo>
                  <a:pt x="8063" y="5791"/>
                  <a:pt x="7993" y="5826"/>
                  <a:pt x="7938" y="5829"/>
                </a:cubicBezTo>
                <a:cubicBezTo>
                  <a:pt x="7858" y="5834"/>
                  <a:pt x="7812" y="5826"/>
                  <a:pt x="7764" y="5755"/>
                </a:cubicBezTo>
                <a:cubicBezTo>
                  <a:pt x="7716" y="5683"/>
                  <a:pt x="7693" y="5645"/>
                  <a:pt x="7689" y="5556"/>
                </a:cubicBezTo>
                <a:cubicBezTo>
                  <a:pt x="7685" y="5478"/>
                  <a:pt x="7736" y="5451"/>
                  <a:pt x="7789" y="5407"/>
                </a:cubicBezTo>
                <a:cubicBezTo>
                  <a:pt x="7857" y="5351"/>
                  <a:pt x="7924" y="5351"/>
                  <a:pt x="8012" y="5383"/>
                </a:cubicBezTo>
                <a:cubicBezTo>
                  <a:pt x="8070" y="5404"/>
                  <a:pt x="8131" y="5456"/>
                  <a:pt x="8161" y="5507"/>
                </a:cubicBezTo>
                <a:cubicBezTo>
                  <a:pt x="8203" y="5577"/>
                  <a:pt x="8210" y="5625"/>
                  <a:pt x="8210" y="5705"/>
                </a:cubicBezTo>
                <a:cubicBezTo>
                  <a:pt x="8210" y="5755"/>
                  <a:pt x="8210" y="5772"/>
                  <a:pt x="8210" y="5705"/>
                </a:cubicBezTo>
              </a:path>
              <a:path w="3970" h="1713">
                <a:moveTo>
                  <a:pt x="8731" y="5308"/>
                </a:moveTo>
                <a:cubicBezTo>
                  <a:pt x="8731" y="5353"/>
                  <a:pt x="8728" y="5373"/>
                  <a:pt x="8756" y="5333"/>
                </a:cubicBezTo>
                <a:cubicBezTo>
                  <a:pt x="8776" y="5272"/>
                  <a:pt x="8749" y="5307"/>
                  <a:pt x="8706" y="5333"/>
                </a:cubicBezTo>
              </a:path>
              <a:path w="3970" h="1713">
                <a:moveTo>
                  <a:pt x="9550" y="5085"/>
                </a:moveTo>
                <a:cubicBezTo>
                  <a:pt x="9468" y="5085"/>
                  <a:pt x="9395" y="5096"/>
                  <a:pt x="9327" y="5110"/>
                </a:cubicBezTo>
                <a:cubicBezTo>
                  <a:pt x="9273" y="5121"/>
                  <a:pt x="9223" y="5124"/>
                  <a:pt x="9178" y="5159"/>
                </a:cubicBezTo>
                <a:cubicBezTo>
                  <a:pt x="9148" y="5189"/>
                  <a:pt x="9134" y="5200"/>
                  <a:pt x="9103" y="5209"/>
                </a:cubicBezTo>
                <a:cubicBezTo>
                  <a:pt x="9121" y="5334"/>
                  <a:pt x="9177" y="5295"/>
                  <a:pt x="9302" y="5358"/>
                </a:cubicBezTo>
                <a:cubicBezTo>
                  <a:pt x="9348" y="5381"/>
                  <a:pt x="9443" y="5465"/>
                  <a:pt x="9475" y="5507"/>
                </a:cubicBezTo>
                <a:cubicBezTo>
                  <a:pt x="9530" y="5579"/>
                  <a:pt x="9528" y="5633"/>
                  <a:pt x="9500" y="5705"/>
                </a:cubicBezTo>
                <a:cubicBezTo>
                  <a:pt x="9481" y="5754"/>
                  <a:pt x="9404" y="5842"/>
                  <a:pt x="9327" y="5804"/>
                </a:cubicBezTo>
                <a:cubicBezTo>
                  <a:pt x="9248" y="5765"/>
                  <a:pt x="9260" y="5738"/>
                  <a:pt x="9277" y="5680"/>
                </a:cubicBezTo>
              </a:path>
              <a:path w="3970" h="1713">
                <a:moveTo>
                  <a:pt x="9872" y="5184"/>
                </a:moveTo>
                <a:cubicBezTo>
                  <a:pt x="9872" y="5307"/>
                  <a:pt x="9872" y="5829"/>
                  <a:pt x="9872" y="5705"/>
                </a:cubicBezTo>
                <a:cubicBezTo>
                  <a:pt x="9872" y="5688"/>
                  <a:pt x="9872" y="5672"/>
                  <a:pt x="9872" y="5655"/>
                </a:cubicBezTo>
              </a:path>
              <a:path w="3970" h="1713">
                <a:moveTo>
                  <a:pt x="9971" y="4862"/>
                </a:moveTo>
                <a:cubicBezTo>
                  <a:pt x="10015" y="4840"/>
                  <a:pt x="10027" y="4837"/>
                  <a:pt x="10046" y="4812"/>
                </a:cubicBezTo>
              </a:path>
              <a:path w="3970" h="1713">
                <a:moveTo>
                  <a:pt x="10096" y="5507"/>
                </a:moveTo>
                <a:cubicBezTo>
                  <a:pt x="10096" y="5655"/>
                  <a:pt x="10096" y="5688"/>
                  <a:pt x="10096" y="5779"/>
                </a:cubicBezTo>
                <a:cubicBezTo>
                  <a:pt x="10068" y="5676"/>
                  <a:pt x="10091" y="5634"/>
                  <a:pt x="10096" y="5531"/>
                </a:cubicBezTo>
                <a:cubicBezTo>
                  <a:pt x="10101" y="5441"/>
                  <a:pt x="10127" y="5403"/>
                  <a:pt x="10170" y="5333"/>
                </a:cubicBezTo>
                <a:cubicBezTo>
                  <a:pt x="10213" y="5262"/>
                  <a:pt x="10277" y="5175"/>
                  <a:pt x="10368" y="5159"/>
                </a:cubicBezTo>
                <a:cubicBezTo>
                  <a:pt x="10480" y="5139"/>
                  <a:pt x="10506" y="5237"/>
                  <a:pt x="10517" y="5333"/>
                </a:cubicBezTo>
                <a:cubicBezTo>
                  <a:pt x="10538" y="5509"/>
                  <a:pt x="10451" y="6006"/>
                  <a:pt x="10542" y="5854"/>
                </a:cubicBezTo>
                <a:cubicBezTo>
                  <a:pt x="10542" y="5837"/>
                  <a:pt x="10542" y="5821"/>
                  <a:pt x="10542" y="5804"/>
                </a:cubicBezTo>
              </a:path>
              <a:path w="3970" h="1713">
                <a:moveTo>
                  <a:pt x="10840" y="4465"/>
                </a:moveTo>
                <a:cubicBezTo>
                  <a:pt x="10969" y="4465"/>
                  <a:pt x="11066" y="4473"/>
                  <a:pt x="11187" y="4490"/>
                </a:cubicBezTo>
                <a:cubicBezTo>
                  <a:pt x="11253" y="4499"/>
                  <a:pt x="11302" y="4485"/>
                  <a:pt x="11361" y="4465"/>
                </a:cubicBezTo>
              </a:path>
              <a:path w="3970" h="1713">
                <a:moveTo>
                  <a:pt x="11013" y="4514"/>
                </a:moveTo>
                <a:cubicBezTo>
                  <a:pt x="10994" y="4604"/>
                  <a:pt x="10988" y="4671"/>
                  <a:pt x="10988" y="4762"/>
                </a:cubicBezTo>
                <a:cubicBezTo>
                  <a:pt x="10988" y="4814"/>
                  <a:pt x="10989" y="4832"/>
                  <a:pt x="11013" y="4862"/>
                </a:cubicBezTo>
              </a:path>
              <a:path w="3970" h="1713">
                <a:moveTo>
                  <a:pt x="11237" y="4490"/>
                </a:moveTo>
                <a:cubicBezTo>
                  <a:pt x="11237" y="4596"/>
                  <a:pt x="11217" y="4684"/>
                  <a:pt x="11212" y="4787"/>
                </a:cubicBezTo>
                <a:cubicBezTo>
                  <a:pt x="11210" y="4836"/>
                  <a:pt x="11212" y="4887"/>
                  <a:pt x="11212" y="4936"/>
                </a:cubicBezTo>
              </a:path>
              <a:path w="3970" h="1713">
                <a:moveTo>
                  <a:pt x="10889" y="5085"/>
                </a:moveTo>
                <a:cubicBezTo>
                  <a:pt x="11019" y="5085"/>
                  <a:pt x="11139" y="5081"/>
                  <a:pt x="11261" y="5060"/>
                </a:cubicBezTo>
                <a:cubicBezTo>
                  <a:pt x="11311" y="5060"/>
                  <a:pt x="11328" y="5060"/>
                  <a:pt x="11361" y="5060"/>
                </a:cubicBezTo>
              </a:path>
              <a:path w="3970" h="1713">
                <a:moveTo>
                  <a:pt x="11013" y="5283"/>
                </a:moveTo>
                <a:cubicBezTo>
                  <a:pt x="11056" y="5283"/>
                  <a:pt x="11262" y="5254"/>
                  <a:pt x="11286" y="5308"/>
                </a:cubicBezTo>
                <a:cubicBezTo>
                  <a:pt x="11311" y="5365"/>
                  <a:pt x="11247" y="5486"/>
                  <a:pt x="11212" y="5531"/>
                </a:cubicBezTo>
                <a:cubicBezTo>
                  <a:pt x="11157" y="5601"/>
                  <a:pt x="11063" y="5630"/>
                  <a:pt x="11013" y="5705"/>
                </a:cubicBezTo>
                <a:cubicBezTo>
                  <a:pt x="10954" y="5804"/>
                  <a:pt x="10916" y="5819"/>
                  <a:pt x="10964" y="5879"/>
                </a:cubicBezTo>
                <a:cubicBezTo>
                  <a:pt x="11036" y="5900"/>
                  <a:pt x="11080" y="5864"/>
                  <a:pt x="11162" y="5829"/>
                </a:cubicBezTo>
                <a:cubicBezTo>
                  <a:pt x="11179" y="5821"/>
                  <a:pt x="11195" y="5812"/>
                  <a:pt x="11212" y="5804"/>
                </a:cubicBezTo>
              </a:path>
              <a:path w="3970" h="1713">
                <a:moveTo>
                  <a:pt x="10889" y="4366"/>
                </a:moveTo>
                <a:cubicBezTo>
                  <a:pt x="10840" y="4513"/>
                  <a:pt x="10781" y="4625"/>
                  <a:pt x="10716" y="4762"/>
                </a:cubicBezTo>
                <a:cubicBezTo>
                  <a:pt x="10643" y="4917"/>
                  <a:pt x="10641" y="5042"/>
                  <a:pt x="10641" y="5209"/>
                </a:cubicBezTo>
                <a:cubicBezTo>
                  <a:pt x="10641" y="5313"/>
                  <a:pt x="10628" y="5460"/>
                  <a:pt x="10666" y="5556"/>
                </a:cubicBezTo>
                <a:cubicBezTo>
                  <a:pt x="10695" y="5630"/>
                  <a:pt x="10823" y="5764"/>
                  <a:pt x="10889" y="5804"/>
                </a:cubicBezTo>
                <a:cubicBezTo>
                  <a:pt x="10960" y="5847"/>
                  <a:pt x="10997" y="5829"/>
                  <a:pt x="11063" y="5804"/>
                </a:cubicBezTo>
              </a:path>
              <a:path w="3970" h="1713">
                <a:moveTo>
                  <a:pt x="11534" y="4316"/>
                </a:moveTo>
                <a:cubicBezTo>
                  <a:pt x="11570" y="4457"/>
                  <a:pt x="11565" y="4573"/>
                  <a:pt x="11584" y="4713"/>
                </a:cubicBezTo>
                <a:cubicBezTo>
                  <a:pt x="11606" y="4878"/>
                  <a:pt x="11629" y="5041"/>
                  <a:pt x="11633" y="5209"/>
                </a:cubicBezTo>
                <a:cubicBezTo>
                  <a:pt x="11636" y="5345"/>
                  <a:pt x="11684" y="5495"/>
                  <a:pt x="11658" y="5631"/>
                </a:cubicBezTo>
                <a:cubicBezTo>
                  <a:pt x="11643" y="5708"/>
                  <a:pt x="11617" y="5879"/>
                  <a:pt x="11559" y="5953"/>
                </a:cubicBezTo>
                <a:cubicBezTo>
                  <a:pt x="11504" y="6023"/>
                  <a:pt x="11447" y="6039"/>
                  <a:pt x="11435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Ink 6"/>
          <p:cNvSpPr/>
          <p:nvPr/>
        </p:nvSpPr>
        <p:spPr>
          <a:xfrm>
            <a:off x="4367160" y="1911240"/>
            <a:ext cx="133560" cy="9720"/>
          </a:xfrm>
          <a:custGeom>
            <a:avLst/>
            <a:gdLst/>
            <a:ahLst/>
            <a:rect l="l" t="t" r="r" b="b"/>
            <a:pathLst>
              <a:path w="374" h="26">
                <a:moveTo>
                  <a:pt x="12129" y="5308"/>
                </a:moveTo>
                <a:cubicBezTo>
                  <a:pt x="12228" y="5338"/>
                  <a:pt x="12282" y="5313"/>
                  <a:pt x="12378" y="5308"/>
                </a:cubicBezTo>
                <a:cubicBezTo>
                  <a:pt x="12436" y="5308"/>
                  <a:pt x="12461" y="5308"/>
                  <a:pt x="12502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Ink 7"/>
          <p:cNvSpPr/>
          <p:nvPr/>
        </p:nvSpPr>
        <p:spPr>
          <a:xfrm>
            <a:off x="4724280" y="1608120"/>
            <a:ext cx="17640" cy="554040"/>
          </a:xfrm>
          <a:custGeom>
            <a:avLst/>
            <a:gdLst/>
            <a:ahLst/>
            <a:rect l="l" t="t" r="r" b="b"/>
            <a:pathLst>
              <a:path w="50" h="1539">
                <a:moveTo>
                  <a:pt x="13171" y="4465"/>
                </a:moveTo>
                <a:cubicBezTo>
                  <a:pt x="13164" y="4593"/>
                  <a:pt x="13146" y="4707"/>
                  <a:pt x="13146" y="4837"/>
                </a:cubicBezTo>
                <a:cubicBezTo>
                  <a:pt x="13146" y="5010"/>
                  <a:pt x="13122" y="5183"/>
                  <a:pt x="13122" y="5358"/>
                </a:cubicBezTo>
                <a:cubicBezTo>
                  <a:pt x="13122" y="5504"/>
                  <a:pt x="13127" y="5638"/>
                  <a:pt x="13146" y="5779"/>
                </a:cubicBezTo>
                <a:cubicBezTo>
                  <a:pt x="13155" y="5851"/>
                  <a:pt x="13137" y="5919"/>
                  <a:pt x="13122" y="5978"/>
                </a:cubicBezTo>
                <a:cubicBezTo>
                  <a:pt x="13122" y="5986"/>
                  <a:pt x="13122" y="5995"/>
                  <a:pt x="1312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Ink 8"/>
          <p:cNvSpPr/>
          <p:nvPr/>
        </p:nvSpPr>
        <p:spPr>
          <a:xfrm>
            <a:off x="4929120" y="1768320"/>
            <a:ext cx="536760" cy="357480"/>
          </a:xfrm>
          <a:custGeom>
            <a:avLst/>
            <a:gdLst/>
            <a:ahLst/>
            <a:rect l="l" t="t" r="r" b="b"/>
            <a:pathLst>
              <a:path w="1489" h="994">
                <a:moveTo>
                  <a:pt x="13692" y="5308"/>
                </a:moveTo>
                <a:cubicBezTo>
                  <a:pt x="13767" y="5308"/>
                  <a:pt x="13831" y="5292"/>
                  <a:pt x="13891" y="5283"/>
                </a:cubicBezTo>
                <a:cubicBezTo>
                  <a:pt x="13916" y="5283"/>
                  <a:pt x="13940" y="5283"/>
                  <a:pt x="13965" y="5283"/>
                </a:cubicBezTo>
              </a:path>
              <a:path w="1489" h="994">
                <a:moveTo>
                  <a:pt x="13742" y="5531"/>
                </a:moveTo>
                <a:cubicBezTo>
                  <a:pt x="13861" y="5531"/>
                  <a:pt x="13935" y="5541"/>
                  <a:pt x="14039" y="5507"/>
                </a:cubicBezTo>
              </a:path>
              <a:path w="1489" h="994">
                <a:moveTo>
                  <a:pt x="14585" y="4911"/>
                </a:moveTo>
                <a:cubicBezTo>
                  <a:pt x="14529" y="5030"/>
                  <a:pt x="14474" y="5109"/>
                  <a:pt x="14436" y="5234"/>
                </a:cubicBezTo>
                <a:cubicBezTo>
                  <a:pt x="14407" y="5329"/>
                  <a:pt x="14391" y="5433"/>
                  <a:pt x="14387" y="5531"/>
                </a:cubicBezTo>
                <a:cubicBezTo>
                  <a:pt x="14384" y="5609"/>
                  <a:pt x="14408" y="5705"/>
                  <a:pt x="14436" y="5779"/>
                </a:cubicBezTo>
                <a:cubicBezTo>
                  <a:pt x="14463" y="5850"/>
                  <a:pt x="14564" y="5889"/>
                  <a:pt x="14635" y="5904"/>
                </a:cubicBezTo>
                <a:cubicBezTo>
                  <a:pt x="14775" y="5934"/>
                  <a:pt x="14847" y="5892"/>
                  <a:pt x="14957" y="5829"/>
                </a:cubicBezTo>
                <a:cubicBezTo>
                  <a:pt x="15028" y="5788"/>
                  <a:pt x="15117" y="5680"/>
                  <a:pt x="15156" y="5606"/>
                </a:cubicBezTo>
                <a:cubicBezTo>
                  <a:pt x="15202" y="5521"/>
                  <a:pt x="15180" y="5401"/>
                  <a:pt x="15180" y="5308"/>
                </a:cubicBezTo>
                <a:cubicBezTo>
                  <a:pt x="15180" y="5210"/>
                  <a:pt x="15135" y="5143"/>
                  <a:pt x="15056" y="5085"/>
                </a:cubicBezTo>
                <a:cubicBezTo>
                  <a:pt x="14998" y="5043"/>
                  <a:pt x="14927" y="5019"/>
                  <a:pt x="14858" y="5011"/>
                </a:cubicBezTo>
                <a:cubicBezTo>
                  <a:pt x="14833" y="5011"/>
                  <a:pt x="14809" y="5011"/>
                  <a:pt x="14784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Ink 9"/>
          <p:cNvSpPr/>
          <p:nvPr/>
        </p:nvSpPr>
        <p:spPr>
          <a:xfrm>
            <a:off x="3616200" y="2581200"/>
            <a:ext cx="1643040" cy="615960"/>
          </a:xfrm>
          <a:custGeom>
            <a:avLst/>
            <a:gdLst/>
            <a:ahLst/>
            <a:rect l="l" t="t" r="r" b="b"/>
            <a:pathLst>
              <a:path w="4565" h="1712">
                <a:moveTo>
                  <a:pt x="10492" y="7516"/>
                </a:moveTo>
                <a:cubicBezTo>
                  <a:pt x="10507" y="7399"/>
                  <a:pt x="10574" y="7361"/>
                  <a:pt x="10641" y="7268"/>
                </a:cubicBezTo>
                <a:cubicBezTo>
                  <a:pt x="10693" y="7197"/>
                  <a:pt x="10736" y="7141"/>
                  <a:pt x="10840" y="7169"/>
                </a:cubicBezTo>
                <a:cubicBezTo>
                  <a:pt x="10897" y="7184"/>
                  <a:pt x="10994" y="7314"/>
                  <a:pt x="11013" y="7367"/>
                </a:cubicBezTo>
                <a:cubicBezTo>
                  <a:pt x="11064" y="7509"/>
                  <a:pt x="11051" y="7716"/>
                  <a:pt x="11038" y="7863"/>
                </a:cubicBezTo>
                <a:cubicBezTo>
                  <a:pt x="11017" y="8095"/>
                  <a:pt x="10942" y="8293"/>
                  <a:pt x="10815" y="8483"/>
                </a:cubicBezTo>
                <a:cubicBezTo>
                  <a:pt x="10742" y="8592"/>
                  <a:pt x="10645" y="8680"/>
                  <a:pt x="10517" y="8706"/>
                </a:cubicBezTo>
                <a:cubicBezTo>
                  <a:pt x="10433" y="8723"/>
                  <a:pt x="10341" y="8699"/>
                  <a:pt x="10269" y="8657"/>
                </a:cubicBezTo>
                <a:cubicBezTo>
                  <a:pt x="10158" y="8592"/>
                  <a:pt x="10076" y="8486"/>
                  <a:pt x="10046" y="8359"/>
                </a:cubicBezTo>
                <a:cubicBezTo>
                  <a:pt x="10029" y="8288"/>
                  <a:pt x="10082" y="8174"/>
                  <a:pt x="10145" y="8136"/>
                </a:cubicBezTo>
                <a:cubicBezTo>
                  <a:pt x="10235" y="8083"/>
                  <a:pt x="10357" y="8117"/>
                  <a:pt x="10443" y="8161"/>
                </a:cubicBezTo>
                <a:cubicBezTo>
                  <a:pt x="10560" y="8221"/>
                  <a:pt x="10664" y="8303"/>
                  <a:pt x="10740" y="8409"/>
                </a:cubicBezTo>
                <a:cubicBezTo>
                  <a:pt x="10775" y="8459"/>
                  <a:pt x="10785" y="8548"/>
                  <a:pt x="10790" y="8607"/>
                </a:cubicBezTo>
                <a:cubicBezTo>
                  <a:pt x="10790" y="8615"/>
                  <a:pt x="10790" y="8624"/>
                  <a:pt x="10790" y="8632"/>
                </a:cubicBezTo>
              </a:path>
              <a:path w="4565" h="1712">
                <a:moveTo>
                  <a:pt x="11683" y="7838"/>
                </a:moveTo>
                <a:cubicBezTo>
                  <a:pt x="11566" y="7845"/>
                  <a:pt x="11442" y="7840"/>
                  <a:pt x="11336" y="7888"/>
                </a:cubicBezTo>
                <a:cubicBezTo>
                  <a:pt x="11241" y="7931"/>
                  <a:pt x="11286" y="7990"/>
                  <a:pt x="11336" y="8037"/>
                </a:cubicBezTo>
                <a:cubicBezTo>
                  <a:pt x="11419" y="8115"/>
                  <a:pt x="11491" y="8194"/>
                  <a:pt x="11584" y="8260"/>
                </a:cubicBezTo>
                <a:cubicBezTo>
                  <a:pt x="11666" y="8318"/>
                  <a:pt x="11699" y="8353"/>
                  <a:pt x="11757" y="8434"/>
                </a:cubicBezTo>
                <a:cubicBezTo>
                  <a:pt x="11663" y="8586"/>
                  <a:pt x="11590" y="8607"/>
                  <a:pt x="11410" y="8582"/>
                </a:cubicBezTo>
                <a:cubicBezTo>
                  <a:pt x="11319" y="8569"/>
                  <a:pt x="11260" y="8562"/>
                  <a:pt x="11237" y="8458"/>
                </a:cubicBezTo>
                <a:cubicBezTo>
                  <a:pt x="11237" y="8442"/>
                  <a:pt x="11237" y="8425"/>
                  <a:pt x="11237" y="8409"/>
                </a:cubicBezTo>
              </a:path>
              <a:path w="4565" h="1712">
                <a:moveTo>
                  <a:pt x="11981" y="8037"/>
                </a:moveTo>
                <a:cubicBezTo>
                  <a:pt x="12005" y="8246"/>
                  <a:pt x="11984" y="8399"/>
                  <a:pt x="11956" y="8607"/>
                </a:cubicBezTo>
                <a:cubicBezTo>
                  <a:pt x="11951" y="8648"/>
                  <a:pt x="11958" y="8763"/>
                  <a:pt x="11931" y="8657"/>
                </a:cubicBezTo>
              </a:path>
              <a:path w="4565" h="1712">
                <a:moveTo>
                  <a:pt x="12129" y="7640"/>
                </a:moveTo>
                <a:cubicBezTo>
                  <a:pt x="12169" y="7561"/>
                  <a:pt x="12181" y="7617"/>
                  <a:pt x="12229" y="7665"/>
                </a:cubicBezTo>
              </a:path>
              <a:path w="4565" h="1712">
                <a:moveTo>
                  <a:pt x="12328" y="8260"/>
                </a:moveTo>
                <a:cubicBezTo>
                  <a:pt x="12328" y="8417"/>
                  <a:pt x="12328" y="8574"/>
                  <a:pt x="12328" y="8731"/>
                </a:cubicBezTo>
                <a:cubicBezTo>
                  <a:pt x="12309" y="8621"/>
                  <a:pt x="12309" y="8477"/>
                  <a:pt x="12328" y="8359"/>
                </a:cubicBezTo>
                <a:cubicBezTo>
                  <a:pt x="12345" y="8254"/>
                  <a:pt x="12429" y="8097"/>
                  <a:pt x="12526" y="8062"/>
                </a:cubicBezTo>
                <a:cubicBezTo>
                  <a:pt x="12654" y="8016"/>
                  <a:pt x="12734" y="8175"/>
                  <a:pt x="12774" y="8260"/>
                </a:cubicBezTo>
                <a:cubicBezTo>
                  <a:pt x="12821" y="8358"/>
                  <a:pt x="12819" y="8456"/>
                  <a:pt x="12849" y="8558"/>
                </a:cubicBezTo>
                <a:cubicBezTo>
                  <a:pt x="12863" y="8605"/>
                  <a:pt x="12895" y="8683"/>
                  <a:pt x="12948" y="8706"/>
                </a:cubicBezTo>
                <a:cubicBezTo>
                  <a:pt x="12956" y="8706"/>
                  <a:pt x="12965" y="8706"/>
                  <a:pt x="12973" y="8706"/>
                </a:cubicBezTo>
              </a:path>
              <a:path w="4565" h="1712">
                <a:moveTo>
                  <a:pt x="13097" y="8161"/>
                </a:moveTo>
                <a:cubicBezTo>
                  <a:pt x="13136" y="8333"/>
                  <a:pt x="13177" y="8446"/>
                  <a:pt x="13295" y="8582"/>
                </a:cubicBezTo>
                <a:cubicBezTo>
                  <a:pt x="13326" y="8618"/>
                  <a:pt x="13515" y="8791"/>
                  <a:pt x="13568" y="8781"/>
                </a:cubicBezTo>
                <a:cubicBezTo>
                  <a:pt x="13601" y="8764"/>
                  <a:pt x="13634" y="8748"/>
                  <a:pt x="13667" y="8731"/>
                </a:cubicBezTo>
              </a:path>
              <a:path w="4565" h="1712">
                <a:moveTo>
                  <a:pt x="13444" y="7987"/>
                </a:moveTo>
                <a:cubicBezTo>
                  <a:pt x="13295" y="8172"/>
                  <a:pt x="13162" y="8328"/>
                  <a:pt x="13047" y="8533"/>
                </a:cubicBezTo>
                <a:cubicBezTo>
                  <a:pt x="12994" y="8628"/>
                  <a:pt x="12846" y="8833"/>
                  <a:pt x="12923" y="8756"/>
                </a:cubicBezTo>
              </a:path>
              <a:path w="4565" h="1712">
                <a:moveTo>
                  <a:pt x="13667" y="8409"/>
                </a:moveTo>
                <a:cubicBezTo>
                  <a:pt x="13798" y="8425"/>
                  <a:pt x="13909" y="8434"/>
                  <a:pt x="14039" y="8434"/>
                </a:cubicBezTo>
              </a:path>
              <a:path w="4565" h="1712">
                <a:moveTo>
                  <a:pt x="14610" y="7665"/>
                </a:moveTo>
                <a:cubicBezTo>
                  <a:pt x="14579" y="7836"/>
                  <a:pt x="14526" y="8013"/>
                  <a:pt x="14511" y="8186"/>
                </a:cubicBezTo>
                <a:cubicBezTo>
                  <a:pt x="14497" y="8343"/>
                  <a:pt x="14507" y="8477"/>
                  <a:pt x="14511" y="8632"/>
                </a:cubicBezTo>
                <a:cubicBezTo>
                  <a:pt x="14513" y="8708"/>
                  <a:pt x="14489" y="8825"/>
                  <a:pt x="14560" y="8880"/>
                </a:cubicBezTo>
                <a:cubicBezTo>
                  <a:pt x="14568" y="8880"/>
                  <a:pt x="14577" y="8880"/>
                  <a:pt x="14585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Ink 10"/>
          <p:cNvSpPr/>
          <p:nvPr/>
        </p:nvSpPr>
        <p:spPr>
          <a:xfrm>
            <a:off x="5464080" y="2786040"/>
            <a:ext cx="600120" cy="40176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5379" y="8310"/>
                </a:moveTo>
                <a:cubicBezTo>
                  <a:pt x="15486" y="8315"/>
                  <a:pt x="15534" y="8323"/>
                  <a:pt x="15627" y="8334"/>
                </a:cubicBezTo>
              </a:path>
              <a:path w="1663" h="1117">
                <a:moveTo>
                  <a:pt x="15180" y="8558"/>
                </a:moveTo>
                <a:cubicBezTo>
                  <a:pt x="15291" y="8594"/>
                  <a:pt x="15387" y="8584"/>
                  <a:pt x="15503" y="8558"/>
                </a:cubicBezTo>
                <a:cubicBezTo>
                  <a:pt x="15536" y="8550"/>
                  <a:pt x="15569" y="8541"/>
                  <a:pt x="15602" y="8533"/>
                </a:cubicBezTo>
              </a:path>
              <a:path w="1663" h="1117">
                <a:moveTo>
                  <a:pt x="16049" y="8111"/>
                </a:moveTo>
                <a:cubicBezTo>
                  <a:pt x="16005" y="8271"/>
                  <a:pt x="15802" y="8645"/>
                  <a:pt x="16024" y="8806"/>
                </a:cubicBezTo>
                <a:cubicBezTo>
                  <a:pt x="16100" y="8861"/>
                  <a:pt x="16291" y="8856"/>
                  <a:pt x="16371" y="8830"/>
                </a:cubicBezTo>
                <a:cubicBezTo>
                  <a:pt x="16513" y="8783"/>
                  <a:pt x="16644" y="8605"/>
                  <a:pt x="16718" y="8483"/>
                </a:cubicBezTo>
                <a:cubicBezTo>
                  <a:pt x="16809" y="8333"/>
                  <a:pt x="16867" y="8215"/>
                  <a:pt x="16818" y="8037"/>
                </a:cubicBezTo>
                <a:cubicBezTo>
                  <a:pt x="16771" y="7865"/>
                  <a:pt x="16627" y="7809"/>
                  <a:pt x="16470" y="7764"/>
                </a:cubicBezTo>
                <a:cubicBezTo>
                  <a:pt x="16339" y="7738"/>
                  <a:pt x="16290" y="7729"/>
                  <a:pt x="16197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Ink 11"/>
          <p:cNvSpPr/>
          <p:nvPr/>
        </p:nvSpPr>
        <p:spPr>
          <a:xfrm>
            <a:off x="4071960" y="2724120"/>
            <a:ext cx="1928880" cy="2224080"/>
          </a:xfrm>
          <a:custGeom>
            <a:avLst/>
            <a:gdLst/>
            <a:ahLst/>
            <a:rect l="l" t="t" r="r" b="b"/>
            <a:pathLst>
              <a:path w="5359" h="6178">
                <a:moveTo>
                  <a:pt x="13816" y="9351"/>
                </a:moveTo>
                <a:cubicBezTo>
                  <a:pt x="13776" y="9540"/>
                  <a:pt x="13748" y="9703"/>
                  <a:pt x="13791" y="9897"/>
                </a:cubicBezTo>
                <a:cubicBezTo>
                  <a:pt x="13814" y="9964"/>
                  <a:pt x="13819" y="9982"/>
                  <a:pt x="13841" y="10021"/>
                </a:cubicBezTo>
              </a:path>
              <a:path w="5359" h="6178">
                <a:moveTo>
                  <a:pt x="13494" y="9674"/>
                </a:moveTo>
                <a:cubicBezTo>
                  <a:pt x="13646" y="9746"/>
                  <a:pt x="13744" y="9794"/>
                  <a:pt x="13915" y="9773"/>
                </a:cubicBezTo>
                <a:cubicBezTo>
                  <a:pt x="13956" y="9765"/>
                  <a:pt x="13998" y="9756"/>
                  <a:pt x="14039" y="9748"/>
                </a:cubicBezTo>
              </a:path>
              <a:path w="5359" h="6178">
                <a:moveTo>
                  <a:pt x="14461" y="9451"/>
                </a:moveTo>
                <a:cubicBezTo>
                  <a:pt x="14431" y="9655"/>
                  <a:pt x="14371" y="9887"/>
                  <a:pt x="14362" y="10096"/>
                </a:cubicBezTo>
                <a:cubicBezTo>
                  <a:pt x="14362" y="10155"/>
                  <a:pt x="14365" y="10181"/>
                  <a:pt x="14387" y="10220"/>
                </a:cubicBezTo>
              </a:path>
              <a:path w="5359" h="6178">
                <a:moveTo>
                  <a:pt x="15999" y="9475"/>
                </a:moveTo>
                <a:cubicBezTo>
                  <a:pt x="15999" y="9668"/>
                  <a:pt x="15959" y="9911"/>
                  <a:pt x="16024" y="10096"/>
                </a:cubicBezTo>
                <a:cubicBezTo>
                  <a:pt x="16032" y="10104"/>
                  <a:pt x="16041" y="10112"/>
                  <a:pt x="16049" y="10120"/>
                </a:cubicBezTo>
              </a:path>
              <a:path w="5359" h="6178">
                <a:moveTo>
                  <a:pt x="15825" y="9723"/>
                </a:moveTo>
                <a:cubicBezTo>
                  <a:pt x="15970" y="9723"/>
                  <a:pt x="16102" y="9716"/>
                  <a:pt x="16247" y="9699"/>
                </a:cubicBezTo>
              </a:path>
              <a:path w="5359" h="6178">
                <a:moveTo>
                  <a:pt x="16594" y="9302"/>
                </a:moveTo>
                <a:cubicBezTo>
                  <a:pt x="16594" y="9440"/>
                  <a:pt x="16608" y="9563"/>
                  <a:pt x="16619" y="9699"/>
                </a:cubicBezTo>
                <a:cubicBezTo>
                  <a:pt x="16629" y="9833"/>
                  <a:pt x="16656" y="9963"/>
                  <a:pt x="16669" y="10096"/>
                </a:cubicBezTo>
                <a:cubicBezTo>
                  <a:pt x="16669" y="10162"/>
                  <a:pt x="16669" y="10179"/>
                  <a:pt x="16669" y="10220"/>
                </a:cubicBezTo>
              </a:path>
              <a:path w="5359" h="6178">
                <a:moveTo>
                  <a:pt x="14759" y="7565"/>
                </a:moveTo>
                <a:cubicBezTo>
                  <a:pt x="14641" y="7759"/>
                  <a:pt x="14549" y="7965"/>
                  <a:pt x="14436" y="8161"/>
                </a:cubicBezTo>
                <a:cubicBezTo>
                  <a:pt x="14259" y="8468"/>
                  <a:pt x="14153" y="8752"/>
                  <a:pt x="14015" y="9079"/>
                </a:cubicBezTo>
                <a:cubicBezTo>
                  <a:pt x="13903" y="9344"/>
                  <a:pt x="13795" y="9642"/>
                  <a:pt x="13667" y="9897"/>
                </a:cubicBezTo>
                <a:cubicBezTo>
                  <a:pt x="13571" y="10088"/>
                  <a:pt x="13469" y="10279"/>
                  <a:pt x="13370" y="10468"/>
                </a:cubicBezTo>
              </a:path>
              <a:path w="5359" h="6178">
                <a:moveTo>
                  <a:pt x="11609" y="10914"/>
                </a:moveTo>
                <a:cubicBezTo>
                  <a:pt x="11666" y="10799"/>
                  <a:pt x="11699" y="10796"/>
                  <a:pt x="11832" y="10790"/>
                </a:cubicBezTo>
                <a:cubicBezTo>
                  <a:pt x="11962" y="10784"/>
                  <a:pt x="11996" y="10889"/>
                  <a:pt x="12030" y="10988"/>
                </a:cubicBezTo>
                <a:cubicBezTo>
                  <a:pt x="12075" y="11119"/>
                  <a:pt x="12054" y="11257"/>
                  <a:pt x="12005" y="11385"/>
                </a:cubicBezTo>
                <a:cubicBezTo>
                  <a:pt x="11948" y="11533"/>
                  <a:pt x="11855" y="11638"/>
                  <a:pt x="11733" y="11733"/>
                </a:cubicBezTo>
                <a:cubicBezTo>
                  <a:pt x="11673" y="11779"/>
                  <a:pt x="11562" y="11848"/>
                  <a:pt x="11485" y="11832"/>
                </a:cubicBezTo>
                <a:cubicBezTo>
                  <a:pt x="11380" y="11811"/>
                  <a:pt x="11341" y="11783"/>
                  <a:pt x="11336" y="11683"/>
                </a:cubicBezTo>
                <a:cubicBezTo>
                  <a:pt x="11333" y="11621"/>
                  <a:pt x="11373" y="11514"/>
                  <a:pt x="11435" y="11485"/>
                </a:cubicBezTo>
                <a:cubicBezTo>
                  <a:pt x="11513" y="11449"/>
                  <a:pt x="11656" y="11565"/>
                  <a:pt x="11708" y="11609"/>
                </a:cubicBezTo>
                <a:cubicBezTo>
                  <a:pt x="11808" y="11694"/>
                  <a:pt x="11907" y="11773"/>
                  <a:pt x="12005" y="11857"/>
                </a:cubicBezTo>
                <a:cubicBezTo>
                  <a:pt x="12058" y="11903"/>
                  <a:pt x="12078" y="11915"/>
                  <a:pt x="12129" y="11906"/>
                </a:cubicBezTo>
              </a:path>
              <a:path w="5359" h="6178">
                <a:moveTo>
                  <a:pt x="12725" y="11385"/>
                </a:moveTo>
                <a:cubicBezTo>
                  <a:pt x="12574" y="11404"/>
                  <a:pt x="12551" y="11390"/>
                  <a:pt x="12477" y="11435"/>
                </a:cubicBezTo>
                <a:cubicBezTo>
                  <a:pt x="12463" y="11520"/>
                  <a:pt x="12542" y="11578"/>
                  <a:pt x="12601" y="11658"/>
                </a:cubicBezTo>
                <a:cubicBezTo>
                  <a:pt x="12634" y="11702"/>
                  <a:pt x="12775" y="11863"/>
                  <a:pt x="12725" y="11931"/>
                </a:cubicBezTo>
                <a:cubicBezTo>
                  <a:pt x="12651" y="12032"/>
                  <a:pt x="12571" y="12013"/>
                  <a:pt x="12477" y="11981"/>
                </a:cubicBezTo>
                <a:cubicBezTo>
                  <a:pt x="12376" y="11946"/>
                  <a:pt x="12374" y="11874"/>
                  <a:pt x="12328" y="11782"/>
                </a:cubicBezTo>
              </a:path>
              <a:path w="5359" h="6178">
                <a:moveTo>
                  <a:pt x="12948" y="11609"/>
                </a:moveTo>
                <a:cubicBezTo>
                  <a:pt x="12942" y="11749"/>
                  <a:pt x="12943" y="11900"/>
                  <a:pt x="12898" y="12030"/>
                </a:cubicBezTo>
                <a:cubicBezTo>
                  <a:pt x="12898" y="12022"/>
                  <a:pt x="12898" y="12013"/>
                  <a:pt x="12898" y="12005"/>
                </a:cubicBezTo>
              </a:path>
              <a:path w="5359" h="6178">
                <a:moveTo>
                  <a:pt x="12998" y="11311"/>
                </a:moveTo>
                <a:lnTo>
                  <a:pt x="12998" y="11311"/>
                </a:lnTo>
              </a:path>
              <a:path w="5359" h="6178">
                <a:moveTo>
                  <a:pt x="13221" y="11857"/>
                </a:moveTo>
                <a:cubicBezTo>
                  <a:pt x="13239" y="11839"/>
                  <a:pt x="13285" y="11713"/>
                  <a:pt x="13295" y="11658"/>
                </a:cubicBezTo>
                <a:cubicBezTo>
                  <a:pt x="13318" y="11533"/>
                  <a:pt x="13419" y="11594"/>
                  <a:pt x="13469" y="11683"/>
                </a:cubicBezTo>
                <a:cubicBezTo>
                  <a:pt x="13532" y="11795"/>
                  <a:pt x="13519" y="11950"/>
                  <a:pt x="13593" y="12055"/>
                </a:cubicBezTo>
                <a:cubicBezTo>
                  <a:pt x="13645" y="12129"/>
                  <a:pt x="13649" y="12124"/>
                  <a:pt x="13717" y="12105"/>
                </a:cubicBezTo>
              </a:path>
              <a:path w="5359" h="6178">
                <a:moveTo>
                  <a:pt x="13866" y="11460"/>
                </a:moveTo>
                <a:cubicBezTo>
                  <a:pt x="13914" y="11626"/>
                  <a:pt x="13964" y="11880"/>
                  <a:pt x="14089" y="12005"/>
                </a:cubicBezTo>
                <a:cubicBezTo>
                  <a:pt x="14140" y="12056"/>
                  <a:pt x="14248" y="12111"/>
                  <a:pt x="14312" y="12154"/>
                </a:cubicBezTo>
              </a:path>
              <a:path w="5359" h="6178">
                <a:moveTo>
                  <a:pt x="14312" y="11435"/>
                </a:moveTo>
                <a:cubicBezTo>
                  <a:pt x="14183" y="11556"/>
                  <a:pt x="14042" y="11659"/>
                  <a:pt x="13940" y="11807"/>
                </a:cubicBezTo>
                <a:cubicBezTo>
                  <a:pt x="13881" y="11893"/>
                  <a:pt x="13733" y="12053"/>
                  <a:pt x="13767" y="12154"/>
                </a:cubicBezTo>
              </a:path>
              <a:path w="5359" h="6178">
                <a:moveTo>
                  <a:pt x="14660" y="11708"/>
                </a:moveTo>
                <a:cubicBezTo>
                  <a:pt x="14829" y="11752"/>
                  <a:pt x="14846" y="11757"/>
                  <a:pt x="15007" y="11757"/>
                </a:cubicBezTo>
              </a:path>
              <a:path w="5359" h="6178">
                <a:moveTo>
                  <a:pt x="14709" y="11881"/>
                </a:moveTo>
                <a:cubicBezTo>
                  <a:pt x="14854" y="11959"/>
                  <a:pt x="14901" y="11954"/>
                  <a:pt x="15056" y="11881"/>
                </a:cubicBezTo>
              </a:path>
              <a:path w="5359" h="6178">
                <a:moveTo>
                  <a:pt x="15627" y="11286"/>
                </a:moveTo>
                <a:cubicBezTo>
                  <a:pt x="15611" y="11535"/>
                  <a:pt x="15607" y="11721"/>
                  <a:pt x="15627" y="11956"/>
                </a:cubicBezTo>
                <a:cubicBezTo>
                  <a:pt x="15636" y="12057"/>
                  <a:pt x="15620" y="12159"/>
                  <a:pt x="15652" y="12254"/>
                </a:cubicBezTo>
                <a:cubicBezTo>
                  <a:pt x="15660" y="12270"/>
                  <a:pt x="15669" y="12287"/>
                  <a:pt x="15677" y="12303"/>
                </a:cubicBezTo>
              </a:path>
              <a:path w="5359" h="6178">
                <a:moveTo>
                  <a:pt x="11311" y="12105"/>
                </a:moveTo>
                <a:cubicBezTo>
                  <a:pt x="11594" y="12105"/>
                  <a:pt x="11874" y="12109"/>
                  <a:pt x="12154" y="12129"/>
                </a:cubicBezTo>
                <a:cubicBezTo>
                  <a:pt x="12255" y="12129"/>
                  <a:pt x="12289" y="12129"/>
                  <a:pt x="12353" y="12154"/>
                </a:cubicBezTo>
              </a:path>
              <a:path w="5359" h="6178">
                <a:moveTo>
                  <a:pt x="11584" y="12278"/>
                </a:moveTo>
                <a:cubicBezTo>
                  <a:pt x="11687" y="12301"/>
                  <a:pt x="11863" y="12305"/>
                  <a:pt x="11956" y="12353"/>
                </a:cubicBezTo>
                <a:cubicBezTo>
                  <a:pt x="12051" y="12402"/>
                  <a:pt x="12048" y="12499"/>
                  <a:pt x="11981" y="12576"/>
                </a:cubicBezTo>
                <a:cubicBezTo>
                  <a:pt x="11908" y="12659"/>
                  <a:pt x="11775" y="12699"/>
                  <a:pt x="11683" y="12750"/>
                </a:cubicBezTo>
                <a:cubicBezTo>
                  <a:pt x="11624" y="12783"/>
                  <a:pt x="11570" y="12819"/>
                  <a:pt x="11509" y="12849"/>
                </a:cubicBezTo>
                <a:cubicBezTo>
                  <a:pt x="11535" y="12950"/>
                  <a:pt x="11593" y="13005"/>
                  <a:pt x="11708" y="13022"/>
                </a:cubicBezTo>
                <a:cubicBezTo>
                  <a:pt x="11873" y="13022"/>
                  <a:pt x="11973" y="13022"/>
                  <a:pt x="12105" y="13022"/>
                </a:cubicBezTo>
              </a:path>
              <a:path w="5359" h="6178">
                <a:moveTo>
                  <a:pt x="14858" y="12452"/>
                </a:moveTo>
                <a:cubicBezTo>
                  <a:pt x="15101" y="12458"/>
                  <a:pt x="15315" y="12506"/>
                  <a:pt x="15553" y="12526"/>
                </a:cubicBezTo>
                <a:cubicBezTo>
                  <a:pt x="15656" y="12535"/>
                  <a:pt x="15749" y="12510"/>
                  <a:pt x="15850" y="12502"/>
                </a:cubicBezTo>
              </a:path>
              <a:path w="5359" h="6178">
                <a:moveTo>
                  <a:pt x="15280" y="12898"/>
                </a:moveTo>
                <a:cubicBezTo>
                  <a:pt x="15348" y="12940"/>
                  <a:pt x="15399" y="12922"/>
                  <a:pt x="15478" y="12898"/>
                </a:cubicBezTo>
                <a:cubicBezTo>
                  <a:pt x="15557" y="12874"/>
                  <a:pt x="15609" y="12859"/>
                  <a:pt x="15677" y="12898"/>
                </a:cubicBezTo>
                <a:cubicBezTo>
                  <a:pt x="15626" y="12949"/>
                  <a:pt x="15567" y="12987"/>
                  <a:pt x="15503" y="13022"/>
                </a:cubicBezTo>
                <a:cubicBezTo>
                  <a:pt x="15442" y="13056"/>
                  <a:pt x="15242" y="13121"/>
                  <a:pt x="15230" y="13196"/>
                </a:cubicBezTo>
                <a:cubicBezTo>
                  <a:pt x="15198" y="13391"/>
                  <a:pt x="15328" y="13469"/>
                  <a:pt x="15453" y="13593"/>
                </a:cubicBezTo>
                <a:cubicBezTo>
                  <a:pt x="15541" y="13680"/>
                  <a:pt x="15560" y="13703"/>
                  <a:pt x="15627" y="13742"/>
                </a:cubicBezTo>
              </a:path>
              <a:path w="5359" h="6178">
                <a:moveTo>
                  <a:pt x="12005" y="10666"/>
                </a:moveTo>
                <a:cubicBezTo>
                  <a:pt x="11976" y="10907"/>
                  <a:pt x="11941" y="11145"/>
                  <a:pt x="11906" y="11385"/>
                </a:cubicBezTo>
                <a:cubicBezTo>
                  <a:pt x="11870" y="11634"/>
                  <a:pt x="11863" y="11902"/>
                  <a:pt x="11881" y="12154"/>
                </a:cubicBezTo>
                <a:cubicBezTo>
                  <a:pt x="11899" y="12408"/>
                  <a:pt x="11943" y="12668"/>
                  <a:pt x="11931" y="12923"/>
                </a:cubicBezTo>
                <a:cubicBezTo>
                  <a:pt x="11923" y="13022"/>
                  <a:pt x="11914" y="13122"/>
                  <a:pt x="11906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Ink 12"/>
          <p:cNvSpPr/>
          <p:nvPr/>
        </p:nvSpPr>
        <p:spPr>
          <a:xfrm>
            <a:off x="4554360" y="4991040"/>
            <a:ext cx="1347840" cy="689040"/>
          </a:xfrm>
          <a:custGeom>
            <a:avLst/>
            <a:gdLst/>
            <a:ahLst/>
            <a:rect l="l" t="t" r="r" b="b"/>
            <a:pathLst>
              <a:path w="3747" h="1911">
                <a:moveTo>
                  <a:pt x="13072" y="13965"/>
                </a:moveTo>
                <a:cubicBezTo>
                  <a:pt x="12998" y="13945"/>
                  <a:pt x="12903" y="13921"/>
                  <a:pt x="12824" y="13940"/>
                </a:cubicBezTo>
                <a:cubicBezTo>
                  <a:pt x="12748" y="13958"/>
                  <a:pt x="12736" y="14021"/>
                  <a:pt x="12750" y="14089"/>
                </a:cubicBezTo>
                <a:cubicBezTo>
                  <a:pt x="12772" y="14192"/>
                  <a:pt x="12871" y="14331"/>
                  <a:pt x="12923" y="14412"/>
                </a:cubicBezTo>
                <a:cubicBezTo>
                  <a:pt x="12994" y="14522"/>
                  <a:pt x="13024" y="14599"/>
                  <a:pt x="12973" y="14734"/>
                </a:cubicBezTo>
                <a:cubicBezTo>
                  <a:pt x="12943" y="14814"/>
                  <a:pt x="12883" y="14827"/>
                  <a:pt x="12799" y="14808"/>
                </a:cubicBezTo>
                <a:cubicBezTo>
                  <a:pt x="12723" y="14790"/>
                  <a:pt x="12667" y="14704"/>
                  <a:pt x="12650" y="14635"/>
                </a:cubicBezTo>
                <a:cubicBezTo>
                  <a:pt x="12628" y="14544"/>
                  <a:pt x="12659" y="14503"/>
                  <a:pt x="12700" y="14436"/>
                </a:cubicBezTo>
              </a:path>
              <a:path w="3747" h="1911">
                <a:moveTo>
                  <a:pt x="13345" y="14412"/>
                </a:moveTo>
                <a:cubicBezTo>
                  <a:pt x="13345" y="14559"/>
                  <a:pt x="13327" y="14690"/>
                  <a:pt x="13320" y="14833"/>
                </a:cubicBezTo>
                <a:cubicBezTo>
                  <a:pt x="13320" y="14891"/>
                  <a:pt x="13320" y="14900"/>
                  <a:pt x="13320" y="14808"/>
                </a:cubicBezTo>
              </a:path>
              <a:path w="3747" h="1911">
                <a:moveTo>
                  <a:pt x="13494" y="13866"/>
                </a:moveTo>
                <a:cubicBezTo>
                  <a:pt x="13529" y="13937"/>
                  <a:pt x="13559" y="14010"/>
                  <a:pt x="13568" y="14089"/>
                </a:cubicBezTo>
                <a:cubicBezTo>
                  <a:pt x="13568" y="14114"/>
                  <a:pt x="13568" y="14138"/>
                  <a:pt x="13568" y="14163"/>
                </a:cubicBezTo>
              </a:path>
              <a:path w="3747" h="1911">
                <a:moveTo>
                  <a:pt x="13519" y="14709"/>
                </a:moveTo>
                <a:cubicBezTo>
                  <a:pt x="13428" y="14801"/>
                  <a:pt x="13520" y="14582"/>
                  <a:pt x="13543" y="14536"/>
                </a:cubicBezTo>
                <a:cubicBezTo>
                  <a:pt x="13586" y="14450"/>
                  <a:pt x="13667" y="14393"/>
                  <a:pt x="13717" y="14312"/>
                </a:cubicBezTo>
                <a:cubicBezTo>
                  <a:pt x="13810" y="14370"/>
                  <a:pt x="13852" y="14419"/>
                  <a:pt x="13866" y="14536"/>
                </a:cubicBezTo>
                <a:cubicBezTo>
                  <a:pt x="13883" y="14683"/>
                  <a:pt x="13902" y="14804"/>
                  <a:pt x="13990" y="14932"/>
                </a:cubicBezTo>
                <a:cubicBezTo>
                  <a:pt x="14061" y="15035"/>
                  <a:pt x="14054" y="15000"/>
                  <a:pt x="14139" y="14932"/>
                </a:cubicBezTo>
              </a:path>
              <a:path w="3747" h="1911">
                <a:moveTo>
                  <a:pt x="14163" y="14238"/>
                </a:moveTo>
                <a:cubicBezTo>
                  <a:pt x="14233" y="14404"/>
                  <a:pt x="14309" y="14552"/>
                  <a:pt x="14387" y="14709"/>
                </a:cubicBezTo>
                <a:cubicBezTo>
                  <a:pt x="14471" y="14876"/>
                  <a:pt x="14484" y="14937"/>
                  <a:pt x="14660" y="15007"/>
                </a:cubicBezTo>
              </a:path>
              <a:path w="3747" h="1911">
                <a:moveTo>
                  <a:pt x="14635" y="14213"/>
                </a:moveTo>
                <a:cubicBezTo>
                  <a:pt x="14493" y="14288"/>
                  <a:pt x="14397" y="14383"/>
                  <a:pt x="14288" y="14511"/>
                </a:cubicBezTo>
                <a:cubicBezTo>
                  <a:pt x="14185" y="14632"/>
                  <a:pt x="14111" y="14761"/>
                  <a:pt x="14015" y="14883"/>
                </a:cubicBezTo>
                <a:cubicBezTo>
                  <a:pt x="13979" y="14929"/>
                  <a:pt x="13925" y="14937"/>
                  <a:pt x="13965" y="14957"/>
                </a:cubicBezTo>
              </a:path>
              <a:path w="3747" h="1911">
                <a:moveTo>
                  <a:pt x="14635" y="14461"/>
                </a:moveTo>
                <a:cubicBezTo>
                  <a:pt x="14768" y="14482"/>
                  <a:pt x="14877" y="14511"/>
                  <a:pt x="15007" y="14511"/>
                </a:cubicBezTo>
              </a:path>
              <a:path w="3747" h="1911">
                <a:moveTo>
                  <a:pt x="14684" y="14660"/>
                </a:moveTo>
                <a:cubicBezTo>
                  <a:pt x="14958" y="14748"/>
                  <a:pt x="14864" y="14769"/>
                  <a:pt x="15081" y="14684"/>
                </a:cubicBezTo>
              </a:path>
              <a:path w="3747" h="1911">
                <a:moveTo>
                  <a:pt x="15577" y="14213"/>
                </a:moveTo>
                <a:cubicBezTo>
                  <a:pt x="15568" y="14339"/>
                  <a:pt x="15553" y="14458"/>
                  <a:pt x="15553" y="14585"/>
                </a:cubicBezTo>
                <a:cubicBezTo>
                  <a:pt x="15553" y="14675"/>
                  <a:pt x="15576" y="14748"/>
                  <a:pt x="15602" y="14833"/>
                </a:cubicBezTo>
              </a:path>
              <a:path w="3747" h="1911">
                <a:moveTo>
                  <a:pt x="15974" y="14039"/>
                </a:moveTo>
                <a:cubicBezTo>
                  <a:pt x="15929" y="14185"/>
                  <a:pt x="15862" y="14274"/>
                  <a:pt x="15801" y="14412"/>
                </a:cubicBezTo>
                <a:cubicBezTo>
                  <a:pt x="15697" y="14647"/>
                  <a:pt x="15550" y="14870"/>
                  <a:pt x="15453" y="15106"/>
                </a:cubicBezTo>
                <a:cubicBezTo>
                  <a:pt x="15411" y="15207"/>
                  <a:pt x="15252" y="15327"/>
                  <a:pt x="15329" y="15404"/>
                </a:cubicBezTo>
                <a:cubicBezTo>
                  <a:pt x="15337" y="15396"/>
                  <a:pt x="15346" y="15387"/>
                  <a:pt x="15354" y="15379"/>
                </a:cubicBezTo>
              </a:path>
              <a:path w="3747" h="1911">
                <a:moveTo>
                  <a:pt x="15776" y="14932"/>
                </a:moveTo>
                <a:cubicBezTo>
                  <a:pt x="15854" y="14915"/>
                  <a:pt x="15927" y="14921"/>
                  <a:pt x="15999" y="14957"/>
                </a:cubicBezTo>
                <a:cubicBezTo>
                  <a:pt x="16100" y="15008"/>
                  <a:pt x="16117" y="15014"/>
                  <a:pt x="16073" y="15131"/>
                </a:cubicBezTo>
                <a:cubicBezTo>
                  <a:pt x="16026" y="15257"/>
                  <a:pt x="15907" y="15332"/>
                  <a:pt x="15825" y="15429"/>
                </a:cubicBezTo>
                <a:cubicBezTo>
                  <a:pt x="15805" y="15453"/>
                  <a:pt x="15747" y="15582"/>
                  <a:pt x="15751" y="15602"/>
                </a:cubicBezTo>
                <a:cubicBezTo>
                  <a:pt x="15758" y="15638"/>
                  <a:pt x="15801" y="15735"/>
                  <a:pt x="15850" y="15751"/>
                </a:cubicBezTo>
                <a:cubicBezTo>
                  <a:pt x="15987" y="15795"/>
                  <a:pt x="16161" y="15773"/>
                  <a:pt x="16297" y="15726"/>
                </a:cubicBezTo>
                <a:cubicBezTo>
                  <a:pt x="16330" y="15710"/>
                  <a:pt x="16363" y="15693"/>
                  <a:pt x="16396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Ink 13"/>
          <p:cNvSpPr/>
          <p:nvPr/>
        </p:nvSpPr>
        <p:spPr>
          <a:xfrm>
            <a:off x="295200" y="3044880"/>
            <a:ext cx="1741680" cy="938160"/>
          </a:xfrm>
          <a:custGeom>
            <a:avLst/>
            <a:gdLst/>
            <a:ahLst/>
            <a:rect l="l" t="t" r="r" b="b"/>
            <a:pathLst>
              <a:path w="4837" h="2606">
                <a:moveTo>
                  <a:pt x="5085" y="9401"/>
                </a:moveTo>
                <a:cubicBezTo>
                  <a:pt x="4973" y="9254"/>
                  <a:pt x="4921" y="9165"/>
                  <a:pt x="4762" y="9029"/>
                </a:cubicBezTo>
                <a:cubicBezTo>
                  <a:pt x="4661" y="8942"/>
                  <a:pt x="4534" y="8865"/>
                  <a:pt x="4415" y="8806"/>
                </a:cubicBezTo>
                <a:cubicBezTo>
                  <a:pt x="4269" y="8733"/>
                  <a:pt x="4101" y="8652"/>
                  <a:pt x="3944" y="8607"/>
                </a:cubicBezTo>
                <a:cubicBezTo>
                  <a:pt x="3777" y="8558"/>
                  <a:pt x="3597" y="8503"/>
                  <a:pt x="3423" y="8483"/>
                </a:cubicBezTo>
                <a:cubicBezTo>
                  <a:pt x="3130" y="8450"/>
                  <a:pt x="2822" y="8438"/>
                  <a:pt x="2530" y="8483"/>
                </a:cubicBezTo>
                <a:cubicBezTo>
                  <a:pt x="2348" y="8511"/>
                  <a:pt x="2156" y="8568"/>
                  <a:pt x="1984" y="8632"/>
                </a:cubicBezTo>
                <a:cubicBezTo>
                  <a:pt x="1819" y="8693"/>
                  <a:pt x="1641" y="8768"/>
                  <a:pt x="1488" y="8855"/>
                </a:cubicBezTo>
                <a:cubicBezTo>
                  <a:pt x="1292" y="8966"/>
                  <a:pt x="1105" y="9136"/>
                  <a:pt x="992" y="9327"/>
                </a:cubicBezTo>
                <a:cubicBezTo>
                  <a:pt x="917" y="9455"/>
                  <a:pt x="859" y="9554"/>
                  <a:pt x="843" y="9699"/>
                </a:cubicBezTo>
                <a:cubicBezTo>
                  <a:pt x="831" y="9810"/>
                  <a:pt x="844" y="9864"/>
                  <a:pt x="893" y="9971"/>
                </a:cubicBezTo>
                <a:cubicBezTo>
                  <a:pt x="936" y="10066"/>
                  <a:pt x="996" y="10121"/>
                  <a:pt x="1067" y="10195"/>
                </a:cubicBezTo>
                <a:cubicBezTo>
                  <a:pt x="1151" y="10284"/>
                  <a:pt x="1235" y="10353"/>
                  <a:pt x="1339" y="10418"/>
                </a:cubicBezTo>
                <a:cubicBezTo>
                  <a:pt x="1460" y="10494"/>
                  <a:pt x="1586" y="10530"/>
                  <a:pt x="1712" y="10592"/>
                </a:cubicBezTo>
                <a:cubicBezTo>
                  <a:pt x="1880" y="10675"/>
                  <a:pt x="2075" y="10763"/>
                  <a:pt x="2257" y="10815"/>
                </a:cubicBezTo>
                <a:cubicBezTo>
                  <a:pt x="2425" y="10863"/>
                  <a:pt x="2609" y="10899"/>
                  <a:pt x="2778" y="10939"/>
                </a:cubicBezTo>
                <a:cubicBezTo>
                  <a:pt x="3008" y="10993"/>
                  <a:pt x="3262" y="11033"/>
                  <a:pt x="3497" y="11038"/>
                </a:cubicBezTo>
                <a:cubicBezTo>
                  <a:pt x="3695" y="11042"/>
                  <a:pt x="3894" y="11083"/>
                  <a:pt x="4093" y="11063"/>
                </a:cubicBezTo>
                <a:cubicBezTo>
                  <a:pt x="4376" y="11035"/>
                  <a:pt x="4613" y="11025"/>
                  <a:pt x="4887" y="10939"/>
                </a:cubicBezTo>
                <a:cubicBezTo>
                  <a:pt x="5083" y="10877"/>
                  <a:pt x="5196" y="10814"/>
                  <a:pt x="5358" y="10691"/>
                </a:cubicBezTo>
                <a:cubicBezTo>
                  <a:pt x="5498" y="10584"/>
                  <a:pt x="5547" y="10524"/>
                  <a:pt x="5606" y="10368"/>
                </a:cubicBezTo>
                <a:cubicBezTo>
                  <a:pt x="5675" y="10186"/>
                  <a:pt x="5645" y="10051"/>
                  <a:pt x="5606" y="9872"/>
                </a:cubicBezTo>
                <a:cubicBezTo>
                  <a:pt x="5573" y="9722"/>
                  <a:pt x="5544" y="9566"/>
                  <a:pt x="5432" y="9451"/>
                </a:cubicBezTo>
                <a:cubicBezTo>
                  <a:pt x="5298" y="9314"/>
                  <a:pt x="5163" y="9250"/>
                  <a:pt x="5011" y="9153"/>
                </a:cubicBezTo>
                <a:cubicBezTo>
                  <a:pt x="4809" y="9024"/>
                  <a:pt x="4634" y="8950"/>
                  <a:pt x="4390" y="8905"/>
                </a:cubicBezTo>
                <a:cubicBezTo>
                  <a:pt x="4324" y="8897"/>
                  <a:pt x="4258" y="8888"/>
                  <a:pt x="4192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Ink 14"/>
          <p:cNvSpPr/>
          <p:nvPr/>
        </p:nvSpPr>
        <p:spPr>
          <a:xfrm>
            <a:off x="438120" y="4803840"/>
            <a:ext cx="1687680" cy="1090440"/>
          </a:xfrm>
          <a:custGeom>
            <a:avLst/>
            <a:gdLst/>
            <a:ahLst/>
            <a:rect l="l" t="t" r="r" b="b"/>
            <a:pathLst>
              <a:path w="4690" h="3027">
                <a:moveTo>
                  <a:pt x="5259" y="14660"/>
                </a:moveTo>
                <a:cubicBezTo>
                  <a:pt x="5189" y="14590"/>
                  <a:pt x="5132" y="14523"/>
                  <a:pt x="5060" y="14461"/>
                </a:cubicBezTo>
                <a:cubicBezTo>
                  <a:pt x="5025" y="14431"/>
                  <a:pt x="4968" y="14358"/>
                  <a:pt x="4936" y="14337"/>
                </a:cubicBezTo>
                <a:cubicBezTo>
                  <a:pt x="4855" y="14284"/>
                  <a:pt x="4770" y="14248"/>
                  <a:pt x="4688" y="14188"/>
                </a:cubicBezTo>
                <a:cubicBezTo>
                  <a:pt x="4586" y="14113"/>
                  <a:pt x="4476" y="14039"/>
                  <a:pt x="4366" y="13990"/>
                </a:cubicBezTo>
                <a:cubicBezTo>
                  <a:pt x="4262" y="13944"/>
                  <a:pt x="4104" y="13881"/>
                  <a:pt x="3994" y="13866"/>
                </a:cubicBezTo>
                <a:cubicBezTo>
                  <a:pt x="3870" y="13849"/>
                  <a:pt x="3721" y="13837"/>
                  <a:pt x="3597" y="13841"/>
                </a:cubicBezTo>
                <a:cubicBezTo>
                  <a:pt x="3483" y="13844"/>
                  <a:pt x="3334" y="13879"/>
                  <a:pt x="3225" y="13915"/>
                </a:cubicBezTo>
                <a:cubicBezTo>
                  <a:pt x="3085" y="13962"/>
                  <a:pt x="2908" y="14041"/>
                  <a:pt x="2778" y="14114"/>
                </a:cubicBezTo>
                <a:cubicBezTo>
                  <a:pt x="2644" y="14189"/>
                  <a:pt x="2505" y="14276"/>
                  <a:pt x="2381" y="14362"/>
                </a:cubicBezTo>
                <a:cubicBezTo>
                  <a:pt x="2213" y="14479"/>
                  <a:pt x="2029" y="14570"/>
                  <a:pt x="1860" y="14684"/>
                </a:cubicBezTo>
                <a:cubicBezTo>
                  <a:pt x="1677" y="14807"/>
                  <a:pt x="1527" y="14915"/>
                  <a:pt x="1414" y="15106"/>
                </a:cubicBezTo>
                <a:cubicBezTo>
                  <a:pt x="1344" y="15224"/>
                  <a:pt x="1273" y="15335"/>
                  <a:pt x="1240" y="15478"/>
                </a:cubicBezTo>
                <a:cubicBezTo>
                  <a:pt x="1212" y="15600"/>
                  <a:pt x="1235" y="15708"/>
                  <a:pt x="1240" y="15825"/>
                </a:cubicBezTo>
                <a:cubicBezTo>
                  <a:pt x="1243" y="15893"/>
                  <a:pt x="1234" y="15989"/>
                  <a:pt x="1265" y="16049"/>
                </a:cubicBezTo>
                <a:cubicBezTo>
                  <a:pt x="1308" y="16131"/>
                  <a:pt x="1392" y="16169"/>
                  <a:pt x="1463" y="16222"/>
                </a:cubicBezTo>
                <a:cubicBezTo>
                  <a:pt x="1545" y="16283"/>
                  <a:pt x="1630" y="16362"/>
                  <a:pt x="1736" y="16371"/>
                </a:cubicBezTo>
                <a:cubicBezTo>
                  <a:pt x="1836" y="16379"/>
                  <a:pt x="1974" y="16280"/>
                  <a:pt x="2059" y="16247"/>
                </a:cubicBezTo>
                <a:cubicBezTo>
                  <a:pt x="2172" y="16203"/>
                  <a:pt x="2309" y="16139"/>
                  <a:pt x="2431" y="16123"/>
                </a:cubicBezTo>
                <a:cubicBezTo>
                  <a:pt x="2564" y="16106"/>
                  <a:pt x="2696" y="16141"/>
                  <a:pt x="2828" y="16148"/>
                </a:cubicBezTo>
                <a:cubicBezTo>
                  <a:pt x="2986" y="16156"/>
                  <a:pt x="3145" y="16106"/>
                  <a:pt x="3299" y="16073"/>
                </a:cubicBezTo>
                <a:cubicBezTo>
                  <a:pt x="3459" y="16039"/>
                  <a:pt x="3629" y="16029"/>
                  <a:pt x="3795" y="15999"/>
                </a:cubicBezTo>
                <a:cubicBezTo>
                  <a:pt x="3926" y="15975"/>
                  <a:pt x="4047" y="15909"/>
                  <a:pt x="4167" y="15875"/>
                </a:cubicBezTo>
                <a:cubicBezTo>
                  <a:pt x="4290" y="15840"/>
                  <a:pt x="4415" y="15822"/>
                  <a:pt x="4539" y="15801"/>
                </a:cubicBezTo>
                <a:cubicBezTo>
                  <a:pt x="4665" y="15780"/>
                  <a:pt x="4798" y="15741"/>
                  <a:pt x="4911" y="15677"/>
                </a:cubicBezTo>
                <a:cubicBezTo>
                  <a:pt x="5012" y="15620"/>
                  <a:pt x="5107" y="15536"/>
                  <a:pt x="5209" y="15478"/>
                </a:cubicBezTo>
                <a:cubicBezTo>
                  <a:pt x="5370" y="15387"/>
                  <a:pt x="5450" y="15303"/>
                  <a:pt x="5581" y="15180"/>
                </a:cubicBezTo>
                <a:cubicBezTo>
                  <a:pt x="5646" y="15119"/>
                  <a:pt x="5696" y="15091"/>
                  <a:pt x="5755" y="15007"/>
                </a:cubicBezTo>
                <a:cubicBezTo>
                  <a:pt x="5852" y="14868"/>
                  <a:pt x="5880" y="14800"/>
                  <a:pt x="5904" y="14635"/>
                </a:cubicBezTo>
                <a:cubicBezTo>
                  <a:pt x="5935" y="14418"/>
                  <a:pt x="5910" y="14119"/>
                  <a:pt x="5829" y="13915"/>
                </a:cubicBezTo>
                <a:cubicBezTo>
                  <a:pt x="5756" y="13733"/>
                  <a:pt x="5613" y="13532"/>
                  <a:pt x="5432" y="13444"/>
                </a:cubicBezTo>
                <a:cubicBezTo>
                  <a:pt x="5349" y="13411"/>
                  <a:pt x="5267" y="13378"/>
                  <a:pt x="5184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Ink 15"/>
          <p:cNvSpPr/>
          <p:nvPr/>
        </p:nvSpPr>
        <p:spPr>
          <a:xfrm>
            <a:off x="3276720" y="3670200"/>
            <a:ext cx="2948040" cy="250920"/>
          </a:xfrm>
          <a:custGeom>
            <a:avLst/>
            <a:gdLst/>
            <a:ahLst/>
            <a:rect l="l" t="t" r="r" b="b"/>
            <a:pathLst>
              <a:path w="8187" h="695">
                <a:moveTo>
                  <a:pt x="17289" y="10889"/>
                </a:moveTo>
                <a:cubicBezTo>
                  <a:pt x="16937" y="10889"/>
                  <a:pt x="16594" y="10888"/>
                  <a:pt x="16247" y="10815"/>
                </a:cubicBezTo>
                <a:cubicBezTo>
                  <a:pt x="15902" y="10742"/>
                  <a:pt x="15554" y="10703"/>
                  <a:pt x="15205" y="10641"/>
                </a:cubicBezTo>
                <a:cubicBezTo>
                  <a:pt x="14841" y="10576"/>
                  <a:pt x="14478" y="10506"/>
                  <a:pt x="14114" y="10443"/>
                </a:cubicBezTo>
                <a:cubicBezTo>
                  <a:pt x="13457" y="10329"/>
                  <a:pt x="12797" y="10216"/>
                  <a:pt x="12129" y="10195"/>
                </a:cubicBezTo>
                <a:cubicBezTo>
                  <a:pt x="11682" y="10181"/>
                  <a:pt x="11235" y="10234"/>
                  <a:pt x="10790" y="10269"/>
                </a:cubicBezTo>
                <a:cubicBezTo>
                  <a:pt x="10338" y="10304"/>
                  <a:pt x="9892" y="10397"/>
                  <a:pt x="9451" y="10492"/>
                </a:cubicBezTo>
                <a:cubicBezTo>
                  <a:pt x="9279" y="10542"/>
                  <a:pt x="9222" y="10558"/>
                  <a:pt x="910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4cos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Ink 5"/>
          <p:cNvSpPr/>
          <p:nvPr/>
        </p:nvSpPr>
        <p:spPr>
          <a:xfrm>
            <a:off x="2394000" y="1571760"/>
            <a:ext cx="1579680" cy="741240"/>
          </a:xfrm>
          <a:custGeom>
            <a:avLst/>
            <a:gdLst/>
            <a:ahLst/>
            <a:rect l="l" t="t" r="r" b="b"/>
            <a:pathLst>
              <a:path w="4391" h="2059">
                <a:moveTo>
                  <a:pt x="6821" y="4688"/>
                </a:moveTo>
                <a:cubicBezTo>
                  <a:pt x="6848" y="4767"/>
                  <a:pt x="6803" y="4870"/>
                  <a:pt x="6772" y="4961"/>
                </a:cubicBezTo>
                <a:cubicBezTo>
                  <a:pt x="6736" y="5065"/>
                  <a:pt x="6729" y="5153"/>
                  <a:pt x="6697" y="5259"/>
                </a:cubicBezTo>
                <a:cubicBezTo>
                  <a:pt x="6673" y="5339"/>
                  <a:pt x="6635" y="5389"/>
                  <a:pt x="6672" y="5383"/>
                </a:cubicBezTo>
                <a:cubicBezTo>
                  <a:pt x="6759" y="5369"/>
                  <a:pt x="6836" y="5403"/>
                  <a:pt x="6921" y="5407"/>
                </a:cubicBezTo>
                <a:cubicBezTo>
                  <a:pt x="6988" y="5410"/>
                  <a:pt x="7040" y="5412"/>
                  <a:pt x="7094" y="5383"/>
                </a:cubicBezTo>
                <a:cubicBezTo>
                  <a:pt x="7111" y="5375"/>
                  <a:pt x="7127" y="5366"/>
                  <a:pt x="7144" y="5358"/>
                </a:cubicBezTo>
              </a:path>
              <a:path w="4391" h="2059">
                <a:moveTo>
                  <a:pt x="7218" y="4390"/>
                </a:moveTo>
                <a:cubicBezTo>
                  <a:pt x="7191" y="4487"/>
                  <a:pt x="7193" y="4561"/>
                  <a:pt x="7193" y="4663"/>
                </a:cubicBezTo>
                <a:cubicBezTo>
                  <a:pt x="7193" y="4788"/>
                  <a:pt x="7169" y="4907"/>
                  <a:pt x="7169" y="5035"/>
                </a:cubicBezTo>
                <a:cubicBezTo>
                  <a:pt x="7169" y="5175"/>
                  <a:pt x="7180" y="5293"/>
                  <a:pt x="7169" y="5432"/>
                </a:cubicBezTo>
                <a:cubicBezTo>
                  <a:pt x="7156" y="5588"/>
                  <a:pt x="7174" y="5756"/>
                  <a:pt x="7193" y="5904"/>
                </a:cubicBezTo>
                <a:cubicBezTo>
                  <a:pt x="7207" y="6014"/>
                  <a:pt x="7174" y="6008"/>
                  <a:pt x="7243" y="5928"/>
                </a:cubicBezTo>
              </a:path>
              <a:path w="4391" h="2059">
                <a:moveTo>
                  <a:pt x="8161" y="5259"/>
                </a:moveTo>
                <a:cubicBezTo>
                  <a:pt x="8169" y="5275"/>
                  <a:pt x="8178" y="5292"/>
                  <a:pt x="8186" y="5308"/>
                </a:cubicBezTo>
                <a:cubicBezTo>
                  <a:pt x="8130" y="5330"/>
                  <a:pt x="8090" y="5307"/>
                  <a:pt x="8037" y="5259"/>
                </a:cubicBezTo>
                <a:cubicBezTo>
                  <a:pt x="7993" y="5220"/>
                  <a:pt x="7928" y="5236"/>
                  <a:pt x="7888" y="5283"/>
                </a:cubicBezTo>
                <a:cubicBezTo>
                  <a:pt x="7840" y="5339"/>
                  <a:pt x="7829" y="5418"/>
                  <a:pt x="7813" y="5482"/>
                </a:cubicBezTo>
                <a:cubicBezTo>
                  <a:pt x="7792" y="5564"/>
                  <a:pt x="7768" y="5648"/>
                  <a:pt x="7764" y="5730"/>
                </a:cubicBezTo>
                <a:cubicBezTo>
                  <a:pt x="7762" y="5770"/>
                  <a:pt x="7787" y="5899"/>
                  <a:pt x="7813" y="5928"/>
                </a:cubicBezTo>
                <a:cubicBezTo>
                  <a:pt x="7849" y="5967"/>
                  <a:pt x="7935" y="5998"/>
                  <a:pt x="7987" y="5978"/>
                </a:cubicBezTo>
                <a:cubicBezTo>
                  <a:pt x="8038" y="5927"/>
                  <a:pt x="8077" y="5900"/>
                  <a:pt x="8136" y="5879"/>
                </a:cubicBezTo>
              </a:path>
              <a:path w="4391" h="2059">
                <a:moveTo>
                  <a:pt x="8409" y="5407"/>
                </a:moveTo>
                <a:cubicBezTo>
                  <a:pt x="8385" y="5527"/>
                  <a:pt x="8359" y="5612"/>
                  <a:pt x="8359" y="5730"/>
                </a:cubicBezTo>
                <a:cubicBezTo>
                  <a:pt x="8359" y="5766"/>
                  <a:pt x="8350" y="5950"/>
                  <a:pt x="8384" y="5978"/>
                </a:cubicBezTo>
                <a:cubicBezTo>
                  <a:pt x="8443" y="6026"/>
                  <a:pt x="8531" y="6006"/>
                  <a:pt x="8582" y="5978"/>
                </a:cubicBezTo>
                <a:cubicBezTo>
                  <a:pt x="8663" y="5934"/>
                  <a:pt x="8763" y="5881"/>
                  <a:pt x="8781" y="5779"/>
                </a:cubicBezTo>
                <a:cubicBezTo>
                  <a:pt x="8799" y="5677"/>
                  <a:pt x="8796" y="5632"/>
                  <a:pt x="8781" y="5531"/>
                </a:cubicBezTo>
                <a:cubicBezTo>
                  <a:pt x="8775" y="5486"/>
                  <a:pt x="8769" y="5412"/>
                  <a:pt x="8731" y="5383"/>
                </a:cubicBezTo>
                <a:cubicBezTo>
                  <a:pt x="8675" y="5339"/>
                  <a:pt x="8608" y="5352"/>
                  <a:pt x="8558" y="5383"/>
                </a:cubicBezTo>
              </a:path>
              <a:path w="4391" h="2059">
                <a:moveTo>
                  <a:pt x="9302" y="5259"/>
                </a:moveTo>
                <a:cubicBezTo>
                  <a:pt x="9224" y="5268"/>
                  <a:pt x="9126" y="5295"/>
                  <a:pt x="9054" y="5333"/>
                </a:cubicBezTo>
                <a:cubicBezTo>
                  <a:pt x="9004" y="5360"/>
                  <a:pt x="8970" y="5415"/>
                  <a:pt x="9004" y="5457"/>
                </a:cubicBezTo>
                <a:cubicBezTo>
                  <a:pt x="9094" y="5569"/>
                  <a:pt x="9236" y="5648"/>
                  <a:pt x="9302" y="5779"/>
                </a:cubicBezTo>
                <a:cubicBezTo>
                  <a:pt x="9343" y="5861"/>
                  <a:pt x="9330" y="5979"/>
                  <a:pt x="9227" y="6003"/>
                </a:cubicBezTo>
                <a:cubicBezTo>
                  <a:pt x="9147" y="6022"/>
                  <a:pt x="9090" y="6037"/>
                  <a:pt x="9004" y="6003"/>
                </a:cubicBezTo>
                <a:cubicBezTo>
                  <a:pt x="8960" y="5981"/>
                  <a:pt x="8939" y="5978"/>
                  <a:pt x="8979" y="5953"/>
                </a:cubicBezTo>
              </a:path>
              <a:path w="4391" h="2059">
                <a:moveTo>
                  <a:pt x="10220" y="4366"/>
                </a:moveTo>
                <a:cubicBezTo>
                  <a:pt x="10151" y="4414"/>
                  <a:pt x="10106" y="4481"/>
                  <a:pt x="10071" y="4564"/>
                </a:cubicBezTo>
                <a:cubicBezTo>
                  <a:pt x="10015" y="4699"/>
                  <a:pt x="9955" y="4826"/>
                  <a:pt x="9897" y="4961"/>
                </a:cubicBezTo>
                <a:cubicBezTo>
                  <a:pt x="9840" y="5094"/>
                  <a:pt x="9808" y="5216"/>
                  <a:pt x="9773" y="5358"/>
                </a:cubicBezTo>
                <a:cubicBezTo>
                  <a:pt x="9743" y="5479"/>
                  <a:pt x="9730" y="5629"/>
                  <a:pt x="9748" y="5755"/>
                </a:cubicBezTo>
                <a:cubicBezTo>
                  <a:pt x="9769" y="5900"/>
                  <a:pt x="9837" y="6022"/>
                  <a:pt x="9897" y="6152"/>
                </a:cubicBezTo>
                <a:cubicBezTo>
                  <a:pt x="9936" y="6236"/>
                  <a:pt x="10015" y="6279"/>
                  <a:pt x="10071" y="6350"/>
                </a:cubicBezTo>
                <a:cubicBezTo>
                  <a:pt x="10111" y="6401"/>
                  <a:pt x="10100" y="6457"/>
                  <a:pt x="10120" y="6375"/>
                </a:cubicBezTo>
              </a:path>
              <a:path w="4391" h="2059">
                <a:moveTo>
                  <a:pt x="10368" y="5060"/>
                </a:moveTo>
                <a:cubicBezTo>
                  <a:pt x="10387" y="5009"/>
                  <a:pt x="10431" y="4941"/>
                  <a:pt x="10443" y="4887"/>
                </a:cubicBezTo>
                <a:cubicBezTo>
                  <a:pt x="10457" y="4826"/>
                  <a:pt x="10470" y="4789"/>
                  <a:pt x="10517" y="4738"/>
                </a:cubicBezTo>
                <a:cubicBezTo>
                  <a:pt x="10547" y="4704"/>
                  <a:pt x="10639" y="4689"/>
                  <a:pt x="10666" y="4738"/>
                </a:cubicBezTo>
                <a:cubicBezTo>
                  <a:pt x="10717" y="4830"/>
                  <a:pt x="10691" y="4960"/>
                  <a:pt x="10691" y="5060"/>
                </a:cubicBezTo>
                <a:cubicBezTo>
                  <a:pt x="10691" y="5214"/>
                  <a:pt x="10682" y="5358"/>
                  <a:pt x="10666" y="5507"/>
                </a:cubicBezTo>
                <a:cubicBezTo>
                  <a:pt x="10658" y="5578"/>
                  <a:pt x="10656" y="5691"/>
                  <a:pt x="10616" y="5755"/>
                </a:cubicBezTo>
                <a:cubicBezTo>
                  <a:pt x="10585" y="5805"/>
                  <a:pt x="10520" y="5897"/>
                  <a:pt x="10468" y="5928"/>
                </a:cubicBezTo>
                <a:cubicBezTo>
                  <a:pt x="10394" y="5972"/>
                  <a:pt x="10279" y="6023"/>
                  <a:pt x="10244" y="5904"/>
                </a:cubicBezTo>
                <a:cubicBezTo>
                  <a:pt x="10224" y="5838"/>
                  <a:pt x="10325" y="5685"/>
                  <a:pt x="10368" y="5655"/>
                </a:cubicBezTo>
                <a:cubicBezTo>
                  <a:pt x="10419" y="5619"/>
                  <a:pt x="10496" y="5647"/>
                  <a:pt x="10542" y="5655"/>
                </a:cubicBezTo>
                <a:cubicBezTo>
                  <a:pt x="10639" y="5673"/>
                  <a:pt x="10603" y="5681"/>
                  <a:pt x="10641" y="5755"/>
                </a:cubicBezTo>
                <a:cubicBezTo>
                  <a:pt x="10666" y="5779"/>
                  <a:pt x="10674" y="5787"/>
                  <a:pt x="10641" y="5804"/>
                </a:cubicBezTo>
              </a:path>
              <a:path w="4391" h="2059">
                <a:moveTo>
                  <a:pt x="11038" y="5606"/>
                </a:moveTo>
                <a:cubicBezTo>
                  <a:pt x="11005" y="5639"/>
                  <a:pt x="10984" y="5653"/>
                  <a:pt x="10988" y="5606"/>
                </a:cubicBezTo>
                <a:cubicBezTo>
                  <a:pt x="10996" y="5589"/>
                  <a:pt x="11005" y="5573"/>
                  <a:pt x="11013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Ink 6"/>
          <p:cNvSpPr/>
          <p:nvPr/>
        </p:nvSpPr>
        <p:spPr>
          <a:xfrm>
            <a:off x="4170240" y="1428840"/>
            <a:ext cx="1554120" cy="822240"/>
          </a:xfrm>
          <a:custGeom>
            <a:avLst/>
            <a:gdLst/>
            <a:ahLst/>
            <a:rect l="l" t="t" r="r" b="b"/>
            <a:pathLst>
              <a:path w="4317" h="2283">
                <a:moveTo>
                  <a:pt x="11584" y="4837"/>
                </a:moveTo>
                <a:cubicBezTo>
                  <a:pt x="11683" y="4755"/>
                  <a:pt x="11685" y="4762"/>
                  <a:pt x="11807" y="4762"/>
                </a:cubicBezTo>
                <a:cubicBezTo>
                  <a:pt x="11929" y="4762"/>
                  <a:pt x="12035" y="4752"/>
                  <a:pt x="12154" y="4738"/>
                </a:cubicBezTo>
                <a:cubicBezTo>
                  <a:pt x="12171" y="4738"/>
                  <a:pt x="12187" y="4738"/>
                  <a:pt x="12204" y="4738"/>
                </a:cubicBezTo>
              </a:path>
              <a:path w="4317" h="2283">
                <a:moveTo>
                  <a:pt x="11807" y="4837"/>
                </a:moveTo>
                <a:cubicBezTo>
                  <a:pt x="11784" y="4942"/>
                  <a:pt x="11782" y="5027"/>
                  <a:pt x="11782" y="5135"/>
                </a:cubicBezTo>
                <a:cubicBezTo>
                  <a:pt x="11782" y="5198"/>
                  <a:pt x="11746" y="5266"/>
                  <a:pt x="11807" y="5184"/>
                </a:cubicBezTo>
              </a:path>
              <a:path w="4317" h="2283">
                <a:moveTo>
                  <a:pt x="12005" y="4812"/>
                </a:moveTo>
                <a:cubicBezTo>
                  <a:pt x="11990" y="4931"/>
                  <a:pt x="11962" y="5044"/>
                  <a:pt x="11956" y="5159"/>
                </a:cubicBezTo>
                <a:cubicBezTo>
                  <a:pt x="11956" y="5204"/>
                  <a:pt x="11953" y="5217"/>
                  <a:pt x="11981" y="5234"/>
                </a:cubicBezTo>
              </a:path>
              <a:path w="4317" h="2283">
                <a:moveTo>
                  <a:pt x="12477" y="4688"/>
                </a:moveTo>
                <a:cubicBezTo>
                  <a:pt x="12416" y="4749"/>
                  <a:pt x="12410" y="4808"/>
                  <a:pt x="12378" y="4887"/>
                </a:cubicBezTo>
                <a:cubicBezTo>
                  <a:pt x="12335" y="4993"/>
                  <a:pt x="12297" y="5102"/>
                  <a:pt x="12254" y="5209"/>
                </a:cubicBezTo>
                <a:cubicBezTo>
                  <a:pt x="12213" y="5313"/>
                  <a:pt x="12190" y="5425"/>
                  <a:pt x="12154" y="5531"/>
                </a:cubicBezTo>
                <a:cubicBezTo>
                  <a:pt x="12121" y="5629"/>
                  <a:pt x="12052" y="5730"/>
                  <a:pt x="12030" y="5829"/>
                </a:cubicBezTo>
                <a:cubicBezTo>
                  <a:pt x="12011" y="5916"/>
                  <a:pt x="12016" y="5914"/>
                  <a:pt x="12080" y="5904"/>
                </a:cubicBezTo>
              </a:path>
              <a:path w="4317" h="2283">
                <a:moveTo>
                  <a:pt x="12427" y="5383"/>
                </a:moveTo>
                <a:cubicBezTo>
                  <a:pt x="12411" y="5436"/>
                  <a:pt x="12326" y="5609"/>
                  <a:pt x="12402" y="5655"/>
                </a:cubicBezTo>
                <a:cubicBezTo>
                  <a:pt x="12445" y="5681"/>
                  <a:pt x="12542" y="5649"/>
                  <a:pt x="12576" y="5631"/>
                </a:cubicBezTo>
                <a:cubicBezTo>
                  <a:pt x="12640" y="5597"/>
                  <a:pt x="12711" y="5509"/>
                  <a:pt x="12725" y="5432"/>
                </a:cubicBezTo>
                <a:cubicBezTo>
                  <a:pt x="12725" y="5374"/>
                  <a:pt x="12725" y="5366"/>
                  <a:pt x="12725" y="5333"/>
                </a:cubicBezTo>
                <a:cubicBezTo>
                  <a:pt x="12645" y="5333"/>
                  <a:pt x="12566" y="5319"/>
                  <a:pt x="12502" y="5358"/>
                </a:cubicBezTo>
              </a:path>
              <a:path w="4317" h="2283">
                <a:moveTo>
                  <a:pt x="12353" y="5730"/>
                </a:moveTo>
                <a:cubicBezTo>
                  <a:pt x="12329" y="5781"/>
                  <a:pt x="12225" y="5932"/>
                  <a:pt x="12353" y="5978"/>
                </a:cubicBezTo>
                <a:cubicBezTo>
                  <a:pt x="12434" y="6007"/>
                  <a:pt x="12536" y="5981"/>
                  <a:pt x="12601" y="5928"/>
                </a:cubicBezTo>
                <a:cubicBezTo>
                  <a:pt x="12661" y="5878"/>
                  <a:pt x="12721" y="5831"/>
                  <a:pt x="12725" y="5755"/>
                </a:cubicBezTo>
                <a:cubicBezTo>
                  <a:pt x="12730" y="5664"/>
                  <a:pt x="12682" y="5644"/>
                  <a:pt x="12601" y="5631"/>
                </a:cubicBezTo>
                <a:cubicBezTo>
                  <a:pt x="12559" y="5631"/>
                  <a:pt x="12543" y="5639"/>
                  <a:pt x="12551" y="5606"/>
                </a:cubicBezTo>
              </a:path>
              <a:path w="4317" h="2283">
                <a:moveTo>
                  <a:pt x="12898" y="4118"/>
                </a:moveTo>
                <a:cubicBezTo>
                  <a:pt x="12943" y="4217"/>
                  <a:pt x="12967" y="4249"/>
                  <a:pt x="13047" y="4316"/>
                </a:cubicBezTo>
                <a:cubicBezTo>
                  <a:pt x="13122" y="4378"/>
                  <a:pt x="13164" y="4488"/>
                  <a:pt x="13221" y="4564"/>
                </a:cubicBezTo>
                <a:cubicBezTo>
                  <a:pt x="13304" y="4675"/>
                  <a:pt x="13298" y="4784"/>
                  <a:pt x="13320" y="4911"/>
                </a:cubicBezTo>
                <a:cubicBezTo>
                  <a:pt x="13345" y="5056"/>
                  <a:pt x="13341" y="5186"/>
                  <a:pt x="13320" y="5333"/>
                </a:cubicBezTo>
                <a:cubicBezTo>
                  <a:pt x="13293" y="5520"/>
                  <a:pt x="13222" y="5669"/>
                  <a:pt x="13122" y="5829"/>
                </a:cubicBezTo>
                <a:cubicBezTo>
                  <a:pt x="13062" y="5926"/>
                  <a:pt x="12978" y="5997"/>
                  <a:pt x="12898" y="6077"/>
                </a:cubicBezTo>
                <a:cubicBezTo>
                  <a:pt x="12854" y="6121"/>
                  <a:pt x="12786" y="6209"/>
                  <a:pt x="12725" y="6226"/>
                </a:cubicBezTo>
                <a:cubicBezTo>
                  <a:pt x="12695" y="6256"/>
                  <a:pt x="12690" y="6258"/>
                  <a:pt x="12725" y="6201"/>
                </a:cubicBezTo>
              </a:path>
              <a:path w="4317" h="2283">
                <a:moveTo>
                  <a:pt x="13395" y="4068"/>
                </a:moveTo>
                <a:cubicBezTo>
                  <a:pt x="13466" y="4010"/>
                  <a:pt x="13526" y="3998"/>
                  <a:pt x="13618" y="3994"/>
                </a:cubicBezTo>
                <a:cubicBezTo>
                  <a:pt x="13682" y="3991"/>
                  <a:pt x="13724" y="3964"/>
                  <a:pt x="13791" y="3994"/>
                </a:cubicBezTo>
                <a:cubicBezTo>
                  <a:pt x="13799" y="4002"/>
                  <a:pt x="13808" y="4010"/>
                  <a:pt x="13816" y="4018"/>
                </a:cubicBezTo>
                <a:cubicBezTo>
                  <a:pt x="13755" y="4062"/>
                  <a:pt x="13742" y="4111"/>
                  <a:pt x="13692" y="4167"/>
                </a:cubicBezTo>
                <a:cubicBezTo>
                  <a:pt x="13641" y="4224"/>
                  <a:pt x="13599" y="4284"/>
                  <a:pt x="13543" y="4341"/>
                </a:cubicBezTo>
                <a:cubicBezTo>
                  <a:pt x="13521" y="4363"/>
                  <a:pt x="13452" y="4411"/>
                  <a:pt x="13444" y="4440"/>
                </a:cubicBezTo>
                <a:cubicBezTo>
                  <a:pt x="13444" y="4457"/>
                  <a:pt x="13444" y="4473"/>
                  <a:pt x="13444" y="4490"/>
                </a:cubicBezTo>
                <a:cubicBezTo>
                  <a:pt x="13585" y="4490"/>
                  <a:pt x="13725" y="4490"/>
                  <a:pt x="13866" y="4490"/>
                </a:cubicBezTo>
              </a:path>
              <a:path w="4317" h="2283">
                <a:moveTo>
                  <a:pt x="14238" y="5209"/>
                </a:moveTo>
                <a:cubicBezTo>
                  <a:pt x="14354" y="5227"/>
                  <a:pt x="14445" y="5234"/>
                  <a:pt x="14560" y="5234"/>
                </a:cubicBezTo>
                <a:cubicBezTo>
                  <a:pt x="14610" y="5234"/>
                  <a:pt x="14659" y="5234"/>
                  <a:pt x="14709" y="5234"/>
                </a:cubicBezTo>
              </a:path>
              <a:path w="4317" h="2283">
                <a:moveTo>
                  <a:pt x="15106" y="4762"/>
                </a:moveTo>
                <a:cubicBezTo>
                  <a:pt x="15189" y="4696"/>
                  <a:pt x="15213" y="4661"/>
                  <a:pt x="15304" y="4614"/>
                </a:cubicBezTo>
                <a:cubicBezTo>
                  <a:pt x="15440" y="4543"/>
                  <a:pt x="15503" y="4546"/>
                  <a:pt x="15652" y="4564"/>
                </a:cubicBezTo>
                <a:cubicBezTo>
                  <a:pt x="15743" y="4575"/>
                  <a:pt x="15772" y="4591"/>
                  <a:pt x="15776" y="4688"/>
                </a:cubicBezTo>
                <a:cubicBezTo>
                  <a:pt x="15781" y="4795"/>
                  <a:pt x="15757" y="4841"/>
                  <a:pt x="15726" y="4936"/>
                </a:cubicBezTo>
                <a:cubicBezTo>
                  <a:pt x="15681" y="5076"/>
                  <a:pt x="15583" y="5204"/>
                  <a:pt x="15503" y="5333"/>
                </a:cubicBezTo>
                <a:cubicBezTo>
                  <a:pt x="15443" y="5430"/>
                  <a:pt x="15364" y="5557"/>
                  <a:pt x="15280" y="5631"/>
                </a:cubicBezTo>
                <a:cubicBezTo>
                  <a:pt x="15197" y="5704"/>
                  <a:pt x="15109" y="5793"/>
                  <a:pt x="15032" y="5879"/>
                </a:cubicBezTo>
                <a:cubicBezTo>
                  <a:pt x="14990" y="5926"/>
                  <a:pt x="14955" y="5982"/>
                  <a:pt x="14908" y="6028"/>
                </a:cubicBezTo>
                <a:cubicBezTo>
                  <a:pt x="14900" y="6036"/>
                  <a:pt x="14891" y="6044"/>
                  <a:pt x="14883" y="6052"/>
                </a:cubicBezTo>
                <a:cubicBezTo>
                  <a:pt x="14919" y="6052"/>
                  <a:pt x="14991" y="6052"/>
                  <a:pt x="15056" y="6052"/>
                </a:cubicBezTo>
                <a:cubicBezTo>
                  <a:pt x="15185" y="6052"/>
                  <a:pt x="15305" y="6065"/>
                  <a:pt x="15429" y="6077"/>
                </a:cubicBezTo>
                <a:cubicBezTo>
                  <a:pt x="15526" y="6086"/>
                  <a:pt x="15632" y="6101"/>
                  <a:pt x="15726" y="6127"/>
                </a:cubicBezTo>
                <a:cubicBezTo>
                  <a:pt x="15795" y="6146"/>
                  <a:pt x="15847" y="6152"/>
                  <a:pt x="15900" y="6152"/>
                </a:cubicBezTo>
                <a:cubicBezTo>
                  <a:pt x="15892" y="6152"/>
                  <a:pt x="15883" y="6152"/>
                  <a:pt x="15875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Ink 7"/>
          <p:cNvSpPr/>
          <p:nvPr/>
        </p:nvSpPr>
        <p:spPr>
          <a:xfrm>
            <a:off x="169920" y="1731960"/>
            <a:ext cx="2009880" cy="1420920"/>
          </a:xfrm>
          <a:custGeom>
            <a:avLst/>
            <a:gdLst/>
            <a:ahLst/>
            <a:rect l="l" t="t" r="r" b="b"/>
            <a:pathLst>
              <a:path w="5582" h="3945">
                <a:moveTo>
                  <a:pt x="893" y="7615"/>
                </a:moveTo>
                <a:cubicBezTo>
                  <a:pt x="987" y="7714"/>
                  <a:pt x="1075" y="7815"/>
                  <a:pt x="1166" y="7913"/>
                </a:cubicBezTo>
                <a:cubicBezTo>
                  <a:pt x="1228" y="7979"/>
                  <a:pt x="1293" y="8060"/>
                  <a:pt x="1364" y="8111"/>
                </a:cubicBezTo>
                <a:cubicBezTo>
                  <a:pt x="1473" y="8190"/>
                  <a:pt x="1622" y="8257"/>
                  <a:pt x="1736" y="8310"/>
                </a:cubicBezTo>
                <a:cubicBezTo>
                  <a:pt x="1873" y="8374"/>
                  <a:pt x="2017" y="8404"/>
                  <a:pt x="2158" y="8458"/>
                </a:cubicBezTo>
                <a:cubicBezTo>
                  <a:pt x="2283" y="8506"/>
                  <a:pt x="2398" y="8547"/>
                  <a:pt x="2530" y="8582"/>
                </a:cubicBezTo>
                <a:cubicBezTo>
                  <a:pt x="2705" y="8629"/>
                  <a:pt x="2875" y="8647"/>
                  <a:pt x="3051" y="8682"/>
                </a:cubicBezTo>
                <a:cubicBezTo>
                  <a:pt x="3192" y="8710"/>
                  <a:pt x="3330" y="8745"/>
                  <a:pt x="3473" y="8756"/>
                </a:cubicBezTo>
                <a:cubicBezTo>
                  <a:pt x="3672" y="8771"/>
                  <a:pt x="3873" y="8749"/>
                  <a:pt x="4068" y="8731"/>
                </a:cubicBezTo>
                <a:cubicBezTo>
                  <a:pt x="4276" y="8712"/>
                  <a:pt x="4483" y="8689"/>
                  <a:pt x="4688" y="8657"/>
                </a:cubicBezTo>
                <a:cubicBezTo>
                  <a:pt x="4839" y="8633"/>
                  <a:pt x="4996" y="8591"/>
                  <a:pt x="5135" y="8533"/>
                </a:cubicBezTo>
                <a:cubicBezTo>
                  <a:pt x="5262" y="8480"/>
                  <a:pt x="5390" y="8406"/>
                  <a:pt x="5507" y="8334"/>
                </a:cubicBezTo>
                <a:cubicBezTo>
                  <a:pt x="5615" y="8268"/>
                  <a:pt x="5702" y="8208"/>
                  <a:pt x="5779" y="8111"/>
                </a:cubicBezTo>
                <a:cubicBezTo>
                  <a:pt x="5871" y="7995"/>
                  <a:pt x="5931" y="7877"/>
                  <a:pt x="5978" y="7739"/>
                </a:cubicBezTo>
                <a:cubicBezTo>
                  <a:pt x="6018" y="7621"/>
                  <a:pt x="6042" y="7515"/>
                  <a:pt x="6052" y="7392"/>
                </a:cubicBezTo>
                <a:cubicBezTo>
                  <a:pt x="6063" y="7256"/>
                  <a:pt x="6055" y="7102"/>
                  <a:pt x="6028" y="6970"/>
                </a:cubicBezTo>
                <a:cubicBezTo>
                  <a:pt x="6005" y="6858"/>
                  <a:pt x="5967" y="6730"/>
                  <a:pt x="5928" y="6623"/>
                </a:cubicBezTo>
                <a:cubicBezTo>
                  <a:pt x="5887" y="6511"/>
                  <a:pt x="5835" y="6378"/>
                  <a:pt x="5779" y="6276"/>
                </a:cubicBezTo>
                <a:cubicBezTo>
                  <a:pt x="5683" y="6103"/>
                  <a:pt x="5547" y="5895"/>
                  <a:pt x="5407" y="5755"/>
                </a:cubicBezTo>
                <a:cubicBezTo>
                  <a:pt x="5315" y="5663"/>
                  <a:pt x="5230" y="5571"/>
                  <a:pt x="5135" y="5482"/>
                </a:cubicBezTo>
                <a:cubicBezTo>
                  <a:pt x="5042" y="5394"/>
                  <a:pt x="4922" y="5333"/>
                  <a:pt x="4812" y="5259"/>
                </a:cubicBezTo>
                <a:cubicBezTo>
                  <a:pt x="4688" y="5175"/>
                  <a:pt x="4578" y="5119"/>
                  <a:pt x="4440" y="5060"/>
                </a:cubicBezTo>
                <a:cubicBezTo>
                  <a:pt x="4279" y="4991"/>
                  <a:pt x="4118" y="4921"/>
                  <a:pt x="3944" y="4887"/>
                </a:cubicBezTo>
                <a:cubicBezTo>
                  <a:pt x="3763" y="4852"/>
                  <a:pt x="3557" y="4824"/>
                  <a:pt x="3373" y="4812"/>
                </a:cubicBezTo>
                <a:cubicBezTo>
                  <a:pt x="3196" y="4801"/>
                  <a:pt x="3001" y="4810"/>
                  <a:pt x="2828" y="4837"/>
                </a:cubicBezTo>
                <a:cubicBezTo>
                  <a:pt x="2682" y="4860"/>
                  <a:pt x="2523" y="4876"/>
                  <a:pt x="2381" y="4911"/>
                </a:cubicBezTo>
                <a:cubicBezTo>
                  <a:pt x="2144" y="4970"/>
                  <a:pt x="1869" y="5085"/>
                  <a:pt x="1662" y="5209"/>
                </a:cubicBezTo>
                <a:cubicBezTo>
                  <a:pt x="1550" y="5276"/>
                  <a:pt x="1459" y="5355"/>
                  <a:pt x="1364" y="5432"/>
                </a:cubicBezTo>
                <a:cubicBezTo>
                  <a:pt x="1264" y="5513"/>
                  <a:pt x="1157" y="5578"/>
                  <a:pt x="1067" y="5680"/>
                </a:cubicBezTo>
                <a:cubicBezTo>
                  <a:pt x="972" y="5788"/>
                  <a:pt x="888" y="5933"/>
                  <a:pt x="819" y="6052"/>
                </a:cubicBezTo>
                <a:cubicBezTo>
                  <a:pt x="723" y="6219"/>
                  <a:pt x="669" y="6365"/>
                  <a:pt x="620" y="6548"/>
                </a:cubicBezTo>
                <a:cubicBezTo>
                  <a:pt x="587" y="6673"/>
                  <a:pt x="544" y="6793"/>
                  <a:pt x="521" y="6921"/>
                </a:cubicBezTo>
                <a:cubicBezTo>
                  <a:pt x="480" y="7147"/>
                  <a:pt x="450" y="7306"/>
                  <a:pt x="496" y="7516"/>
                </a:cubicBezTo>
                <a:cubicBezTo>
                  <a:pt x="516" y="7607"/>
                  <a:pt x="568" y="7759"/>
                  <a:pt x="620" y="7838"/>
                </a:cubicBezTo>
                <a:cubicBezTo>
                  <a:pt x="666" y="7910"/>
                  <a:pt x="755" y="8006"/>
                  <a:pt x="819" y="8062"/>
                </a:cubicBezTo>
                <a:cubicBezTo>
                  <a:pt x="896" y="8130"/>
                  <a:pt x="1000" y="8192"/>
                  <a:pt x="1091" y="8235"/>
                </a:cubicBezTo>
                <a:cubicBezTo>
                  <a:pt x="1163" y="8269"/>
                  <a:pt x="1254" y="8278"/>
                  <a:pt x="1315" y="8310"/>
                </a:cubicBezTo>
                <a:cubicBezTo>
                  <a:pt x="1298" y="8310"/>
                  <a:pt x="1282" y="8310"/>
                  <a:pt x="1265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Ink 8"/>
          <p:cNvSpPr/>
          <p:nvPr/>
        </p:nvSpPr>
        <p:spPr>
          <a:xfrm>
            <a:off x="241200" y="2884320"/>
            <a:ext cx="2000520" cy="1276560"/>
          </a:xfrm>
          <a:custGeom>
            <a:avLst/>
            <a:gdLst/>
            <a:ahLst/>
            <a:rect l="l" t="t" r="r" b="b"/>
            <a:pathLst>
              <a:path w="5557" h="3548">
                <a:moveTo>
                  <a:pt x="1463" y="8905"/>
                </a:moveTo>
                <a:cubicBezTo>
                  <a:pt x="1411" y="8937"/>
                  <a:pt x="1349" y="8953"/>
                  <a:pt x="1290" y="9004"/>
                </a:cubicBezTo>
                <a:cubicBezTo>
                  <a:pt x="1238" y="9049"/>
                  <a:pt x="1210" y="9073"/>
                  <a:pt x="1166" y="9128"/>
                </a:cubicBezTo>
                <a:cubicBezTo>
                  <a:pt x="1125" y="9180"/>
                  <a:pt x="1103" y="9246"/>
                  <a:pt x="1067" y="9302"/>
                </a:cubicBezTo>
                <a:cubicBezTo>
                  <a:pt x="1025" y="9367"/>
                  <a:pt x="978" y="9432"/>
                  <a:pt x="943" y="9525"/>
                </a:cubicBezTo>
                <a:cubicBezTo>
                  <a:pt x="914" y="9601"/>
                  <a:pt x="879" y="9669"/>
                  <a:pt x="868" y="9748"/>
                </a:cubicBezTo>
                <a:cubicBezTo>
                  <a:pt x="852" y="9865"/>
                  <a:pt x="874" y="9987"/>
                  <a:pt x="893" y="10096"/>
                </a:cubicBezTo>
                <a:cubicBezTo>
                  <a:pt x="907" y="10174"/>
                  <a:pt x="931" y="10245"/>
                  <a:pt x="967" y="10319"/>
                </a:cubicBezTo>
                <a:cubicBezTo>
                  <a:pt x="1013" y="10415"/>
                  <a:pt x="1054" y="10444"/>
                  <a:pt x="1116" y="10517"/>
                </a:cubicBezTo>
                <a:cubicBezTo>
                  <a:pt x="1197" y="10613"/>
                  <a:pt x="1305" y="10679"/>
                  <a:pt x="1414" y="10740"/>
                </a:cubicBezTo>
                <a:cubicBezTo>
                  <a:pt x="1522" y="10800"/>
                  <a:pt x="1625" y="10840"/>
                  <a:pt x="1736" y="10889"/>
                </a:cubicBezTo>
                <a:cubicBezTo>
                  <a:pt x="1911" y="10965"/>
                  <a:pt x="2097" y="11027"/>
                  <a:pt x="2282" y="11088"/>
                </a:cubicBezTo>
                <a:cubicBezTo>
                  <a:pt x="2444" y="11142"/>
                  <a:pt x="2613" y="11198"/>
                  <a:pt x="2778" y="11237"/>
                </a:cubicBezTo>
                <a:cubicBezTo>
                  <a:pt x="2982" y="11285"/>
                  <a:pt x="3173" y="11318"/>
                  <a:pt x="3373" y="11385"/>
                </a:cubicBezTo>
                <a:cubicBezTo>
                  <a:pt x="3609" y="11464"/>
                  <a:pt x="3870" y="11506"/>
                  <a:pt x="4118" y="11534"/>
                </a:cubicBezTo>
                <a:cubicBezTo>
                  <a:pt x="4349" y="11560"/>
                  <a:pt x="4577" y="11559"/>
                  <a:pt x="4812" y="11559"/>
                </a:cubicBezTo>
                <a:cubicBezTo>
                  <a:pt x="4978" y="11559"/>
                  <a:pt x="5173" y="11533"/>
                  <a:pt x="5333" y="11485"/>
                </a:cubicBezTo>
                <a:cubicBezTo>
                  <a:pt x="5477" y="11442"/>
                  <a:pt x="5589" y="11379"/>
                  <a:pt x="5705" y="11286"/>
                </a:cubicBezTo>
                <a:cubicBezTo>
                  <a:pt x="5901" y="11130"/>
                  <a:pt x="6091" y="10885"/>
                  <a:pt x="6152" y="10641"/>
                </a:cubicBezTo>
                <a:cubicBezTo>
                  <a:pt x="6193" y="10476"/>
                  <a:pt x="6228" y="10290"/>
                  <a:pt x="6226" y="10120"/>
                </a:cubicBezTo>
                <a:cubicBezTo>
                  <a:pt x="6224" y="9965"/>
                  <a:pt x="6172" y="9742"/>
                  <a:pt x="6127" y="9599"/>
                </a:cubicBezTo>
                <a:cubicBezTo>
                  <a:pt x="6069" y="9416"/>
                  <a:pt x="5948" y="9203"/>
                  <a:pt x="5829" y="9054"/>
                </a:cubicBezTo>
                <a:cubicBezTo>
                  <a:pt x="5690" y="8881"/>
                  <a:pt x="5493" y="8727"/>
                  <a:pt x="5308" y="8607"/>
                </a:cubicBezTo>
                <a:cubicBezTo>
                  <a:pt x="5113" y="8481"/>
                  <a:pt x="4929" y="8389"/>
                  <a:pt x="4713" y="8310"/>
                </a:cubicBezTo>
                <a:cubicBezTo>
                  <a:pt x="4550" y="8251"/>
                  <a:pt x="4384" y="8212"/>
                  <a:pt x="4217" y="8161"/>
                </a:cubicBezTo>
                <a:cubicBezTo>
                  <a:pt x="3927" y="8073"/>
                  <a:pt x="3628" y="8017"/>
                  <a:pt x="3324" y="8012"/>
                </a:cubicBezTo>
                <a:cubicBezTo>
                  <a:pt x="2876" y="8005"/>
                  <a:pt x="2537" y="8054"/>
                  <a:pt x="2108" y="8186"/>
                </a:cubicBezTo>
                <a:cubicBezTo>
                  <a:pt x="1844" y="8267"/>
                  <a:pt x="1625" y="8330"/>
                  <a:pt x="1389" y="8483"/>
                </a:cubicBezTo>
                <a:cubicBezTo>
                  <a:pt x="1194" y="8609"/>
                  <a:pt x="975" y="8785"/>
                  <a:pt x="843" y="8979"/>
                </a:cubicBezTo>
                <a:cubicBezTo>
                  <a:pt x="739" y="9133"/>
                  <a:pt x="667" y="9389"/>
                  <a:pt x="670" y="9575"/>
                </a:cubicBezTo>
                <a:cubicBezTo>
                  <a:pt x="695" y="9748"/>
                  <a:pt x="703" y="9806"/>
                  <a:pt x="719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Csc x + 2 = 0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Ink 5"/>
          <p:cNvSpPr/>
          <p:nvPr/>
        </p:nvSpPr>
        <p:spPr>
          <a:xfrm>
            <a:off x="1224000" y="6777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398" y="18827"/>
                </a:moveTo>
                <a:lnTo>
                  <a:pt x="3398" y="1882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Ink 6"/>
          <p:cNvSpPr/>
          <p:nvPr/>
        </p:nvSpPr>
        <p:spPr>
          <a:xfrm>
            <a:off x="2562120" y="1482840"/>
            <a:ext cx="2644920" cy="723960"/>
          </a:xfrm>
          <a:custGeom>
            <a:avLst/>
            <a:gdLst/>
            <a:ahLst/>
            <a:rect l="l" t="t" r="r" b="b"/>
            <a:pathLst>
              <a:path w="7343" h="2010">
                <a:moveTo>
                  <a:pt x="7392" y="4366"/>
                </a:moveTo>
                <a:cubicBezTo>
                  <a:pt x="7384" y="4472"/>
                  <a:pt x="7351" y="4557"/>
                  <a:pt x="7342" y="4663"/>
                </a:cubicBezTo>
                <a:cubicBezTo>
                  <a:pt x="7324" y="4861"/>
                  <a:pt x="7304" y="5066"/>
                  <a:pt x="7268" y="5259"/>
                </a:cubicBezTo>
                <a:cubicBezTo>
                  <a:pt x="7248" y="5368"/>
                  <a:pt x="7213" y="5472"/>
                  <a:pt x="7193" y="5581"/>
                </a:cubicBezTo>
                <a:cubicBezTo>
                  <a:pt x="7181" y="5646"/>
                  <a:pt x="7180" y="5721"/>
                  <a:pt x="7144" y="5779"/>
                </a:cubicBezTo>
                <a:cubicBezTo>
                  <a:pt x="7116" y="5807"/>
                  <a:pt x="7107" y="5811"/>
                  <a:pt x="7119" y="5755"/>
                </a:cubicBezTo>
              </a:path>
              <a:path w="7343" h="2010">
                <a:moveTo>
                  <a:pt x="8409" y="4291"/>
                </a:moveTo>
                <a:cubicBezTo>
                  <a:pt x="8387" y="4369"/>
                  <a:pt x="8309" y="4428"/>
                  <a:pt x="8260" y="4514"/>
                </a:cubicBezTo>
                <a:cubicBezTo>
                  <a:pt x="8197" y="4626"/>
                  <a:pt x="8132" y="4767"/>
                  <a:pt x="8086" y="4887"/>
                </a:cubicBezTo>
                <a:cubicBezTo>
                  <a:pt x="8008" y="5091"/>
                  <a:pt x="7932" y="5264"/>
                  <a:pt x="7838" y="5457"/>
                </a:cubicBezTo>
                <a:cubicBezTo>
                  <a:pt x="7777" y="5582"/>
                  <a:pt x="7706" y="5707"/>
                  <a:pt x="7640" y="5829"/>
                </a:cubicBezTo>
                <a:cubicBezTo>
                  <a:pt x="7599" y="5906"/>
                  <a:pt x="7565" y="5999"/>
                  <a:pt x="7491" y="6052"/>
                </a:cubicBezTo>
                <a:cubicBezTo>
                  <a:pt x="7461" y="6082"/>
                  <a:pt x="7456" y="6084"/>
                  <a:pt x="7491" y="6028"/>
                </a:cubicBezTo>
              </a:path>
              <a:path w="7343" h="2010">
                <a:moveTo>
                  <a:pt x="8706" y="4911"/>
                </a:moveTo>
                <a:cubicBezTo>
                  <a:pt x="8607" y="4938"/>
                  <a:pt x="8570" y="4963"/>
                  <a:pt x="8483" y="5011"/>
                </a:cubicBezTo>
                <a:cubicBezTo>
                  <a:pt x="8424" y="5043"/>
                  <a:pt x="8363" y="5070"/>
                  <a:pt x="8310" y="5110"/>
                </a:cubicBezTo>
                <a:cubicBezTo>
                  <a:pt x="8302" y="5118"/>
                  <a:pt x="8293" y="5127"/>
                  <a:pt x="8285" y="5135"/>
                </a:cubicBezTo>
                <a:cubicBezTo>
                  <a:pt x="8348" y="5224"/>
                  <a:pt x="8485" y="5291"/>
                  <a:pt x="8582" y="5383"/>
                </a:cubicBezTo>
                <a:cubicBezTo>
                  <a:pt x="8648" y="5445"/>
                  <a:pt x="8721" y="5462"/>
                  <a:pt x="8731" y="5556"/>
                </a:cubicBezTo>
                <a:cubicBezTo>
                  <a:pt x="8737" y="5613"/>
                  <a:pt x="8686" y="5666"/>
                  <a:pt x="8632" y="5680"/>
                </a:cubicBezTo>
                <a:cubicBezTo>
                  <a:pt x="8536" y="5705"/>
                  <a:pt x="8436" y="5730"/>
                  <a:pt x="8334" y="5730"/>
                </a:cubicBezTo>
                <a:cubicBezTo>
                  <a:pt x="8258" y="5730"/>
                  <a:pt x="8269" y="5721"/>
                  <a:pt x="8260" y="5655"/>
                </a:cubicBezTo>
              </a:path>
              <a:path w="7343" h="2010">
                <a:moveTo>
                  <a:pt x="8954" y="5110"/>
                </a:moveTo>
                <a:cubicBezTo>
                  <a:pt x="8954" y="5233"/>
                  <a:pt x="8943" y="5339"/>
                  <a:pt x="8930" y="5457"/>
                </a:cubicBezTo>
                <a:cubicBezTo>
                  <a:pt x="8921" y="5541"/>
                  <a:pt x="8910" y="5624"/>
                  <a:pt x="8905" y="5705"/>
                </a:cubicBezTo>
                <a:cubicBezTo>
                  <a:pt x="8905" y="5755"/>
                  <a:pt x="8905" y="5772"/>
                  <a:pt x="8905" y="5705"/>
                </a:cubicBezTo>
              </a:path>
              <a:path w="7343" h="2010">
                <a:moveTo>
                  <a:pt x="9054" y="4887"/>
                </a:moveTo>
                <a:cubicBezTo>
                  <a:pt x="9091" y="4830"/>
                  <a:pt x="9086" y="4805"/>
                  <a:pt x="9128" y="4812"/>
                </a:cubicBezTo>
              </a:path>
              <a:path w="7343" h="2010">
                <a:moveTo>
                  <a:pt x="9227" y="5457"/>
                </a:moveTo>
                <a:cubicBezTo>
                  <a:pt x="9218" y="5599"/>
                  <a:pt x="9233" y="5559"/>
                  <a:pt x="9178" y="5655"/>
                </a:cubicBezTo>
                <a:cubicBezTo>
                  <a:pt x="9143" y="5564"/>
                  <a:pt x="9167" y="5522"/>
                  <a:pt x="9178" y="5432"/>
                </a:cubicBezTo>
                <a:cubicBezTo>
                  <a:pt x="9193" y="5313"/>
                  <a:pt x="9246" y="5241"/>
                  <a:pt x="9302" y="5135"/>
                </a:cubicBezTo>
                <a:cubicBezTo>
                  <a:pt x="9356" y="5033"/>
                  <a:pt x="9429" y="5050"/>
                  <a:pt x="9525" y="5060"/>
                </a:cubicBezTo>
                <a:cubicBezTo>
                  <a:pt x="9609" y="5068"/>
                  <a:pt x="9653" y="5120"/>
                  <a:pt x="9674" y="5209"/>
                </a:cubicBezTo>
                <a:cubicBezTo>
                  <a:pt x="9710" y="5358"/>
                  <a:pt x="9676" y="5571"/>
                  <a:pt x="9649" y="5705"/>
                </a:cubicBezTo>
                <a:cubicBezTo>
                  <a:pt x="9642" y="5738"/>
                  <a:pt x="9629" y="5864"/>
                  <a:pt x="9599" y="5804"/>
                </a:cubicBezTo>
              </a:path>
              <a:path w="7343" h="2010">
                <a:moveTo>
                  <a:pt x="10269" y="4539"/>
                </a:moveTo>
                <a:cubicBezTo>
                  <a:pt x="10208" y="4612"/>
                  <a:pt x="10138" y="4701"/>
                  <a:pt x="10096" y="4787"/>
                </a:cubicBezTo>
                <a:cubicBezTo>
                  <a:pt x="10028" y="4927"/>
                  <a:pt x="9940" y="5104"/>
                  <a:pt x="9922" y="5259"/>
                </a:cubicBezTo>
                <a:cubicBezTo>
                  <a:pt x="9909" y="5371"/>
                  <a:pt x="9912" y="5548"/>
                  <a:pt x="9947" y="5655"/>
                </a:cubicBezTo>
                <a:cubicBezTo>
                  <a:pt x="9972" y="5731"/>
                  <a:pt x="10047" y="5922"/>
                  <a:pt x="10145" y="5928"/>
                </a:cubicBezTo>
                <a:cubicBezTo>
                  <a:pt x="10216" y="5894"/>
                  <a:pt x="10251" y="5872"/>
                  <a:pt x="10294" y="5829"/>
                </a:cubicBezTo>
              </a:path>
              <a:path w="7343" h="2010">
                <a:moveTo>
                  <a:pt x="10468" y="4738"/>
                </a:moveTo>
                <a:cubicBezTo>
                  <a:pt x="10608" y="4691"/>
                  <a:pt x="10696" y="4663"/>
                  <a:pt x="10840" y="4663"/>
                </a:cubicBezTo>
                <a:cubicBezTo>
                  <a:pt x="10908" y="4663"/>
                  <a:pt x="10951" y="4659"/>
                  <a:pt x="11013" y="4638"/>
                </a:cubicBezTo>
              </a:path>
              <a:path w="7343" h="2010">
                <a:moveTo>
                  <a:pt x="10666" y="4812"/>
                </a:moveTo>
                <a:cubicBezTo>
                  <a:pt x="10657" y="4897"/>
                  <a:pt x="10623" y="5039"/>
                  <a:pt x="10691" y="5085"/>
                </a:cubicBezTo>
              </a:path>
              <a:path w="7343" h="2010">
                <a:moveTo>
                  <a:pt x="10840" y="4738"/>
                </a:moveTo>
                <a:cubicBezTo>
                  <a:pt x="10840" y="4860"/>
                  <a:pt x="10846" y="4947"/>
                  <a:pt x="10815" y="5060"/>
                </a:cubicBezTo>
              </a:path>
              <a:path w="7343" h="2010">
                <a:moveTo>
                  <a:pt x="11187" y="4539"/>
                </a:moveTo>
                <a:cubicBezTo>
                  <a:pt x="11154" y="4663"/>
                  <a:pt x="11103" y="4767"/>
                  <a:pt x="11063" y="4887"/>
                </a:cubicBezTo>
                <a:cubicBezTo>
                  <a:pt x="11018" y="5022"/>
                  <a:pt x="10958" y="5149"/>
                  <a:pt x="10914" y="5283"/>
                </a:cubicBezTo>
                <a:cubicBezTo>
                  <a:pt x="10883" y="5379"/>
                  <a:pt x="10865" y="5545"/>
                  <a:pt x="10815" y="5631"/>
                </a:cubicBezTo>
                <a:cubicBezTo>
                  <a:pt x="10795" y="5666"/>
                  <a:pt x="10775" y="5666"/>
                  <a:pt x="10765" y="5705"/>
                </a:cubicBezTo>
              </a:path>
              <a:path w="7343" h="2010">
                <a:moveTo>
                  <a:pt x="11212" y="5283"/>
                </a:moveTo>
                <a:cubicBezTo>
                  <a:pt x="11180" y="5387"/>
                  <a:pt x="11047" y="5598"/>
                  <a:pt x="11112" y="5705"/>
                </a:cubicBezTo>
                <a:cubicBezTo>
                  <a:pt x="11143" y="5756"/>
                  <a:pt x="11231" y="5781"/>
                  <a:pt x="11286" y="5755"/>
                </a:cubicBezTo>
                <a:cubicBezTo>
                  <a:pt x="11337" y="5730"/>
                  <a:pt x="11437" y="5657"/>
                  <a:pt x="11460" y="5606"/>
                </a:cubicBezTo>
                <a:cubicBezTo>
                  <a:pt x="11468" y="5581"/>
                  <a:pt x="11477" y="5556"/>
                  <a:pt x="11485" y="5531"/>
                </a:cubicBezTo>
                <a:cubicBezTo>
                  <a:pt x="11407" y="5522"/>
                  <a:pt x="11317" y="5546"/>
                  <a:pt x="11261" y="5631"/>
                </a:cubicBezTo>
                <a:cubicBezTo>
                  <a:pt x="11213" y="5704"/>
                  <a:pt x="11243" y="5765"/>
                  <a:pt x="11286" y="5829"/>
                </a:cubicBezTo>
              </a:path>
              <a:path w="7343" h="2010">
                <a:moveTo>
                  <a:pt x="11460" y="4118"/>
                </a:moveTo>
                <a:cubicBezTo>
                  <a:pt x="11593" y="4165"/>
                  <a:pt x="11636" y="4239"/>
                  <a:pt x="11708" y="4366"/>
                </a:cubicBezTo>
                <a:cubicBezTo>
                  <a:pt x="11803" y="4534"/>
                  <a:pt x="11865" y="4730"/>
                  <a:pt x="11931" y="4911"/>
                </a:cubicBezTo>
                <a:cubicBezTo>
                  <a:pt x="11985" y="5060"/>
                  <a:pt x="12028" y="5272"/>
                  <a:pt x="12005" y="5432"/>
                </a:cubicBezTo>
                <a:cubicBezTo>
                  <a:pt x="11978" y="5617"/>
                  <a:pt x="11902" y="5706"/>
                  <a:pt x="11807" y="5854"/>
                </a:cubicBezTo>
                <a:cubicBezTo>
                  <a:pt x="11752" y="5939"/>
                  <a:pt x="11689" y="5996"/>
                  <a:pt x="11609" y="6052"/>
                </a:cubicBezTo>
                <a:cubicBezTo>
                  <a:pt x="11597" y="6061"/>
                  <a:pt x="11478" y="6164"/>
                  <a:pt x="11460" y="6127"/>
                </a:cubicBezTo>
                <a:cubicBezTo>
                  <a:pt x="11468" y="6110"/>
                  <a:pt x="11477" y="6094"/>
                  <a:pt x="11485" y="6077"/>
                </a:cubicBezTo>
              </a:path>
              <a:path w="7343" h="2010">
                <a:moveTo>
                  <a:pt x="12849" y="4837"/>
                </a:moveTo>
                <a:cubicBezTo>
                  <a:pt x="12849" y="4990"/>
                  <a:pt x="12831" y="5133"/>
                  <a:pt x="12824" y="5283"/>
                </a:cubicBezTo>
                <a:cubicBezTo>
                  <a:pt x="12821" y="5353"/>
                  <a:pt x="12887" y="5464"/>
                  <a:pt x="12849" y="5531"/>
                </a:cubicBezTo>
                <a:cubicBezTo>
                  <a:pt x="12841" y="5531"/>
                  <a:pt x="12832" y="5531"/>
                  <a:pt x="12824" y="5531"/>
                </a:cubicBezTo>
              </a:path>
              <a:path w="7343" h="2010">
                <a:moveTo>
                  <a:pt x="12526" y="5308"/>
                </a:moveTo>
                <a:cubicBezTo>
                  <a:pt x="12655" y="5308"/>
                  <a:pt x="12773" y="5294"/>
                  <a:pt x="12898" y="5283"/>
                </a:cubicBezTo>
                <a:cubicBezTo>
                  <a:pt x="12931" y="5283"/>
                  <a:pt x="12965" y="5283"/>
                  <a:pt x="12998" y="5283"/>
                </a:cubicBezTo>
              </a:path>
              <a:path w="7343" h="2010">
                <a:moveTo>
                  <a:pt x="13519" y="4638"/>
                </a:moveTo>
                <a:cubicBezTo>
                  <a:pt x="13642" y="4550"/>
                  <a:pt x="13669" y="4539"/>
                  <a:pt x="13816" y="4539"/>
                </a:cubicBezTo>
                <a:cubicBezTo>
                  <a:pt x="13928" y="4539"/>
                  <a:pt x="14031" y="4560"/>
                  <a:pt x="14089" y="4663"/>
                </a:cubicBezTo>
                <a:cubicBezTo>
                  <a:pt x="14144" y="4761"/>
                  <a:pt x="14071" y="4880"/>
                  <a:pt x="14015" y="4961"/>
                </a:cubicBezTo>
                <a:cubicBezTo>
                  <a:pt x="13892" y="5140"/>
                  <a:pt x="13729" y="5315"/>
                  <a:pt x="13568" y="5457"/>
                </a:cubicBezTo>
                <a:cubicBezTo>
                  <a:pt x="13515" y="5503"/>
                  <a:pt x="13410" y="5605"/>
                  <a:pt x="13395" y="5680"/>
                </a:cubicBezTo>
                <a:cubicBezTo>
                  <a:pt x="13379" y="5758"/>
                  <a:pt x="13481" y="5830"/>
                  <a:pt x="13543" y="5854"/>
                </a:cubicBezTo>
                <a:cubicBezTo>
                  <a:pt x="13657" y="5898"/>
                  <a:pt x="13795" y="5897"/>
                  <a:pt x="13915" y="5928"/>
                </a:cubicBezTo>
                <a:cubicBezTo>
                  <a:pt x="14034" y="5959"/>
                  <a:pt x="14148" y="5953"/>
                  <a:pt x="14263" y="5978"/>
                </a:cubicBezTo>
                <a:cubicBezTo>
                  <a:pt x="14333" y="5993"/>
                  <a:pt x="14409" y="6078"/>
                  <a:pt x="14461" y="6028"/>
                </a:cubicBezTo>
                <a:cubicBezTo>
                  <a:pt x="14421" y="6008"/>
                  <a:pt x="14415" y="5999"/>
                  <a:pt x="14387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Ink 7"/>
          <p:cNvSpPr/>
          <p:nvPr/>
        </p:nvSpPr>
        <p:spPr>
          <a:xfrm>
            <a:off x="3357720" y="1482840"/>
            <a:ext cx="2206440" cy="2446200"/>
          </a:xfrm>
          <a:custGeom>
            <a:avLst/>
            <a:gdLst/>
            <a:ahLst/>
            <a:rect l="l" t="t" r="r" b="b"/>
            <a:pathLst>
              <a:path w="6127" h="6797">
                <a:moveTo>
                  <a:pt x="9823" y="4118"/>
                </a:moveTo>
                <a:cubicBezTo>
                  <a:pt x="9823" y="4312"/>
                  <a:pt x="9837" y="4496"/>
                  <a:pt x="9847" y="4688"/>
                </a:cubicBezTo>
                <a:cubicBezTo>
                  <a:pt x="9858" y="4886"/>
                  <a:pt x="9869" y="5085"/>
                  <a:pt x="9872" y="5283"/>
                </a:cubicBezTo>
                <a:cubicBezTo>
                  <a:pt x="9877" y="5581"/>
                  <a:pt x="9897" y="5876"/>
                  <a:pt x="9897" y="6176"/>
                </a:cubicBezTo>
                <a:cubicBezTo>
                  <a:pt x="9897" y="6468"/>
                  <a:pt x="9906" y="6756"/>
                  <a:pt x="9922" y="7045"/>
                </a:cubicBezTo>
                <a:cubicBezTo>
                  <a:pt x="9932" y="7219"/>
                  <a:pt x="9921" y="7393"/>
                  <a:pt x="9947" y="7565"/>
                </a:cubicBezTo>
                <a:cubicBezTo>
                  <a:pt x="9961" y="7655"/>
                  <a:pt x="10025" y="7776"/>
                  <a:pt x="10021" y="7863"/>
                </a:cubicBezTo>
                <a:cubicBezTo>
                  <a:pt x="10013" y="7871"/>
                  <a:pt x="10004" y="7880"/>
                  <a:pt x="9996" y="7888"/>
                </a:cubicBezTo>
              </a:path>
              <a:path w="6127" h="6797">
                <a:moveTo>
                  <a:pt x="9525" y="7665"/>
                </a:moveTo>
                <a:cubicBezTo>
                  <a:pt x="9525" y="7738"/>
                  <a:pt x="9526" y="7803"/>
                  <a:pt x="9575" y="7863"/>
                </a:cubicBezTo>
                <a:cubicBezTo>
                  <a:pt x="9646" y="7949"/>
                  <a:pt x="9718" y="8016"/>
                  <a:pt x="9798" y="8086"/>
                </a:cubicBezTo>
                <a:cubicBezTo>
                  <a:pt x="9842" y="8125"/>
                  <a:pt x="9898" y="8227"/>
                  <a:pt x="9971" y="8210"/>
                </a:cubicBezTo>
                <a:cubicBezTo>
                  <a:pt x="10042" y="8194"/>
                  <a:pt x="10092" y="8092"/>
                  <a:pt x="10120" y="8037"/>
                </a:cubicBezTo>
                <a:cubicBezTo>
                  <a:pt x="10180" y="7918"/>
                  <a:pt x="10277" y="7771"/>
                  <a:pt x="10393" y="7689"/>
                </a:cubicBezTo>
                <a:cubicBezTo>
                  <a:pt x="10426" y="7673"/>
                  <a:pt x="10459" y="7656"/>
                  <a:pt x="10492" y="7640"/>
                </a:cubicBezTo>
              </a:path>
              <a:path w="6127" h="6797">
                <a:moveTo>
                  <a:pt x="9798" y="8334"/>
                </a:moveTo>
                <a:cubicBezTo>
                  <a:pt x="9798" y="8467"/>
                  <a:pt x="9765" y="8663"/>
                  <a:pt x="9823" y="8781"/>
                </a:cubicBezTo>
                <a:cubicBezTo>
                  <a:pt x="9831" y="8789"/>
                  <a:pt x="9839" y="8798"/>
                  <a:pt x="9847" y="8806"/>
                </a:cubicBezTo>
                <a:cubicBezTo>
                  <a:pt x="9847" y="8739"/>
                  <a:pt x="9880" y="8589"/>
                  <a:pt x="9798" y="8558"/>
                </a:cubicBezTo>
                <a:cubicBezTo>
                  <a:pt x="9716" y="8527"/>
                  <a:pt x="9576" y="8598"/>
                  <a:pt x="9525" y="8657"/>
                </a:cubicBezTo>
                <a:cubicBezTo>
                  <a:pt x="9458" y="8734"/>
                  <a:pt x="9387" y="8811"/>
                  <a:pt x="9351" y="8905"/>
                </a:cubicBezTo>
                <a:cubicBezTo>
                  <a:pt x="9322" y="8982"/>
                  <a:pt x="9310" y="9095"/>
                  <a:pt x="9327" y="9178"/>
                </a:cubicBezTo>
                <a:cubicBezTo>
                  <a:pt x="9349" y="9286"/>
                  <a:pt x="9450" y="9390"/>
                  <a:pt x="9550" y="9426"/>
                </a:cubicBezTo>
                <a:cubicBezTo>
                  <a:pt x="9695" y="9478"/>
                  <a:pt x="9767" y="9489"/>
                  <a:pt x="9897" y="9451"/>
                </a:cubicBezTo>
              </a:path>
              <a:path w="6127" h="6797">
                <a:moveTo>
                  <a:pt x="10393" y="8582"/>
                </a:moveTo>
                <a:cubicBezTo>
                  <a:pt x="10280" y="8565"/>
                  <a:pt x="10220" y="8575"/>
                  <a:pt x="10120" y="8632"/>
                </a:cubicBezTo>
                <a:cubicBezTo>
                  <a:pt x="10000" y="8700"/>
                  <a:pt x="10106" y="8771"/>
                  <a:pt x="10170" y="8830"/>
                </a:cubicBezTo>
                <a:cubicBezTo>
                  <a:pt x="10250" y="8904"/>
                  <a:pt x="10351" y="9026"/>
                  <a:pt x="10393" y="9128"/>
                </a:cubicBezTo>
                <a:cubicBezTo>
                  <a:pt x="10425" y="9206"/>
                  <a:pt x="10421" y="9342"/>
                  <a:pt x="10319" y="9376"/>
                </a:cubicBezTo>
                <a:cubicBezTo>
                  <a:pt x="10249" y="9399"/>
                  <a:pt x="10172" y="9401"/>
                  <a:pt x="10096" y="9401"/>
                </a:cubicBezTo>
                <a:cubicBezTo>
                  <a:pt x="10083" y="9401"/>
                  <a:pt x="9937" y="9380"/>
                  <a:pt x="9947" y="9351"/>
                </a:cubicBezTo>
                <a:cubicBezTo>
                  <a:pt x="9963" y="9326"/>
                  <a:pt x="9980" y="9302"/>
                  <a:pt x="9996" y="9277"/>
                </a:cubicBezTo>
              </a:path>
              <a:path w="6127" h="6797">
                <a:moveTo>
                  <a:pt x="10988" y="8781"/>
                </a:moveTo>
                <a:cubicBezTo>
                  <a:pt x="10953" y="8681"/>
                  <a:pt x="10931" y="8584"/>
                  <a:pt x="10815" y="8558"/>
                </a:cubicBezTo>
                <a:cubicBezTo>
                  <a:pt x="10761" y="8546"/>
                  <a:pt x="10608" y="8595"/>
                  <a:pt x="10567" y="8632"/>
                </a:cubicBezTo>
                <a:cubicBezTo>
                  <a:pt x="10509" y="8684"/>
                  <a:pt x="10437" y="8823"/>
                  <a:pt x="10443" y="8905"/>
                </a:cubicBezTo>
                <a:cubicBezTo>
                  <a:pt x="10453" y="9035"/>
                  <a:pt x="10480" y="9116"/>
                  <a:pt x="10567" y="9203"/>
                </a:cubicBezTo>
                <a:cubicBezTo>
                  <a:pt x="10693" y="9329"/>
                  <a:pt x="10749" y="9410"/>
                  <a:pt x="10939" y="9451"/>
                </a:cubicBezTo>
                <a:cubicBezTo>
                  <a:pt x="11013" y="9451"/>
                  <a:pt x="11038" y="9451"/>
                  <a:pt x="11088" y="9451"/>
                </a:cubicBezTo>
              </a:path>
              <a:path w="6127" h="6797">
                <a:moveTo>
                  <a:pt x="11460" y="8731"/>
                </a:moveTo>
                <a:cubicBezTo>
                  <a:pt x="11511" y="8816"/>
                  <a:pt x="11566" y="8913"/>
                  <a:pt x="11633" y="9004"/>
                </a:cubicBezTo>
                <a:cubicBezTo>
                  <a:pt x="11736" y="9143"/>
                  <a:pt x="11832" y="9260"/>
                  <a:pt x="11956" y="9376"/>
                </a:cubicBezTo>
                <a:cubicBezTo>
                  <a:pt x="12028" y="9444"/>
                  <a:pt x="12080" y="9530"/>
                  <a:pt x="12179" y="9550"/>
                </a:cubicBezTo>
              </a:path>
              <a:path w="6127" h="6797">
                <a:moveTo>
                  <a:pt x="11931" y="8706"/>
                </a:moveTo>
                <a:cubicBezTo>
                  <a:pt x="11780" y="8891"/>
                  <a:pt x="11666" y="9025"/>
                  <a:pt x="11559" y="9227"/>
                </a:cubicBezTo>
                <a:cubicBezTo>
                  <a:pt x="11517" y="9305"/>
                  <a:pt x="11453" y="9389"/>
                  <a:pt x="11435" y="9475"/>
                </a:cubicBezTo>
              </a:path>
              <a:path w="6127" h="6797">
                <a:moveTo>
                  <a:pt x="12526" y="8706"/>
                </a:moveTo>
                <a:cubicBezTo>
                  <a:pt x="12540" y="8911"/>
                  <a:pt x="12527" y="9150"/>
                  <a:pt x="12576" y="9351"/>
                </a:cubicBezTo>
                <a:cubicBezTo>
                  <a:pt x="12599" y="9443"/>
                  <a:pt x="12605" y="9468"/>
                  <a:pt x="12626" y="9525"/>
                </a:cubicBezTo>
              </a:path>
              <a:path w="6127" h="6797">
                <a:moveTo>
                  <a:pt x="12254" y="9029"/>
                </a:moveTo>
                <a:cubicBezTo>
                  <a:pt x="12376" y="9060"/>
                  <a:pt x="12499" y="9076"/>
                  <a:pt x="12626" y="9079"/>
                </a:cubicBezTo>
                <a:cubicBezTo>
                  <a:pt x="12735" y="9079"/>
                  <a:pt x="12762" y="9084"/>
                  <a:pt x="12824" y="9054"/>
                </a:cubicBezTo>
              </a:path>
              <a:path w="6127" h="6797">
                <a:moveTo>
                  <a:pt x="13171" y="8434"/>
                </a:moveTo>
                <a:cubicBezTo>
                  <a:pt x="13241" y="8384"/>
                  <a:pt x="13328" y="8285"/>
                  <a:pt x="13419" y="8359"/>
                </a:cubicBezTo>
                <a:cubicBezTo>
                  <a:pt x="13567" y="8480"/>
                  <a:pt x="13517" y="8571"/>
                  <a:pt x="13469" y="8731"/>
                </a:cubicBezTo>
                <a:cubicBezTo>
                  <a:pt x="13436" y="8839"/>
                  <a:pt x="13317" y="8910"/>
                  <a:pt x="13246" y="9004"/>
                </a:cubicBezTo>
                <a:cubicBezTo>
                  <a:pt x="13156" y="9124"/>
                  <a:pt x="13103" y="9180"/>
                  <a:pt x="13097" y="9327"/>
                </a:cubicBezTo>
                <a:cubicBezTo>
                  <a:pt x="13092" y="9446"/>
                  <a:pt x="13145" y="9507"/>
                  <a:pt x="13246" y="9550"/>
                </a:cubicBezTo>
                <a:cubicBezTo>
                  <a:pt x="13408" y="9619"/>
                  <a:pt x="13499" y="9597"/>
                  <a:pt x="13643" y="9525"/>
                </a:cubicBezTo>
              </a:path>
              <a:path w="6127" h="6797">
                <a:moveTo>
                  <a:pt x="13866" y="8954"/>
                </a:moveTo>
                <a:cubicBezTo>
                  <a:pt x="13958" y="8936"/>
                  <a:pt x="14067" y="8912"/>
                  <a:pt x="14163" y="8930"/>
                </a:cubicBezTo>
                <a:cubicBezTo>
                  <a:pt x="14285" y="8953"/>
                  <a:pt x="14253" y="8988"/>
                  <a:pt x="14312" y="8880"/>
                </a:cubicBezTo>
              </a:path>
              <a:path w="6127" h="6797">
                <a:moveTo>
                  <a:pt x="13891" y="9203"/>
                </a:moveTo>
                <a:cubicBezTo>
                  <a:pt x="14081" y="9226"/>
                  <a:pt x="14138" y="9234"/>
                  <a:pt x="14263" y="9227"/>
                </a:cubicBezTo>
              </a:path>
              <a:path w="6127" h="6797">
                <a:moveTo>
                  <a:pt x="14709" y="8558"/>
                </a:moveTo>
                <a:cubicBezTo>
                  <a:pt x="14652" y="8648"/>
                  <a:pt x="14620" y="8727"/>
                  <a:pt x="14610" y="8830"/>
                </a:cubicBezTo>
                <a:cubicBezTo>
                  <a:pt x="14596" y="8965"/>
                  <a:pt x="14614" y="9061"/>
                  <a:pt x="14660" y="9178"/>
                </a:cubicBezTo>
                <a:cubicBezTo>
                  <a:pt x="14693" y="9264"/>
                  <a:pt x="14772" y="9377"/>
                  <a:pt x="14858" y="9426"/>
                </a:cubicBezTo>
                <a:cubicBezTo>
                  <a:pt x="14944" y="9475"/>
                  <a:pt x="15129" y="9461"/>
                  <a:pt x="15205" y="9401"/>
                </a:cubicBezTo>
                <a:cubicBezTo>
                  <a:pt x="15321" y="9310"/>
                  <a:pt x="15370" y="9137"/>
                  <a:pt x="15404" y="9004"/>
                </a:cubicBezTo>
                <a:cubicBezTo>
                  <a:pt x="15432" y="8895"/>
                  <a:pt x="15473" y="8766"/>
                  <a:pt x="15429" y="8657"/>
                </a:cubicBezTo>
                <a:cubicBezTo>
                  <a:pt x="15396" y="8575"/>
                  <a:pt x="15285" y="8464"/>
                  <a:pt x="15205" y="8434"/>
                </a:cubicBezTo>
                <a:cubicBezTo>
                  <a:pt x="15134" y="8407"/>
                  <a:pt x="14969" y="8388"/>
                  <a:pt x="14908" y="8458"/>
                </a:cubicBezTo>
                <a:cubicBezTo>
                  <a:pt x="14891" y="8491"/>
                  <a:pt x="14875" y="8525"/>
                  <a:pt x="14858" y="8558"/>
                </a:cubicBezTo>
              </a:path>
              <a:path w="6127" h="6797">
                <a:moveTo>
                  <a:pt x="12204" y="10294"/>
                </a:moveTo>
                <a:cubicBezTo>
                  <a:pt x="12361" y="10294"/>
                  <a:pt x="12436" y="10290"/>
                  <a:pt x="12551" y="10269"/>
                </a:cubicBezTo>
              </a:path>
              <a:path w="6127" h="6797">
                <a:moveTo>
                  <a:pt x="12973" y="9872"/>
                </a:moveTo>
                <a:cubicBezTo>
                  <a:pt x="13039" y="9875"/>
                  <a:pt x="13268" y="9866"/>
                  <a:pt x="13320" y="9947"/>
                </a:cubicBezTo>
                <a:cubicBezTo>
                  <a:pt x="13392" y="10058"/>
                  <a:pt x="13196" y="10194"/>
                  <a:pt x="13146" y="10244"/>
                </a:cubicBezTo>
                <a:cubicBezTo>
                  <a:pt x="13063" y="10327"/>
                  <a:pt x="12980" y="10409"/>
                  <a:pt x="12898" y="10492"/>
                </a:cubicBezTo>
                <a:cubicBezTo>
                  <a:pt x="12854" y="10536"/>
                  <a:pt x="12878" y="10624"/>
                  <a:pt x="12923" y="10666"/>
                </a:cubicBezTo>
                <a:cubicBezTo>
                  <a:pt x="12999" y="10736"/>
                  <a:pt x="13119" y="10777"/>
                  <a:pt x="13221" y="10765"/>
                </a:cubicBezTo>
                <a:cubicBezTo>
                  <a:pt x="13254" y="10757"/>
                  <a:pt x="13287" y="10748"/>
                  <a:pt x="13320" y="10740"/>
                </a:cubicBezTo>
              </a:path>
              <a:path w="6127" h="6797">
                <a:moveTo>
                  <a:pt x="14064" y="10319"/>
                </a:moveTo>
                <a:cubicBezTo>
                  <a:pt x="14163" y="10302"/>
                  <a:pt x="14263" y="10286"/>
                  <a:pt x="14362" y="10269"/>
                </a:cubicBezTo>
              </a:path>
              <a:path w="6127" h="6797">
                <a:moveTo>
                  <a:pt x="14883" y="9872"/>
                </a:moveTo>
                <a:cubicBezTo>
                  <a:pt x="15049" y="9853"/>
                  <a:pt x="15153" y="9832"/>
                  <a:pt x="15304" y="9897"/>
                </a:cubicBezTo>
                <a:cubicBezTo>
                  <a:pt x="15340" y="9913"/>
                  <a:pt x="15438" y="9995"/>
                  <a:pt x="15379" y="10046"/>
                </a:cubicBezTo>
                <a:cubicBezTo>
                  <a:pt x="15302" y="10113"/>
                  <a:pt x="15170" y="10182"/>
                  <a:pt x="15081" y="10244"/>
                </a:cubicBezTo>
                <a:cubicBezTo>
                  <a:pt x="14980" y="10315"/>
                  <a:pt x="14865" y="10337"/>
                  <a:pt x="14784" y="10443"/>
                </a:cubicBezTo>
                <a:cubicBezTo>
                  <a:pt x="14718" y="10529"/>
                  <a:pt x="14784" y="10598"/>
                  <a:pt x="14833" y="10666"/>
                </a:cubicBezTo>
                <a:cubicBezTo>
                  <a:pt x="14929" y="10801"/>
                  <a:pt x="15053" y="10849"/>
                  <a:pt x="15205" y="10889"/>
                </a:cubicBezTo>
                <a:cubicBezTo>
                  <a:pt x="15238" y="10897"/>
                  <a:pt x="15271" y="10906"/>
                  <a:pt x="15304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Ink 8"/>
          <p:cNvSpPr/>
          <p:nvPr/>
        </p:nvSpPr>
        <p:spPr>
          <a:xfrm>
            <a:off x="3813120" y="4027320"/>
            <a:ext cx="1670040" cy="428760"/>
          </a:xfrm>
          <a:custGeom>
            <a:avLst/>
            <a:gdLst/>
            <a:ahLst/>
            <a:rect l="l" t="t" r="r" b="b"/>
            <a:pathLst>
              <a:path w="4639" h="1192">
                <a:moveTo>
                  <a:pt x="11336" y="11212"/>
                </a:moveTo>
                <a:cubicBezTo>
                  <a:pt x="11295" y="11278"/>
                  <a:pt x="11256" y="11348"/>
                  <a:pt x="11212" y="11410"/>
                </a:cubicBezTo>
                <a:cubicBezTo>
                  <a:pt x="11184" y="11307"/>
                  <a:pt x="11180" y="11273"/>
                  <a:pt x="11088" y="11212"/>
                </a:cubicBezTo>
                <a:cubicBezTo>
                  <a:pt x="10984" y="11143"/>
                  <a:pt x="10892" y="11187"/>
                  <a:pt x="10815" y="11261"/>
                </a:cubicBezTo>
                <a:cubicBezTo>
                  <a:pt x="10712" y="11360"/>
                  <a:pt x="10660" y="11452"/>
                  <a:pt x="10616" y="11584"/>
                </a:cubicBezTo>
                <a:cubicBezTo>
                  <a:pt x="10583" y="11685"/>
                  <a:pt x="10585" y="11810"/>
                  <a:pt x="10641" y="11906"/>
                </a:cubicBezTo>
                <a:cubicBezTo>
                  <a:pt x="10695" y="11999"/>
                  <a:pt x="10865" y="12057"/>
                  <a:pt x="10964" y="12055"/>
                </a:cubicBezTo>
                <a:cubicBezTo>
                  <a:pt x="11038" y="12047"/>
                  <a:pt x="11113" y="12038"/>
                  <a:pt x="11187" y="12030"/>
                </a:cubicBezTo>
              </a:path>
              <a:path w="4639" h="1192">
                <a:moveTo>
                  <a:pt x="11857" y="11410"/>
                </a:moveTo>
                <a:cubicBezTo>
                  <a:pt x="11782" y="11410"/>
                  <a:pt x="11677" y="11406"/>
                  <a:pt x="11609" y="11435"/>
                </a:cubicBezTo>
                <a:cubicBezTo>
                  <a:pt x="11601" y="11443"/>
                  <a:pt x="11592" y="11452"/>
                  <a:pt x="11584" y="11460"/>
                </a:cubicBezTo>
                <a:cubicBezTo>
                  <a:pt x="11600" y="11605"/>
                  <a:pt x="11689" y="11665"/>
                  <a:pt x="11757" y="11782"/>
                </a:cubicBezTo>
                <a:cubicBezTo>
                  <a:pt x="11806" y="11866"/>
                  <a:pt x="11807" y="11962"/>
                  <a:pt x="11807" y="12055"/>
                </a:cubicBezTo>
                <a:cubicBezTo>
                  <a:pt x="11807" y="12148"/>
                  <a:pt x="11772" y="12174"/>
                  <a:pt x="11683" y="12179"/>
                </a:cubicBezTo>
                <a:cubicBezTo>
                  <a:pt x="11600" y="12184"/>
                  <a:pt x="11542" y="12134"/>
                  <a:pt x="11485" y="12080"/>
                </a:cubicBezTo>
                <a:cubicBezTo>
                  <a:pt x="11404" y="12004"/>
                  <a:pt x="11435" y="11918"/>
                  <a:pt x="11435" y="11807"/>
                </a:cubicBezTo>
              </a:path>
              <a:path w="4639" h="1192">
                <a:moveTo>
                  <a:pt x="12303" y="11559"/>
                </a:moveTo>
                <a:cubicBezTo>
                  <a:pt x="12303" y="11576"/>
                  <a:pt x="12303" y="11592"/>
                  <a:pt x="12303" y="11609"/>
                </a:cubicBezTo>
                <a:cubicBezTo>
                  <a:pt x="12217" y="11587"/>
                  <a:pt x="12233" y="11468"/>
                  <a:pt x="12179" y="11435"/>
                </a:cubicBezTo>
                <a:cubicBezTo>
                  <a:pt x="12103" y="11389"/>
                  <a:pt x="12004" y="11463"/>
                  <a:pt x="11956" y="11509"/>
                </a:cubicBezTo>
                <a:cubicBezTo>
                  <a:pt x="11850" y="11610"/>
                  <a:pt x="11812" y="11657"/>
                  <a:pt x="11807" y="11807"/>
                </a:cubicBezTo>
                <a:cubicBezTo>
                  <a:pt x="11802" y="11985"/>
                  <a:pt x="12008" y="12108"/>
                  <a:pt x="12154" y="12179"/>
                </a:cubicBezTo>
                <a:cubicBezTo>
                  <a:pt x="12258" y="12230"/>
                  <a:pt x="12346" y="12217"/>
                  <a:pt x="12452" y="12204"/>
                </a:cubicBezTo>
              </a:path>
              <a:path w="4639" h="1192">
                <a:moveTo>
                  <a:pt x="12626" y="11584"/>
                </a:moveTo>
                <a:cubicBezTo>
                  <a:pt x="12671" y="11768"/>
                  <a:pt x="12726" y="11899"/>
                  <a:pt x="12849" y="12055"/>
                </a:cubicBezTo>
                <a:cubicBezTo>
                  <a:pt x="12936" y="12165"/>
                  <a:pt x="13038" y="12214"/>
                  <a:pt x="13171" y="12229"/>
                </a:cubicBezTo>
              </a:path>
              <a:path w="4639" h="1192">
                <a:moveTo>
                  <a:pt x="13171" y="11410"/>
                </a:moveTo>
                <a:cubicBezTo>
                  <a:pt x="13002" y="11423"/>
                  <a:pt x="12947" y="11465"/>
                  <a:pt x="12824" y="11584"/>
                </a:cubicBezTo>
                <a:cubicBezTo>
                  <a:pt x="12688" y="11716"/>
                  <a:pt x="12599" y="11957"/>
                  <a:pt x="12526" y="12129"/>
                </a:cubicBezTo>
                <a:cubicBezTo>
                  <a:pt x="12500" y="12191"/>
                  <a:pt x="12470" y="12248"/>
                  <a:pt x="12526" y="12229"/>
                </a:cubicBezTo>
              </a:path>
              <a:path w="4639" h="1192">
                <a:moveTo>
                  <a:pt x="13469" y="11782"/>
                </a:moveTo>
                <a:cubicBezTo>
                  <a:pt x="13519" y="11782"/>
                  <a:pt x="13568" y="11782"/>
                  <a:pt x="13618" y="11782"/>
                </a:cubicBezTo>
              </a:path>
              <a:path w="4639" h="1192">
                <a:moveTo>
                  <a:pt x="13370" y="11981"/>
                </a:moveTo>
                <a:cubicBezTo>
                  <a:pt x="13476" y="12023"/>
                  <a:pt x="13497" y="12039"/>
                  <a:pt x="13568" y="12030"/>
                </a:cubicBezTo>
              </a:path>
              <a:path w="4639" h="1192">
                <a:moveTo>
                  <a:pt x="13990" y="11807"/>
                </a:moveTo>
                <a:cubicBezTo>
                  <a:pt x="14097" y="11807"/>
                  <a:pt x="14205" y="11807"/>
                  <a:pt x="14312" y="11807"/>
                </a:cubicBezTo>
              </a:path>
              <a:path w="4639" h="1192">
                <a:moveTo>
                  <a:pt x="14585" y="11435"/>
                </a:moveTo>
                <a:cubicBezTo>
                  <a:pt x="14675" y="11345"/>
                  <a:pt x="14692" y="11289"/>
                  <a:pt x="14833" y="11311"/>
                </a:cubicBezTo>
                <a:cubicBezTo>
                  <a:pt x="14889" y="11320"/>
                  <a:pt x="14964" y="11376"/>
                  <a:pt x="15007" y="11410"/>
                </a:cubicBezTo>
                <a:cubicBezTo>
                  <a:pt x="14970" y="11529"/>
                  <a:pt x="14913" y="11670"/>
                  <a:pt x="14808" y="11757"/>
                </a:cubicBezTo>
                <a:cubicBezTo>
                  <a:pt x="14715" y="11834"/>
                  <a:pt x="14559" y="11942"/>
                  <a:pt x="14486" y="12030"/>
                </a:cubicBezTo>
                <a:cubicBezTo>
                  <a:pt x="14463" y="12058"/>
                  <a:pt x="14405" y="12190"/>
                  <a:pt x="14412" y="12229"/>
                </a:cubicBezTo>
                <a:cubicBezTo>
                  <a:pt x="14434" y="12356"/>
                  <a:pt x="14517" y="12326"/>
                  <a:pt x="14610" y="12353"/>
                </a:cubicBezTo>
                <a:cubicBezTo>
                  <a:pt x="14702" y="12379"/>
                  <a:pt x="14784" y="12378"/>
                  <a:pt x="14883" y="12378"/>
                </a:cubicBezTo>
                <a:cubicBezTo>
                  <a:pt x="14965" y="12378"/>
                  <a:pt x="15221" y="12400"/>
                  <a:pt x="15205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Ink 9"/>
          <p:cNvSpPr/>
          <p:nvPr/>
        </p:nvSpPr>
        <p:spPr>
          <a:xfrm>
            <a:off x="3919680" y="4616280"/>
            <a:ext cx="1617480" cy="617760"/>
          </a:xfrm>
          <a:custGeom>
            <a:avLst/>
            <a:gdLst/>
            <a:ahLst/>
            <a:rect l="l" t="t" r="r" b="b"/>
            <a:pathLst>
              <a:path w="4491" h="1713">
                <a:moveTo>
                  <a:pt x="11410" y="12948"/>
                </a:moveTo>
                <a:cubicBezTo>
                  <a:pt x="11355" y="12920"/>
                  <a:pt x="11256" y="12905"/>
                  <a:pt x="11187" y="12923"/>
                </a:cubicBezTo>
                <a:cubicBezTo>
                  <a:pt x="11152" y="12932"/>
                  <a:pt x="11019" y="12973"/>
                  <a:pt x="11013" y="13022"/>
                </a:cubicBezTo>
                <a:cubicBezTo>
                  <a:pt x="10986" y="13251"/>
                  <a:pt x="11079" y="13251"/>
                  <a:pt x="11212" y="13395"/>
                </a:cubicBezTo>
                <a:cubicBezTo>
                  <a:pt x="11269" y="13457"/>
                  <a:pt x="11379" y="13605"/>
                  <a:pt x="11361" y="13692"/>
                </a:cubicBezTo>
                <a:cubicBezTo>
                  <a:pt x="11355" y="13723"/>
                  <a:pt x="11228" y="13768"/>
                  <a:pt x="11212" y="13767"/>
                </a:cubicBezTo>
                <a:cubicBezTo>
                  <a:pt x="11111" y="13761"/>
                  <a:pt x="10964" y="13725"/>
                  <a:pt x="10914" y="13618"/>
                </a:cubicBezTo>
                <a:cubicBezTo>
                  <a:pt x="10893" y="13534"/>
                  <a:pt x="10878" y="13515"/>
                  <a:pt x="10914" y="13469"/>
                </a:cubicBezTo>
              </a:path>
              <a:path w="4491" h="1713">
                <a:moveTo>
                  <a:pt x="11633" y="13444"/>
                </a:moveTo>
                <a:cubicBezTo>
                  <a:pt x="11649" y="13574"/>
                  <a:pt x="11658" y="13687"/>
                  <a:pt x="11658" y="13816"/>
                </a:cubicBezTo>
              </a:path>
              <a:path w="4491" h="1713">
                <a:moveTo>
                  <a:pt x="11733" y="13022"/>
                </a:moveTo>
                <a:cubicBezTo>
                  <a:pt x="11774" y="12981"/>
                  <a:pt x="11782" y="12957"/>
                  <a:pt x="11807" y="12998"/>
                </a:cubicBezTo>
              </a:path>
              <a:path w="4491" h="1713">
                <a:moveTo>
                  <a:pt x="11881" y="13643"/>
                </a:moveTo>
                <a:cubicBezTo>
                  <a:pt x="11881" y="13704"/>
                  <a:pt x="11872" y="13720"/>
                  <a:pt x="11906" y="13742"/>
                </a:cubicBezTo>
                <a:cubicBezTo>
                  <a:pt x="11906" y="13597"/>
                  <a:pt x="11901" y="13479"/>
                  <a:pt x="11956" y="13345"/>
                </a:cubicBezTo>
                <a:cubicBezTo>
                  <a:pt x="11981" y="13295"/>
                  <a:pt x="11989" y="13279"/>
                  <a:pt x="12005" y="13246"/>
                </a:cubicBezTo>
                <a:cubicBezTo>
                  <a:pt x="12087" y="13311"/>
                  <a:pt x="12139" y="13362"/>
                  <a:pt x="12179" y="13469"/>
                </a:cubicBezTo>
                <a:cubicBezTo>
                  <a:pt x="12254" y="13670"/>
                  <a:pt x="12373" y="13783"/>
                  <a:pt x="12526" y="13940"/>
                </a:cubicBezTo>
                <a:cubicBezTo>
                  <a:pt x="12543" y="13957"/>
                  <a:pt x="12559" y="13973"/>
                  <a:pt x="12576" y="13990"/>
                </a:cubicBezTo>
              </a:path>
              <a:path w="4491" h="1713">
                <a:moveTo>
                  <a:pt x="12576" y="13370"/>
                </a:moveTo>
                <a:cubicBezTo>
                  <a:pt x="12661" y="13535"/>
                  <a:pt x="12748" y="13747"/>
                  <a:pt x="12874" y="13891"/>
                </a:cubicBezTo>
                <a:cubicBezTo>
                  <a:pt x="12915" y="13932"/>
                  <a:pt x="12957" y="13974"/>
                  <a:pt x="12998" y="14015"/>
                </a:cubicBezTo>
              </a:path>
              <a:path w="4491" h="1713">
                <a:moveTo>
                  <a:pt x="12948" y="13196"/>
                </a:moveTo>
                <a:cubicBezTo>
                  <a:pt x="12819" y="13405"/>
                  <a:pt x="12670" y="13615"/>
                  <a:pt x="12576" y="13841"/>
                </a:cubicBezTo>
                <a:cubicBezTo>
                  <a:pt x="12551" y="13915"/>
                  <a:pt x="12542" y="13940"/>
                  <a:pt x="12526" y="13990"/>
                </a:cubicBezTo>
              </a:path>
              <a:path w="4491" h="1713">
                <a:moveTo>
                  <a:pt x="13196" y="13593"/>
                </a:moveTo>
                <a:lnTo>
                  <a:pt x="13196" y="13593"/>
                </a:lnTo>
              </a:path>
              <a:path w="4491" h="1713">
                <a:moveTo>
                  <a:pt x="13196" y="13742"/>
                </a:moveTo>
                <a:cubicBezTo>
                  <a:pt x="13323" y="13802"/>
                  <a:pt x="13366" y="13830"/>
                  <a:pt x="13494" y="13841"/>
                </a:cubicBezTo>
              </a:path>
              <a:path w="4491" h="1713">
                <a:moveTo>
                  <a:pt x="13717" y="13494"/>
                </a:moveTo>
                <a:cubicBezTo>
                  <a:pt x="13898" y="13474"/>
                  <a:pt x="13931" y="13465"/>
                  <a:pt x="14039" y="13469"/>
                </a:cubicBezTo>
              </a:path>
              <a:path w="4491" h="1713">
                <a:moveTo>
                  <a:pt x="14436" y="12898"/>
                </a:moveTo>
                <a:cubicBezTo>
                  <a:pt x="14472" y="13018"/>
                  <a:pt x="14450" y="13144"/>
                  <a:pt x="14436" y="13271"/>
                </a:cubicBezTo>
                <a:cubicBezTo>
                  <a:pt x="14427" y="13358"/>
                  <a:pt x="14424" y="13470"/>
                  <a:pt x="14387" y="13543"/>
                </a:cubicBezTo>
              </a:path>
              <a:path w="4491" h="1713">
                <a:moveTo>
                  <a:pt x="14808" y="12824"/>
                </a:moveTo>
                <a:cubicBezTo>
                  <a:pt x="14761" y="12977"/>
                  <a:pt x="14690" y="13119"/>
                  <a:pt x="14635" y="13271"/>
                </a:cubicBezTo>
                <a:cubicBezTo>
                  <a:pt x="14551" y="13505"/>
                  <a:pt x="14458" y="13736"/>
                  <a:pt x="14362" y="13965"/>
                </a:cubicBezTo>
                <a:cubicBezTo>
                  <a:pt x="14316" y="14073"/>
                  <a:pt x="14269" y="14194"/>
                  <a:pt x="14263" y="14312"/>
                </a:cubicBezTo>
                <a:cubicBezTo>
                  <a:pt x="14263" y="14354"/>
                  <a:pt x="14255" y="14370"/>
                  <a:pt x="14288" y="14362"/>
                </a:cubicBezTo>
              </a:path>
              <a:path w="4491" h="1713">
                <a:moveTo>
                  <a:pt x="14610" y="13915"/>
                </a:moveTo>
                <a:cubicBezTo>
                  <a:pt x="14725" y="13859"/>
                  <a:pt x="14788" y="13885"/>
                  <a:pt x="14908" y="13891"/>
                </a:cubicBezTo>
                <a:cubicBezTo>
                  <a:pt x="14952" y="13891"/>
                  <a:pt x="14965" y="13888"/>
                  <a:pt x="14982" y="13915"/>
                </a:cubicBezTo>
                <a:cubicBezTo>
                  <a:pt x="14893" y="14005"/>
                  <a:pt x="14692" y="14146"/>
                  <a:pt x="14660" y="14263"/>
                </a:cubicBezTo>
                <a:cubicBezTo>
                  <a:pt x="14629" y="14373"/>
                  <a:pt x="14676" y="14394"/>
                  <a:pt x="14759" y="14436"/>
                </a:cubicBezTo>
                <a:cubicBezTo>
                  <a:pt x="14858" y="14486"/>
                  <a:pt x="14950" y="14494"/>
                  <a:pt x="15056" y="14511"/>
                </a:cubicBezTo>
                <a:cubicBezTo>
                  <a:pt x="15177" y="14530"/>
                  <a:pt x="15259" y="14511"/>
                  <a:pt x="15379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Ink 10"/>
          <p:cNvSpPr/>
          <p:nvPr/>
        </p:nvSpPr>
        <p:spPr>
          <a:xfrm>
            <a:off x="258840" y="2874960"/>
            <a:ext cx="2233440" cy="1233360"/>
          </a:xfrm>
          <a:custGeom>
            <a:avLst/>
            <a:gdLst/>
            <a:ahLst/>
            <a:rect l="l" t="t" r="r" b="b"/>
            <a:pathLst>
              <a:path w="6203" h="3424">
                <a:moveTo>
                  <a:pt x="4465" y="8161"/>
                </a:moveTo>
                <a:cubicBezTo>
                  <a:pt x="4180" y="8066"/>
                  <a:pt x="3878" y="7966"/>
                  <a:pt x="3572" y="7987"/>
                </a:cubicBezTo>
                <a:cubicBezTo>
                  <a:pt x="3341" y="8003"/>
                  <a:pt x="3128" y="8043"/>
                  <a:pt x="2902" y="8086"/>
                </a:cubicBezTo>
                <a:cubicBezTo>
                  <a:pt x="2629" y="8138"/>
                  <a:pt x="2362" y="8226"/>
                  <a:pt x="2108" y="8334"/>
                </a:cubicBezTo>
                <a:cubicBezTo>
                  <a:pt x="1795" y="8467"/>
                  <a:pt x="1463" y="8643"/>
                  <a:pt x="1215" y="8880"/>
                </a:cubicBezTo>
                <a:cubicBezTo>
                  <a:pt x="1076" y="9012"/>
                  <a:pt x="943" y="9187"/>
                  <a:pt x="843" y="9351"/>
                </a:cubicBezTo>
                <a:cubicBezTo>
                  <a:pt x="746" y="9510"/>
                  <a:pt x="713" y="9639"/>
                  <a:pt x="719" y="9823"/>
                </a:cubicBezTo>
                <a:cubicBezTo>
                  <a:pt x="723" y="9955"/>
                  <a:pt x="753" y="10032"/>
                  <a:pt x="819" y="10145"/>
                </a:cubicBezTo>
                <a:cubicBezTo>
                  <a:pt x="940" y="10351"/>
                  <a:pt x="1053" y="10396"/>
                  <a:pt x="1240" y="10517"/>
                </a:cubicBezTo>
                <a:cubicBezTo>
                  <a:pt x="1507" y="10690"/>
                  <a:pt x="1803" y="10791"/>
                  <a:pt x="2108" y="10864"/>
                </a:cubicBezTo>
                <a:cubicBezTo>
                  <a:pt x="2433" y="10942"/>
                  <a:pt x="2749" y="11000"/>
                  <a:pt x="3076" y="11063"/>
                </a:cubicBezTo>
                <a:cubicBezTo>
                  <a:pt x="3450" y="11135"/>
                  <a:pt x="3812" y="11210"/>
                  <a:pt x="4192" y="11261"/>
                </a:cubicBezTo>
                <a:cubicBezTo>
                  <a:pt x="4491" y="11301"/>
                  <a:pt x="4785" y="11351"/>
                  <a:pt x="5085" y="11385"/>
                </a:cubicBezTo>
                <a:cubicBezTo>
                  <a:pt x="5353" y="11415"/>
                  <a:pt x="5612" y="11421"/>
                  <a:pt x="5879" y="11385"/>
                </a:cubicBezTo>
                <a:cubicBezTo>
                  <a:pt x="6108" y="11354"/>
                  <a:pt x="6353" y="11274"/>
                  <a:pt x="6524" y="11112"/>
                </a:cubicBezTo>
                <a:cubicBezTo>
                  <a:pt x="6668" y="10975"/>
                  <a:pt x="6814" y="10793"/>
                  <a:pt x="6871" y="10592"/>
                </a:cubicBezTo>
                <a:cubicBezTo>
                  <a:pt x="6914" y="10440"/>
                  <a:pt x="6934" y="10230"/>
                  <a:pt x="6921" y="10071"/>
                </a:cubicBezTo>
                <a:cubicBezTo>
                  <a:pt x="6906" y="9882"/>
                  <a:pt x="6838" y="9719"/>
                  <a:pt x="6772" y="9550"/>
                </a:cubicBezTo>
                <a:cubicBezTo>
                  <a:pt x="6724" y="9408"/>
                  <a:pt x="6711" y="9366"/>
                  <a:pt x="6672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Ink 11"/>
          <p:cNvSpPr/>
          <p:nvPr/>
        </p:nvSpPr>
        <p:spPr>
          <a:xfrm>
            <a:off x="1108080" y="2874960"/>
            <a:ext cx="561960" cy="54000"/>
          </a:xfrm>
          <a:custGeom>
            <a:avLst/>
            <a:gdLst/>
            <a:ahLst/>
            <a:rect l="l" t="t" r="r" b="b"/>
            <a:pathLst>
              <a:path w="1563" h="150">
                <a:moveTo>
                  <a:pt x="4638" y="7987"/>
                </a:moveTo>
                <a:cubicBezTo>
                  <a:pt x="4117" y="8037"/>
                  <a:pt x="3597" y="8086"/>
                  <a:pt x="3076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Tahoma"/>
              </a:rPr>
              <a:t>Solving Trigonometric Equations</a:t>
            </a:r>
            <a:endParaRPr b="0" lang="en-US" sz="6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o solve these equations, you will need the Unit Circle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standard algebraic techniques such as collecting like terms and factoring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0" y="289548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primary goal is to isolate the trigonometric function involved in the equation!!!!!!!!!!!!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of unit cir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762120" y="21337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Sin x + 1 =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Tan x +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19"/>
          <p:cNvGraphicFramePr/>
          <p:nvPr/>
        </p:nvGraphicFramePr>
        <p:xfrm>
          <a:off x="304920" y="457200"/>
          <a:ext cx="883908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88390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Ink 21"/>
          <p:cNvSpPr/>
          <p:nvPr/>
        </p:nvSpPr>
        <p:spPr>
          <a:xfrm>
            <a:off x="946080" y="1581120"/>
            <a:ext cx="1251000" cy="758880"/>
          </a:xfrm>
          <a:custGeom>
            <a:avLst/>
            <a:gdLst/>
            <a:ahLst/>
            <a:rect l="l" t="t" r="r" b="b"/>
            <a:pathLst>
              <a:path w="3474" h="2110">
                <a:moveTo>
                  <a:pt x="3125" y="5209"/>
                </a:moveTo>
                <a:cubicBezTo>
                  <a:pt x="3117" y="5149"/>
                  <a:pt x="3090" y="5112"/>
                  <a:pt x="3051" y="5060"/>
                </a:cubicBezTo>
                <a:cubicBezTo>
                  <a:pt x="3028" y="5030"/>
                  <a:pt x="2940" y="5006"/>
                  <a:pt x="2902" y="5011"/>
                </a:cubicBezTo>
                <a:cubicBezTo>
                  <a:pt x="2821" y="5023"/>
                  <a:pt x="2763" y="5057"/>
                  <a:pt x="2704" y="5110"/>
                </a:cubicBezTo>
                <a:cubicBezTo>
                  <a:pt x="2659" y="5151"/>
                  <a:pt x="2639" y="5199"/>
                  <a:pt x="2629" y="5259"/>
                </a:cubicBezTo>
                <a:cubicBezTo>
                  <a:pt x="2618" y="5325"/>
                  <a:pt x="2684" y="5440"/>
                  <a:pt x="2729" y="5482"/>
                </a:cubicBezTo>
                <a:cubicBezTo>
                  <a:pt x="2794" y="5544"/>
                  <a:pt x="2852" y="5542"/>
                  <a:pt x="2902" y="5631"/>
                </a:cubicBezTo>
                <a:cubicBezTo>
                  <a:pt x="2944" y="5706"/>
                  <a:pt x="3024" y="5753"/>
                  <a:pt x="3076" y="5829"/>
                </a:cubicBezTo>
                <a:cubicBezTo>
                  <a:pt x="3128" y="5905"/>
                  <a:pt x="3140" y="6002"/>
                  <a:pt x="3175" y="6077"/>
                </a:cubicBezTo>
                <a:cubicBezTo>
                  <a:pt x="3213" y="6159"/>
                  <a:pt x="3195" y="6178"/>
                  <a:pt x="3150" y="6251"/>
                </a:cubicBezTo>
                <a:cubicBezTo>
                  <a:pt x="3091" y="6348"/>
                  <a:pt x="3142" y="6354"/>
                  <a:pt x="3026" y="6424"/>
                </a:cubicBezTo>
                <a:cubicBezTo>
                  <a:pt x="2993" y="6444"/>
                  <a:pt x="2907" y="6502"/>
                  <a:pt x="2877" y="6499"/>
                </a:cubicBezTo>
                <a:cubicBezTo>
                  <a:pt x="2808" y="6492"/>
                  <a:pt x="2731" y="6470"/>
                  <a:pt x="2679" y="6424"/>
                </a:cubicBezTo>
                <a:cubicBezTo>
                  <a:pt x="2634" y="6384"/>
                  <a:pt x="2637" y="6384"/>
                  <a:pt x="2629" y="6325"/>
                </a:cubicBezTo>
              </a:path>
              <a:path w="3474" h="2110">
                <a:moveTo>
                  <a:pt x="3473" y="5110"/>
                </a:moveTo>
                <a:cubicBezTo>
                  <a:pt x="3473" y="5263"/>
                  <a:pt x="3483" y="5407"/>
                  <a:pt x="3497" y="5556"/>
                </a:cubicBezTo>
                <a:cubicBezTo>
                  <a:pt x="3507" y="5668"/>
                  <a:pt x="3490" y="5773"/>
                  <a:pt x="3497" y="5879"/>
                </a:cubicBezTo>
                <a:cubicBezTo>
                  <a:pt x="3504" y="5982"/>
                  <a:pt x="3508" y="6076"/>
                  <a:pt x="3522" y="6176"/>
                </a:cubicBezTo>
                <a:cubicBezTo>
                  <a:pt x="3533" y="6257"/>
                  <a:pt x="3509" y="6327"/>
                  <a:pt x="3497" y="6400"/>
                </a:cubicBezTo>
                <a:cubicBezTo>
                  <a:pt x="3483" y="6489"/>
                  <a:pt x="3512" y="6468"/>
                  <a:pt x="3547" y="6424"/>
                </a:cubicBezTo>
              </a:path>
              <a:path w="3474" h="2110">
                <a:moveTo>
                  <a:pt x="3845" y="5209"/>
                </a:moveTo>
                <a:cubicBezTo>
                  <a:pt x="3845" y="5492"/>
                  <a:pt x="3843" y="5771"/>
                  <a:pt x="3870" y="6052"/>
                </a:cubicBezTo>
                <a:cubicBezTo>
                  <a:pt x="3878" y="6136"/>
                  <a:pt x="3890" y="6216"/>
                  <a:pt x="3894" y="6300"/>
                </a:cubicBezTo>
                <a:cubicBezTo>
                  <a:pt x="3894" y="6317"/>
                  <a:pt x="3894" y="6333"/>
                  <a:pt x="3894" y="6350"/>
                </a:cubicBezTo>
                <a:cubicBezTo>
                  <a:pt x="3928" y="6361"/>
                  <a:pt x="3935" y="6294"/>
                  <a:pt x="3944" y="6226"/>
                </a:cubicBezTo>
                <a:cubicBezTo>
                  <a:pt x="3960" y="6101"/>
                  <a:pt x="3961" y="5953"/>
                  <a:pt x="3969" y="5829"/>
                </a:cubicBezTo>
                <a:cubicBezTo>
                  <a:pt x="3977" y="5690"/>
                  <a:pt x="3953" y="5562"/>
                  <a:pt x="3994" y="5432"/>
                </a:cubicBezTo>
                <a:cubicBezTo>
                  <a:pt x="4022" y="5343"/>
                  <a:pt x="4040" y="5244"/>
                  <a:pt x="4118" y="5184"/>
                </a:cubicBezTo>
                <a:cubicBezTo>
                  <a:pt x="4176" y="5139"/>
                  <a:pt x="4238" y="5156"/>
                  <a:pt x="4291" y="5184"/>
                </a:cubicBezTo>
                <a:cubicBezTo>
                  <a:pt x="4377" y="5230"/>
                  <a:pt x="4392" y="5280"/>
                  <a:pt x="4440" y="5358"/>
                </a:cubicBezTo>
                <a:cubicBezTo>
                  <a:pt x="4522" y="5491"/>
                  <a:pt x="4514" y="5604"/>
                  <a:pt x="4539" y="5755"/>
                </a:cubicBezTo>
                <a:cubicBezTo>
                  <a:pt x="4559" y="5874"/>
                  <a:pt x="4564" y="5981"/>
                  <a:pt x="4564" y="6102"/>
                </a:cubicBezTo>
                <a:cubicBezTo>
                  <a:pt x="4564" y="6128"/>
                  <a:pt x="4585" y="6351"/>
                  <a:pt x="4539" y="6350"/>
                </a:cubicBezTo>
                <a:cubicBezTo>
                  <a:pt x="4539" y="6342"/>
                  <a:pt x="4539" y="6333"/>
                  <a:pt x="4539" y="6325"/>
                </a:cubicBezTo>
              </a:path>
              <a:path w="3474" h="2110">
                <a:moveTo>
                  <a:pt x="3274" y="4663"/>
                </a:moveTo>
                <a:cubicBezTo>
                  <a:pt x="3274" y="4671"/>
                  <a:pt x="3274" y="4680"/>
                  <a:pt x="3274" y="4688"/>
                </a:cubicBezTo>
              </a:path>
              <a:path w="3474" h="2110">
                <a:moveTo>
                  <a:pt x="5135" y="4390"/>
                </a:moveTo>
                <a:cubicBezTo>
                  <a:pt x="5135" y="4474"/>
                  <a:pt x="5113" y="4540"/>
                  <a:pt x="5110" y="4614"/>
                </a:cubicBezTo>
                <a:cubicBezTo>
                  <a:pt x="5108" y="4663"/>
                  <a:pt x="5103" y="4765"/>
                  <a:pt x="5085" y="4812"/>
                </a:cubicBezTo>
                <a:cubicBezTo>
                  <a:pt x="5077" y="4820"/>
                  <a:pt x="5068" y="4829"/>
                  <a:pt x="5060" y="4837"/>
                </a:cubicBezTo>
              </a:path>
              <a:path w="3474" h="2110">
                <a:moveTo>
                  <a:pt x="4738" y="4936"/>
                </a:moveTo>
                <a:cubicBezTo>
                  <a:pt x="4876" y="4936"/>
                  <a:pt x="5005" y="4932"/>
                  <a:pt x="5135" y="4911"/>
                </a:cubicBezTo>
                <a:cubicBezTo>
                  <a:pt x="5210" y="4899"/>
                  <a:pt x="5298" y="4906"/>
                  <a:pt x="5358" y="4936"/>
                </a:cubicBezTo>
              </a:path>
              <a:path w="3474" h="2110">
                <a:moveTo>
                  <a:pt x="4986" y="5159"/>
                </a:moveTo>
                <a:cubicBezTo>
                  <a:pt x="4994" y="5105"/>
                  <a:pt x="5008" y="5042"/>
                  <a:pt x="5085" y="5060"/>
                </a:cubicBezTo>
                <a:cubicBezTo>
                  <a:pt x="5168" y="5080"/>
                  <a:pt x="5176" y="5161"/>
                  <a:pt x="5159" y="5234"/>
                </a:cubicBezTo>
                <a:cubicBezTo>
                  <a:pt x="5146" y="5289"/>
                  <a:pt x="5094" y="5362"/>
                  <a:pt x="5060" y="5407"/>
                </a:cubicBezTo>
                <a:cubicBezTo>
                  <a:pt x="5035" y="5440"/>
                  <a:pt x="4972" y="5497"/>
                  <a:pt x="4936" y="5507"/>
                </a:cubicBezTo>
                <a:cubicBezTo>
                  <a:pt x="4920" y="5507"/>
                  <a:pt x="4903" y="5507"/>
                  <a:pt x="4887" y="5507"/>
                </a:cubicBezTo>
                <a:cubicBezTo>
                  <a:pt x="4948" y="5484"/>
                  <a:pt x="5044" y="5458"/>
                  <a:pt x="5110" y="5482"/>
                </a:cubicBezTo>
                <a:cubicBezTo>
                  <a:pt x="5138" y="5510"/>
                  <a:pt x="5151" y="5519"/>
                  <a:pt x="5184" y="5507"/>
                </a:cubicBezTo>
              </a:path>
              <a:path w="3474" h="2110">
                <a:moveTo>
                  <a:pt x="5581" y="5358"/>
                </a:moveTo>
                <a:cubicBezTo>
                  <a:pt x="5612" y="5473"/>
                  <a:pt x="5644" y="5541"/>
                  <a:pt x="5705" y="5631"/>
                </a:cubicBezTo>
                <a:cubicBezTo>
                  <a:pt x="5748" y="5695"/>
                  <a:pt x="5748" y="5773"/>
                  <a:pt x="5804" y="5829"/>
                </a:cubicBezTo>
                <a:cubicBezTo>
                  <a:pt x="5861" y="5886"/>
                  <a:pt x="5880" y="5933"/>
                  <a:pt x="5928" y="6003"/>
                </a:cubicBezTo>
                <a:cubicBezTo>
                  <a:pt x="5974" y="6070"/>
                  <a:pt x="6041" y="6067"/>
                  <a:pt x="6102" y="6052"/>
                </a:cubicBezTo>
              </a:path>
              <a:path w="3474" h="2110">
                <a:moveTo>
                  <a:pt x="5978" y="5358"/>
                </a:moveTo>
                <a:cubicBezTo>
                  <a:pt x="5938" y="5448"/>
                  <a:pt x="5919" y="5542"/>
                  <a:pt x="5879" y="5631"/>
                </a:cubicBezTo>
                <a:cubicBezTo>
                  <a:pt x="5839" y="5719"/>
                  <a:pt x="5799" y="5819"/>
                  <a:pt x="5755" y="5904"/>
                </a:cubicBezTo>
                <a:cubicBezTo>
                  <a:pt x="5715" y="5982"/>
                  <a:pt x="5655" y="6085"/>
                  <a:pt x="5606" y="6152"/>
                </a:cubicBezTo>
                <a:cubicBezTo>
                  <a:pt x="5559" y="6217"/>
                  <a:pt x="5530" y="6286"/>
                  <a:pt x="5482" y="6350"/>
                </a:cubicBezTo>
                <a:cubicBezTo>
                  <a:pt x="5459" y="6373"/>
                  <a:pt x="5451" y="6384"/>
                  <a:pt x="5457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Ink 22"/>
          <p:cNvSpPr/>
          <p:nvPr/>
        </p:nvSpPr>
        <p:spPr>
          <a:xfrm>
            <a:off x="2401920" y="1714680"/>
            <a:ext cx="1393920" cy="777600"/>
          </a:xfrm>
          <a:custGeom>
            <a:avLst/>
            <a:gdLst/>
            <a:ahLst/>
            <a:rect l="l" t="t" r="r" b="b"/>
            <a:pathLst>
              <a:path w="3871" h="2160">
                <a:moveTo>
                  <a:pt x="7268" y="5358"/>
                </a:moveTo>
                <a:cubicBezTo>
                  <a:pt x="7247" y="5322"/>
                  <a:pt x="7228" y="5294"/>
                  <a:pt x="7193" y="5259"/>
                </a:cubicBezTo>
                <a:cubicBezTo>
                  <a:pt x="7123" y="5189"/>
                  <a:pt x="7090" y="5184"/>
                  <a:pt x="6995" y="5184"/>
                </a:cubicBezTo>
                <a:cubicBezTo>
                  <a:pt x="6908" y="5184"/>
                  <a:pt x="6868" y="5239"/>
                  <a:pt x="6821" y="5308"/>
                </a:cubicBezTo>
                <a:cubicBezTo>
                  <a:pt x="6763" y="5394"/>
                  <a:pt x="6730" y="5483"/>
                  <a:pt x="6697" y="5581"/>
                </a:cubicBezTo>
                <a:cubicBezTo>
                  <a:pt x="6638" y="5755"/>
                  <a:pt x="6655" y="5971"/>
                  <a:pt x="6672" y="6152"/>
                </a:cubicBezTo>
                <a:cubicBezTo>
                  <a:pt x="6685" y="6290"/>
                  <a:pt x="6704" y="6414"/>
                  <a:pt x="6821" y="6499"/>
                </a:cubicBezTo>
                <a:cubicBezTo>
                  <a:pt x="6876" y="6539"/>
                  <a:pt x="6950" y="6572"/>
                  <a:pt x="7020" y="6548"/>
                </a:cubicBezTo>
                <a:cubicBezTo>
                  <a:pt x="7080" y="6527"/>
                  <a:pt x="7178" y="6473"/>
                  <a:pt x="7218" y="6424"/>
                </a:cubicBezTo>
                <a:cubicBezTo>
                  <a:pt x="7226" y="6408"/>
                  <a:pt x="7235" y="6391"/>
                  <a:pt x="7243" y="6375"/>
                </a:cubicBezTo>
              </a:path>
              <a:path w="3871" h="2160">
                <a:moveTo>
                  <a:pt x="7640" y="5407"/>
                </a:moveTo>
                <a:cubicBezTo>
                  <a:pt x="7605" y="5485"/>
                  <a:pt x="7575" y="5574"/>
                  <a:pt x="7565" y="5655"/>
                </a:cubicBezTo>
                <a:cubicBezTo>
                  <a:pt x="7553" y="5750"/>
                  <a:pt x="7510" y="5884"/>
                  <a:pt x="7516" y="5978"/>
                </a:cubicBezTo>
                <a:cubicBezTo>
                  <a:pt x="7522" y="6071"/>
                  <a:pt x="7557" y="6164"/>
                  <a:pt x="7590" y="6251"/>
                </a:cubicBezTo>
                <a:cubicBezTo>
                  <a:pt x="7613" y="6312"/>
                  <a:pt x="7635" y="6434"/>
                  <a:pt x="7714" y="6449"/>
                </a:cubicBezTo>
                <a:cubicBezTo>
                  <a:pt x="7791" y="6463"/>
                  <a:pt x="7937" y="6418"/>
                  <a:pt x="7987" y="6350"/>
                </a:cubicBezTo>
                <a:cubicBezTo>
                  <a:pt x="8043" y="6274"/>
                  <a:pt x="8082" y="6139"/>
                  <a:pt x="8111" y="6052"/>
                </a:cubicBezTo>
                <a:cubicBezTo>
                  <a:pt x="8152" y="5929"/>
                  <a:pt x="8143" y="5804"/>
                  <a:pt x="8111" y="5680"/>
                </a:cubicBezTo>
                <a:cubicBezTo>
                  <a:pt x="8086" y="5585"/>
                  <a:pt x="8048" y="5505"/>
                  <a:pt x="7987" y="5432"/>
                </a:cubicBezTo>
                <a:cubicBezTo>
                  <a:pt x="7933" y="5367"/>
                  <a:pt x="7812" y="5351"/>
                  <a:pt x="7739" y="5407"/>
                </a:cubicBezTo>
                <a:cubicBezTo>
                  <a:pt x="7642" y="5481"/>
                  <a:pt x="7595" y="5562"/>
                  <a:pt x="7590" y="5680"/>
                </a:cubicBezTo>
                <a:cubicBezTo>
                  <a:pt x="7586" y="5770"/>
                  <a:pt x="7584" y="5847"/>
                  <a:pt x="7615" y="5928"/>
                </a:cubicBezTo>
              </a:path>
              <a:path w="3871" h="2160">
                <a:moveTo>
                  <a:pt x="8731" y="5308"/>
                </a:moveTo>
                <a:cubicBezTo>
                  <a:pt x="8601" y="5280"/>
                  <a:pt x="8623" y="5275"/>
                  <a:pt x="8533" y="5333"/>
                </a:cubicBezTo>
                <a:cubicBezTo>
                  <a:pt x="8428" y="5401"/>
                  <a:pt x="8416" y="5452"/>
                  <a:pt x="8458" y="5581"/>
                </a:cubicBezTo>
                <a:cubicBezTo>
                  <a:pt x="8487" y="5668"/>
                  <a:pt x="8551" y="5734"/>
                  <a:pt x="8582" y="5829"/>
                </a:cubicBezTo>
                <a:cubicBezTo>
                  <a:pt x="8615" y="5929"/>
                  <a:pt x="8678" y="6006"/>
                  <a:pt x="8706" y="6102"/>
                </a:cubicBezTo>
                <a:cubicBezTo>
                  <a:pt x="8741" y="6221"/>
                  <a:pt x="8730" y="6293"/>
                  <a:pt x="8657" y="6400"/>
                </a:cubicBezTo>
                <a:cubicBezTo>
                  <a:pt x="8615" y="6462"/>
                  <a:pt x="8551" y="6455"/>
                  <a:pt x="8508" y="6449"/>
                </a:cubicBezTo>
                <a:cubicBezTo>
                  <a:pt x="8448" y="6441"/>
                  <a:pt x="8396" y="6432"/>
                  <a:pt x="8359" y="6375"/>
                </a:cubicBezTo>
                <a:cubicBezTo>
                  <a:pt x="8331" y="6332"/>
                  <a:pt x="8317" y="6291"/>
                  <a:pt x="8285" y="6251"/>
                </a:cubicBezTo>
              </a:path>
              <a:path w="3871" h="2160">
                <a:moveTo>
                  <a:pt x="9054" y="5358"/>
                </a:moveTo>
                <a:cubicBezTo>
                  <a:pt x="9062" y="5474"/>
                  <a:pt x="9088" y="5548"/>
                  <a:pt x="9128" y="5655"/>
                </a:cubicBezTo>
                <a:cubicBezTo>
                  <a:pt x="9177" y="5785"/>
                  <a:pt x="9202" y="5923"/>
                  <a:pt x="9252" y="6052"/>
                </a:cubicBezTo>
                <a:cubicBezTo>
                  <a:pt x="9293" y="6158"/>
                  <a:pt x="9302" y="6331"/>
                  <a:pt x="9401" y="6400"/>
                </a:cubicBezTo>
                <a:cubicBezTo>
                  <a:pt x="9449" y="6423"/>
                  <a:pt x="9464" y="6431"/>
                  <a:pt x="9500" y="6424"/>
                </a:cubicBezTo>
              </a:path>
              <a:path w="3871" h="2160">
                <a:moveTo>
                  <a:pt x="9575" y="5259"/>
                </a:moveTo>
                <a:cubicBezTo>
                  <a:pt x="9575" y="5350"/>
                  <a:pt x="9567" y="5443"/>
                  <a:pt x="9550" y="5531"/>
                </a:cubicBezTo>
                <a:cubicBezTo>
                  <a:pt x="9527" y="5652"/>
                  <a:pt x="9474" y="5767"/>
                  <a:pt x="9426" y="5879"/>
                </a:cubicBezTo>
                <a:cubicBezTo>
                  <a:pt x="9364" y="6023"/>
                  <a:pt x="9317" y="6185"/>
                  <a:pt x="9252" y="6325"/>
                </a:cubicBezTo>
                <a:cubicBezTo>
                  <a:pt x="9216" y="6402"/>
                  <a:pt x="9159" y="6510"/>
                  <a:pt x="9103" y="6573"/>
                </a:cubicBezTo>
                <a:cubicBezTo>
                  <a:pt x="9081" y="6596"/>
                  <a:pt x="9073" y="6607"/>
                  <a:pt x="9079" y="6573"/>
                </a:cubicBezTo>
              </a:path>
              <a:path w="3871" h="2160">
                <a:moveTo>
                  <a:pt x="10542" y="4762"/>
                </a:moveTo>
                <a:cubicBezTo>
                  <a:pt x="10507" y="4832"/>
                  <a:pt x="10467" y="4902"/>
                  <a:pt x="10418" y="4961"/>
                </a:cubicBezTo>
                <a:cubicBezTo>
                  <a:pt x="10333" y="5063"/>
                  <a:pt x="10297" y="5142"/>
                  <a:pt x="10244" y="5259"/>
                </a:cubicBezTo>
                <a:cubicBezTo>
                  <a:pt x="10165" y="5434"/>
                  <a:pt x="10087" y="5569"/>
                  <a:pt x="10046" y="5755"/>
                </a:cubicBezTo>
                <a:cubicBezTo>
                  <a:pt x="10015" y="5896"/>
                  <a:pt x="9986" y="6057"/>
                  <a:pt x="9971" y="6201"/>
                </a:cubicBezTo>
                <a:cubicBezTo>
                  <a:pt x="9957" y="6329"/>
                  <a:pt x="9983" y="6451"/>
                  <a:pt x="9996" y="6573"/>
                </a:cubicBezTo>
                <a:cubicBezTo>
                  <a:pt x="10005" y="6656"/>
                  <a:pt x="10020" y="6744"/>
                  <a:pt x="10046" y="6821"/>
                </a:cubicBezTo>
                <a:cubicBezTo>
                  <a:pt x="10072" y="6898"/>
                  <a:pt x="10105" y="6905"/>
                  <a:pt x="10170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Ink 23"/>
          <p:cNvSpPr/>
          <p:nvPr/>
        </p:nvSpPr>
        <p:spPr>
          <a:xfrm>
            <a:off x="4071960" y="1768320"/>
            <a:ext cx="36360" cy="581040"/>
          </a:xfrm>
          <a:custGeom>
            <a:avLst/>
            <a:gdLst/>
            <a:ahLst/>
            <a:rect l="l" t="t" r="r" b="b"/>
            <a:pathLst>
              <a:path w="100" h="1614">
                <a:moveTo>
                  <a:pt x="11385" y="4911"/>
                </a:moveTo>
                <a:cubicBezTo>
                  <a:pt x="11393" y="4919"/>
                  <a:pt x="11402" y="4928"/>
                  <a:pt x="11410" y="4936"/>
                </a:cubicBezTo>
              </a:path>
              <a:path w="100" h="1614">
                <a:moveTo>
                  <a:pt x="11336" y="5011"/>
                </a:moveTo>
                <a:cubicBezTo>
                  <a:pt x="11387" y="5095"/>
                  <a:pt x="11381" y="5143"/>
                  <a:pt x="11385" y="5259"/>
                </a:cubicBezTo>
                <a:cubicBezTo>
                  <a:pt x="11388" y="5356"/>
                  <a:pt x="11381" y="5463"/>
                  <a:pt x="11361" y="5556"/>
                </a:cubicBezTo>
                <a:cubicBezTo>
                  <a:pt x="11328" y="5711"/>
                  <a:pt x="11311" y="5811"/>
                  <a:pt x="11311" y="5978"/>
                </a:cubicBezTo>
                <a:cubicBezTo>
                  <a:pt x="11311" y="6091"/>
                  <a:pt x="11265" y="6361"/>
                  <a:pt x="11336" y="6449"/>
                </a:cubicBezTo>
                <a:cubicBezTo>
                  <a:pt x="11381" y="6506"/>
                  <a:pt x="11361" y="6553"/>
                  <a:pt x="11361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Ink 24"/>
          <p:cNvSpPr/>
          <p:nvPr/>
        </p:nvSpPr>
        <p:spPr>
          <a:xfrm>
            <a:off x="4295880" y="1625760"/>
            <a:ext cx="1955520" cy="847440"/>
          </a:xfrm>
          <a:custGeom>
            <a:avLst/>
            <a:gdLst/>
            <a:ahLst/>
            <a:rect l="l" t="t" r="r" b="b"/>
            <a:pathLst>
              <a:path w="5433" h="2358">
                <a:moveTo>
                  <a:pt x="11931" y="5655"/>
                </a:moveTo>
                <a:cubicBezTo>
                  <a:pt x="12128" y="5655"/>
                  <a:pt x="12345" y="5644"/>
                  <a:pt x="12526" y="5680"/>
                </a:cubicBezTo>
                <a:cubicBezTo>
                  <a:pt x="12580" y="5691"/>
                  <a:pt x="12645" y="5680"/>
                  <a:pt x="12700" y="5680"/>
                </a:cubicBezTo>
              </a:path>
              <a:path w="5433" h="2358">
                <a:moveTo>
                  <a:pt x="13519" y="5308"/>
                </a:moveTo>
                <a:cubicBezTo>
                  <a:pt x="13510" y="5247"/>
                  <a:pt x="13489" y="5208"/>
                  <a:pt x="13444" y="5159"/>
                </a:cubicBezTo>
                <a:cubicBezTo>
                  <a:pt x="13414" y="5127"/>
                  <a:pt x="13314" y="5119"/>
                  <a:pt x="13271" y="5135"/>
                </a:cubicBezTo>
                <a:cubicBezTo>
                  <a:pt x="13221" y="5154"/>
                  <a:pt x="13176" y="5223"/>
                  <a:pt x="13146" y="5259"/>
                </a:cubicBezTo>
                <a:cubicBezTo>
                  <a:pt x="13081" y="5338"/>
                  <a:pt x="13143" y="5478"/>
                  <a:pt x="13196" y="5556"/>
                </a:cubicBezTo>
                <a:cubicBezTo>
                  <a:pt x="13248" y="5633"/>
                  <a:pt x="13276" y="5697"/>
                  <a:pt x="13320" y="5779"/>
                </a:cubicBezTo>
                <a:cubicBezTo>
                  <a:pt x="13371" y="5873"/>
                  <a:pt x="13403" y="5953"/>
                  <a:pt x="13444" y="6052"/>
                </a:cubicBezTo>
                <a:cubicBezTo>
                  <a:pt x="13470" y="6115"/>
                  <a:pt x="13494" y="6232"/>
                  <a:pt x="13469" y="6300"/>
                </a:cubicBezTo>
                <a:cubicBezTo>
                  <a:pt x="13443" y="6369"/>
                  <a:pt x="13367" y="6433"/>
                  <a:pt x="13295" y="6449"/>
                </a:cubicBezTo>
                <a:cubicBezTo>
                  <a:pt x="13240" y="6461"/>
                  <a:pt x="13164" y="6422"/>
                  <a:pt x="13122" y="6400"/>
                </a:cubicBezTo>
                <a:cubicBezTo>
                  <a:pt x="13069" y="6372"/>
                  <a:pt x="12976" y="6298"/>
                  <a:pt x="12948" y="6251"/>
                </a:cubicBezTo>
                <a:cubicBezTo>
                  <a:pt x="12915" y="6196"/>
                  <a:pt x="12928" y="6159"/>
                  <a:pt x="12923" y="6102"/>
                </a:cubicBezTo>
              </a:path>
              <a:path w="5433" h="2358">
                <a:moveTo>
                  <a:pt x="13866" y="5259"/>
                </a:moveTo>
                <a:cubicBezTo>
                  <a:pt x="13866" y="5396"/>
                  <a:pt x="13873" y="5522"/>
                  <a:pt x="13891" y="5655"/>
                </a:cubicBezTo>
                <a:cubicBezTo>
                  <a:pt x="13929" y="5932"/>
                  <a:pt x="13891" y="6244"/>
                  <a:pt x="13891" y="6524"/>
                </a:cubicBezTo>
              </a:path>
              <a:path w="5433" h="2358">
                <a:moveTo>
                  <a:pt x="14188" y="5259"/>
                </a:moveTo>
                <a:cubicBezTo>
                  <a:pt x="14188" y="5436"/>
                  <a:pt x="14200" y="5608"/>
                  <a:pt x="14213" y="5779"/>
                </a:cubicBezTo>
                <a:cubicBezTo>
                  <a:pt x="14222" y="5905"/>
                  <a:pt x="14232" y="6029"/>
                  <a:pt x="14238" y="6152"/>
                </a:cubicBezTo>
                <a:cubicBezTo>
                  <a:pt x="14241" y="6218"/>
                  <a:pt x="14238" y="6284"/>
                  <a:pt x="14238" y="6350"/>
                </a:cubicBezTo>
                <a:cubicBezTo>
                  <a:pt x="14238" y="6493"/>
                  <a:pt x="14238" y="6169"/>
                  <a:pt x="14238" y="6152"/>
                </a:cubicBezTo>
                <a:cubicBezTo>
                  <a:pt x="14238" y="5967"/>
                  <a:pt x="14246" y="5786"/>
                  <a:pt x="14263" y="5606"/>
                </a:cubicBezTo>
                <a:cubicBezTo>
                  <a:pt x="14276" y="5464"/>
                  <a:pt x="14309" y="5448"/>
                  <a:pt x="14387" y="5333"/>
                </a:cubicBezTo>
                <a:cubicBezTo>
                  <a:pt x="14448" y="5244"/>
                  <a:pt x="14530" y="5151"/>
                  <a:pt x="14635" y="5184"/>
                </a:cubicBezTo>
                <a:cubicBezTo>
                  <a:pt x="14681" y="5199"/>
                  <a:pt x="14750" y="5283"/>
                  <a:pt x="14759" y="5333"/>
                </a:cubicBezTo>
                <a:cubicBezTo>
                  <a:pt x="14776" y="5425"/>
                  <a:pt x="14784" y="5510"/>
                  <a:pt x="14784" y="5606"/>
                </a:cubicBezTo>
                <a:cubicBezTo>
                  <a:pt x="14784" y="5723"/>
                  <a:pt x="14808" y="5834"/>
                  <a:pt x="14808" y="5953"/>
                </a:cubicBezTo>
                <a:cubicBezTo>
                  <a:pt x="14808" y="6070"/>
                  <a:pt x="14784" y="6182"/>
                  <a:pt x="14784" y="6300"/>
                </a:cubicBezTo>
                <a:cubicBezTo>
                  <a:pt x="14784" y="6373"/>
                  <a:pt x="14781" y="6415"/>
                  <a:pt x="14759" y="6474"/>
                </a:cubicBezTo>
              </a:path>
              <a:path w="5433" h="2358">
                <a:moveTo>
                  <a:pt x="14957" y="4986"/>
                </a:moveTo>
                <a:cubicBezTo>
                  <a:pt x="15007" y="4916"/>
                  <a:pt x="15064" y="4865"/>
                  <a:pt x="15156" y="4911"/>
                </a:cubicBezTo>
                <a:cubicBezTo>
                  <a:pt x="15219" y="4942"/>
                  <a:pt x="15175" y="5071"/>
                  <a:pt x="15156" y="5110"/>
                </a:cubicBezTo>
                <a:cubicBezTo>
                  <a:pt x="15125" y="5172"/>
                  <a:pt x="15090" y="5224"/>
                  <a:pt x="15056" y="5283"/>
                </a:cubicBezTo>
                <a:cubicBezTo>
                  <a:pt x="15116" y="5319"/>
                  <a:pt x="15163" y="5289"/>
                  <a:pt x="15230" y="5308"/>
                </a:cubicBezTo>
                <a:cubicBezTo>
                  <a:pt x="15247" y="5316"/>
                  <a:pt x="15263" y="5325"/>
                  <a:pt x="15280" y="5333"/>
                </a:cubicBezTo>
              </a:path>
              <a:path w="5433" h="2358">
                <a:moveTo>
                  <a:pt x="15503" y="5283"/>
                </a:moveTo>
                <a:cubicBezTo>
                  <a:pt x="15513" y="5354"/>
                  <a:pt x="15561" y="5362"/>
                  <a:pt x="15577" y="5432"/>
                </a:cubicBezTo>
                <a:cubicBezTo>
                  <a:pt x="15595" y="5508"/>
                  <a:pt x="15661" y="5552"/>
                  <a:pt x="15701" y="5631"/>
                </a:cubicBezTo>
                <a:cubicBezTo>
                  <a:pt x="15749" y="5726"/>
                  <a:pt x="15766" y="5864"/>
                  <a:pt x="15825" y="5953"/>
                </a:cubicBezTo>
                <a:cubicBezTo>
                  <a:pt x="15872" y="6024"/>
                  <a:pt x="15922" y="6106"/>
                  <a:pt x="15974" y="6176"/>
                </a:cubicBezTo>
                <a:cubicBezTo>
                  <a:pt x="16008" y="6221"/>
                  <a:pt x="16058" y="6240"/>
                  <a:pt x="16098" y="6276"/>
                </a:cubicBezTo>
                <a:cubicBezTo>
                  <a:pt x="16121" y="6298"/>
                  <a:pt x="16126" y="6306"/>
                  <a:pt x="16148" y="6300"/>
                </a:cubicBezTo>
              </a:path>
              <a:path w="5433" h="2358">
                <a:moveTo>
                  <a:pt x="15974" y="5259"/>
                </a:moveTo>
                <a:cubicBezTo>
                  <a:pt x="15948" y="5372"/>
                  <a:pt x="15913" y="5493"/>
                  <a:pt x="15900" y="5606"/>
                </a:cubicBezTo>
                <a:cubicBezTo>
                  <a:pt x="15888" y="5711"/>
                  <a:pt x="15836" y="5799"/>
                  <a:pt x="15801" y="5904"/>
                </a:cubicBezTo>
                <a:cubicBezTo>
                  <a:pt x="15774" y="5986"/>
                  <a:pt x="15749" y="6104"/>
                  <a:pt x="15701" y="6176"/>
                </a:cubicBezTo>
                <a:cubicBezTo>
                  <a:pt x="15642" y="6265"/>
                  <a:pt x="15593" y="6344"/>
                  <a:pt x="15553" y="6449"/>
                </a:cubicBezTo>
                <a:cubicBezTo>
                  <a:pt x="15511" y="6558"/>
                  <a:pt x="15533" y="6502"/>
                  <a:pt x="15478" y="6548"/>
                </a:cubicBezTo>
              </a:path>
              <a:path w="5433" h="2358">
                <a:moveTo>
                  <a:pt x="13965" y="4812"/>
                </a:moveTo>
                <a:cubicBezTo>
                  <a:pt x="13973" y="4820"/>
                  <a:pt x="13982" y="4829"/>
                  <a:pt x="13990" y="4837"/>
                </a:cubicBezTo>
              </a:path>
              <a:path w="5433" h="2358">
                <a:moveTo>
                  <a:pt x="16247" y="4514"/>
                </a:moveTo>
                <a:cubicBezTo>
                  <a:pt x="16230" y="4531"/>
                  <a:pt x="16214" y="4547"/>
                  <a:pt x="16197" y="4564"/>
                </a:cubicBezTo>
                <a:cubicBezTo>
                  <a:pt x="16239" y="4621"/>
                  <a:pt x="16293" y="4672"/>
                  <a:pt x="16321" y="4738"/>
                </a:cubicBezTo>
                <a:cubicBezTo>
                  <a:pt x="16365" y="4839"/>
                  <a:pt x="16432" y="4911"/>
                  <a:pt x="16470" y="5011"/>
                </a:cubicBezTo>
                <a:cubicBezTo>
                  <a:pt x="16510" y="5116"/>
                  <a:pt x="16500" y="5226"/>
                  <a:pt x="16545" y="5333"/>
                </a:cubicBezTo>
                <a:cubicBezTo>
                  <a:pt x="16610" y="5488"/>
                  <a:pt x="16654" y="5633"/>
                  <a:pt x="16669" y="5804"/>
                </a:cubicBezTo>
                <a:cubicBezTo>
                  <a:pt x="16685" y="5980"/>
                  <a:pt x="16662" y="6153"/>
                  <a:pt x="16644" y="6325"/>
                </a:cubicBezTo>
                <a:cubicBezTo>
                  <a:pt x="16632" y="6439"/>
                  <a:pt x="16572" y="6541"/>
                  <a:pt x="16520" y="6648"/>
                </a:cubicBezTo>
                <a:cubicBezTo>
                  <a:pt x="16483" y="6725"/>
                  <a:pt x="16467" y="6753"/>
                  <a:pt x="16396" y="6796"/>
                </a:cubicBezTo>
                <a:cubicBezTo>
                  <a:pt x="16353" y="6822"/>
                  <a:pt x="16345" y="6830"/>
                  <a:pt x="16297" y="6846"/>
                </a:cubicBezTo>
              </a:path>
              <a:path w="5433" h="2358">
                <a:moveTo>
                  <a:pt x="17140" y="5531"/>
                </a:moveTo>
                <a:cubicBezTo>
                  <a:pt x="17206" y="5531"/>
                  <a:pt x="17260" y="5518"/>
                  <a:pt x="17314" y="5507"/>
                </a:cubicBezTo>
                <a:cubicBezTo>
                  <a:pt x="17330" y="5507"/>
                  <a:pt x="17347" y="5507"/>
                  <a:pt x="17363" y="5507"/>
                </a:cubicBezTo>
              </a:path>
              <a:path w="5433" h="2358">
                <a:moveTo>
                  <a:pt x="17214" y="5655"/>
                </a:moveTo>
                <a:cubicBezTo>
                  <a:pt x="17237" y="5678"/>
                  <a:pt x="17241" y="5686"/>
                  <a:pt x="17264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Ink 25"/>
          <p:cNvSpPr/>
          <p:nvPr/>
        </p:nvSpPr>
        <p:spPr>
          <a:xfrm>
            <a:off x="2463840" y="3544920"/>
            <a:ext cx="3063960" cy="839880"/>
          </a:xfrm>
          <a:custGeom>
            <a:avLst/>
            <a:gdLst/>
            <a:ahLst/>
            <a:rect l="l" t="t" r="r" b="b"/>
            <a:pathLst>
              <a:path w="8509" h="2333">
                <a:moveTo>
                  <a:pt x="7466" y="10294"/>
                </a:moveTo>
                <a:cubicBezTo>
                  <a:pt x="7460" y="10243"/>
                  <a:pt x="7455" y="10115"/>
                  <a:pt x="7392" y="10096"/>
                </a:cubicBezTo>
                <a:cubicBezTo>
                  <a:pt x="7273" y="10059"/>
                  <a:pt x="7157" y="10137"/>
                  <a:pt x="7094" y="10220"/>
                </a:cubicBezTo>
                <a:cubicBezTo>
                  <a:pt x="7026" y="10310"/>
                  <a:pt x="6932" y="10436"/>
                  <a:pt x="6896" y="10542"/>
                </a:cubicBezTo>
                <a:cubicBezTo>
                  <a:pt x="6839" y="10710"/>
                  <a:pt x="6827" y="10913"/>
                  <a:pt x="6846" y="11088"/>
                </a:cubicBezTo>
                <a:cubicBezTo>
                  <a:pt x="6860" y="11216"/>
                  <a:pt x="6970" y="11383"/>
                  <a:pt x="7094" y="11435"/>
                </a:cubicBezTo>
                <a:cubicBezTo>
                  <a:pt x="7220" y="11488"/>
                  <a:pt x="7372" y="11463"/>
                  <a:pt x="7491" y="11410"/>
                </a:cubicBezTo>
                <a:cubicBezTo>
                  <a:pt x="7565" y="11361"/>
                  <a:pt x="7590" y="11344"/>
                  <a:pt x="7640" y="11311"/>
                </a:cubicBezTo>
              </a:path>
              <a:path w="8509" h="2333">
                <a:moveTo>
                  <a:pt x="7938" y="10145"/>
                </a:moveTo>
                <a:cubicBezTo>
                  <a:pt x="7921" y="10302"/>
                  <a:pt x="7914" y="10463"/>
                  <a:pt x="7888" y="10616"/>
                </a:cubicBezTo>
                <a:cubicBezTo>
                  <a:pt x="7864" y="10756"/>
                  <a:pt x="7823" y="10919"/>
                  <a:pt x="7838" y="11063"/>
                </a:cubicBezTo>
                <a:cubicBezTo>
                  <a:pt x="7849" y="11172"/>
                  <a:pt x="7854" y="11338"/>
                  <a:pt x="7913" y="11435"/>
                </a:cubicBezTo>
                <a:cubicBezTo>
                  <a:pt x="7950" y="11497"/>
                  <a:pt x="8027" y="11588"/>
                  <a:pt x="8111" y="11584"/>
                </a:cubicBezTo>
                <a:cubicBezTo>
                  <a:pt x="8287" y="11576"/>
                  <a:pt x="8423" y="11255"/>
                  <a:pt x="8483" y="11137"/>
                </a:cubicBezTo>
                <a:cubicBezTo>
                  <a:pt x="8555" y="10997"/>
                  <a:pt x="8590" y="10773"/>
                  <a:pt x="8582" y="10616"/>
                </a:cubicBezTo>
                <a:cubicBezTo>
                  <a:pt x="8574" y="10461"/>
                  <a:pt x="8495" y="10359"/>
                  <a:pt x="8409" y="10244"/>
                </a:cubicBezTo>
                <a:cubicBezTo>
                  <a:pt x="8303" y="10103"/>
                  <a:pt x="8205" y="10096"/>
                  <a:pt x="8037" y="10096"/>
                </a:cubicBezTo>
                <a:cubicBezTo>
                  <a:pt x="7895" y="10096"/>
                  <a:pt x="7805" y="10258"/>
                  <a:pt x="7739" y="10368"/>
                </a:cubicBezTo>
                <a:cubicBezTo>
                  <a:pt x="7678" y="10470"/>
                  <a:pt x="7689" y="10527"/>
                  <a:pt x="7689" y="10641"/>
                </a:cubicBezTo>
              </a:path>
              <a:path w="8509" h="2333">
                <a:moveTo>
                  <a:pt x="9054" y="10120"/>
                </a:moveTo>
                <a:cubicBezTo>
                  <a:pt x="8981" y="10048"/>
                  <a:pt x="8983" y="10070"/>
                  <a:pt x="8905" y="10120"/>
                </a:cubicBezTo>
                <a:cubicBezTo>
                  <a:pt x="8862" y="10147"/>
                  <a:pt x="8779" y="10256"/>
                  <a:pt x="8781" y="10319"/>
                </a:cubicBezTo>
                <a:cubicBezTo>
                  <a:pt x="8786" y="10461"/>
                  <a:pt x="8841" y="10502"/>
                  <a:pt x="8905" y="10616"/>
                </a:cubicBezTo>
                <a:cubicBezTo>
                  <a:pt x="8983" y="10756"/>
                  <a:pt x="9058" y="10874"/>
                  <a:pt x="9128" y="11013"/>
                </a:cubicBezTo>
                <a:cubicBezTo>
                  <a:pt x="9179" y="11115"/>
                  <a:pt x="9222" y="11196"/>
                  <a:pt x="9227" y="11311"/>
                </a:cubicBezTo>
                <a:cubicBezTo>
                  <a:pt x="9230" y="11368"/>
                  <a:pt x="9203" y="11450"/>
                  <a:pt x="9153" y="11485"/>
                </a:cubicBezTo>
                <a:cubicBezTo>
                  <a:pt x="9078" y="11538"/>
                  <a:pt x="9011" y="11518"/>
                  <a:pt x="8954" y="11460"/>
                </a:cubicBezTo>
                <a:cubicBezTo>
                  <a:pt x="8900" y="11405"/>
                  <a:pt x="8905" y="11358"/>
                  <a:pt x="8905" y="11286"/>
                </a:cubicBezTo>
                <a:cubicBezTo>
                  <a:pt x="8905" y="11278"/>
                  <a:pt x="8905" y="11269"/>
                  <a:pt x="8905" y="11261"/>
                </a:cubicBezTo>
              </a:path>
              <a:path w="8509" h="2333">
                <a:moveTo>
                  <a:pt x="9550" y="9897"/>
                </a:moveTo>
                <a:cubicBezTo>
                  <a:pt x="9622" y="9873"/>
                  <a:pt x="9702" y="9864"/>
                  <a:pt x="9773" y="9897"/>
                </a:cubicBezTo>
                <a:cubicBezTo>
                  <a:pt x="9844" y="9930"/>
                  <a:pt x="9822" y="9991"/>
                  <a:pt x="9798" y="10046"/>
                </a:cubicBezTo>
                <a:cubicBezTo>
                  <a:pt x="9773" y="10096"/>
                  <a:pt x="9765" y="10112"/>
                  <a:pt x="9723" y="10120"/>
                </a:cubicBezTo>
                <a:cubicBezTo>
                  <a:pt x="9796" y="10129"/>
                  <a:pt x="9821" y="10144"/>
                  <a:pt x="9872" y="10195"/>
                </a:cubicBezTo>
                <a:cubicBezTo>
                  <a:pt x="9936" y="10259"/>
                  <a:pt x="9870" y="10317"/>
                  <a:pt x="9823" y="10368"/>
                </a:cubicBezTo>
                <a:cubicBezTo>
                  <a:pt x="9758" y="10438"/>
                  <a:pt x="9630" y="10431"/>
                  <a:pt x="9550" y="10393"/>
                </a:cubicBezTo>
                <a:cubicBezTo>
                  <a:pt x="9528" y="10371"/>
                  <a:pt x="9519" y="10366"/>
                  <a:pt x="9525" y="10344"/>
                </a:cubicBezTo>
              </a:path>
              <a:path w="8509" h="2333">
                <a:moveTo>
                  <a:pt x="10071" y="10244"/>
                </a:moveTo>
                <a:cubicBezTo>
                  <a:pt x="10149" y="10373"/>
                  <a:pt x="10219" y="10488"/>
                  <a:pt x="10294" y="10616"/>
                </a:cubicBezTo>
                <a:cubicBezTo>
                  <a:pt x="10372" y="10748"/>
                  <a:pt x="10440" y="10866"/>
                  <a:pt x="10492" y="11013"/>
                </a:cubicBezTo>
                <a:cubicBezTo>
                  <a:pt x="10511" y="11068"/>
                  <a:pt x="10588" y="11209"/>
                  <a:pt x="10641" y="11237"/>
                </a:cubicBezTo>
                <a:cubicBezTo>
                  <a:pt x="10693" y="11265"/>
                  <a:pt x="10769" y="11264"/>
                  <a:pt x="10815" y="11237"/>
                </a:cubicBezTo>
              </a:path>
              <a:path w="8509" h="2333">
                <a:moveTo>
                  <a:pt x="10815" y="10244"/>
                </a:moveTo>
                <a:cubicBezTo>
                  <a:pt x="10807" y="10228"/>
                  <a:pt x="10798" y="10211"/>
                  <a:pt x="10790" y="10195"/>
                </a:cubicBezTo>
                <a:cubicBezTo>
                  <a:pt x="10745" y="10304"/>
                  <a:pt x="10681" y="10409"/>
                  <a:pt x="10641" y="10517"/>
                </a:cubicBezTo>
                <a:cubicBezTo>
                  <a:pt x="10592" y="10650"/>
                  <a:pt x="10510" y="10778"/>
                  <a:pt x="10468" y="10914"/>
                </a:cubicBezTo>
                <a:cubicBezTo>
                  <a:pt x="10428" y="11044"/>
                  <a:pt x="10378" y="11160"/>
                  <a:pt x="10319" y="11286"/>
                </a:cubicBezTo>
                <a:cubicBezTo>
                  <a:pt x="10269" y="11394"/>
                  <a:pt x="10225" y="11498"/>
                  <a:pt x="10145" y="11584"/>
                </a:cubicBezTo>
                <a:cubicBezTo>
                  <a:pt x="10120" y="11609"/>
                  <a:pt x="10112" y="11617"/>
                  <a:pt x="10145" y="11633"/>
                </a:cubicBezTo>
              </a:path>
              <a:path w="8509" h="2333">
                <a:moveTo>
                  <a:pt x="11286" y="10864"/>
                </a:moveTo>
                <a:cubicBezTo>
                  <a:pt x="11292" y="11053"/>
                  <a:pt x="11296" y="11251"/>
                  <a:pt x="11336" y="11435"/>
                </a:cubicBezTo>
                <a:cubicBezTo>
                  <a:pt x="11359" y="11542"/>
                  <a:pt x="11361" y="11651"/>
                  <a:pt x="11385" y="11757"/>
                </a:cubicBezTo>
                <a:cubicBezTo>
                  <a:pt x="11385" y="11802"/>
                  <a:pt x="11382" y="11815"/>
                  <a:pt x="11410" y="11832"/>
                </a:cubicBezTo>
                <a:cubicBezTo>
                  <a:pt x="11410" y="11631"/>
                  <a:pt x="11421" y="11434"/>
                  <a:pt x="11435" y="11237"/>
                </a:cubicBezTo>
                <a:cubicBezTo>
                  <a:pt x="11446" y="11090"/>
                  <a:pt x="11475" y="10910"/>
                  <a:pt x="11460" y="10765"/>
                </a:cubicBezTo>
                <a:cubicBezTo>
                  <a:pt x="11443" y="10601"/>
                  <a:pt x="11415" y="10435"/>
                  <a:pt x="11410" y="10269"/>
                </a:cubicBezTo>
                <a:cubicBezTo>
                  <a:pt x="11407" y="10186"/>
                  <a:pt x="11369" y="9927"/>
                  <a:pt x="11435" y="9872"/>
                </a:cubicBezTo>
                <a:cubicBezTo>
                  <a:pt x="11475" y="9839"/>
                  <a:pt x="11607" y="9849"/>
                  <a:pt x="11658" y="9847"/>
                </a:cubicBezTo>
                <a:cubicBezTo>
                  <a:pt x="11835" y="9842"/>
                  <a:pt x="12002" y="9861"/>
                  <a:pt x="12179" y="9872"/>
                </a:cubicBezTo>
                <a:cubicBezTo>
                  <a:pt x="12321" y="9880"/>
                  <a:pt x="12456" y="9897"/>
                  <a:pt x="12601" y="9897"/>
                </a:cubicBezTo>
                <a:cubicBezTo>
                  <a:pt x="12708" y="9897"/>
                  <a:pt x="12816" y="9897"/>
                  <a:pt x="12923" y="9897"/>
                </a:cubicBezTo>
              </a:path>
              <a:path w="8509" h="2333">
                <a:moveTo>
                  <a:pt x="12427" y="10443"/>
                </a:moveTo>
                <a:cubicBezTo>
                  <a:pt x="12345" y="10417"/>
                  <a:pt x="12283" y="10381"/>
                  <a:pt x="12204" y="10418"/>
                </a:cubicBezTo>
                <a:cubicBezTo>
                  <a:pt x="12163" y="10437"/>
                  <a:pt x="12121" y="10504"/>
                  <a:pt x="12105" y="10542"/>
                </a:cubicBezTo>
                <a:cubicBezTo>
                  <a:pt x="12040" y="10690"/>
                  <a:pt x="12058" y="10720"/>
                  <a:pt x="12105" y="10864"/>
                </a:cubicBezTo>
                <a:cubicBezTo>
                  <a:pt x="12143" y="10981"/>
                  <a:pt x="12151" y="11098"/>
                  <a:pt x="12179" y="11212"/>
                </a:cubicBezTo>
                <a:cubicBezTo>
                  <a:pt x="12198" y="11291"/>
                  <a:pt x="12227" y="11399"/>
                  <a:pt x="12204" y="11485"/>
                </a:cubicBezTo>
                <a:cubicBezTo>
                  <a:pt x="12186" y="11551"/>
                  <a:pt x="12156" y="11640"/>
                  <a:pt x="12080" y="11658"/>
                </a:cubicBezTo>
                <a:cubicBezTo>
                  <a:pt x="12016" y="11673"/>
                  <a:pt x="11924" y="11620"/>
                  <a:pt x="11906" y="11559"/>
                </a:cubicBezTo>
                <a:cubicBezTo>
                  <a:pt x="11892" y="11512"/>
                  <a:pt x="11887" y="11459"/>
                  <a:pt x="11881" y="11410"/>
                </a:cubicBezTo>
              </a:path>
              <a:path w="8509" h="2333">
                <a:moveTo>
                  <a:pt x="12626" y="10468"/>
                </a:moveTo>
                <a:cubicBezTo>
                  <a:pt x="12659" y="10587"/>
                  <a:pt x="12696" y="10714"/>
                  <a:pt x="12675" y="10840"/>
                </a:cubicBezTo>
                <a:cubicBezTo>
                  <a:pt x="12653" y="10970"/>
                  <a:pt x="12615" y="11104"/>
                  <a:pt x="12601" y="11237"/>
                </a:cubicBezTo>
                <a:cubicBezTo>
                  <a:pt x="12586" y="11379"/>
                  <a:pt x="12576" y="11513"/>
                  <a:pt x="12576" y="11658"/>
                </a:cubicBezTo>
                <a:cubicBezTo>
                  <a:pt x="12576" y="11708"/>
                  <a:pt x="12576" y="11757"/>
                  <a:pt x="12576" y="11807"/>
                </a:cubicBezTo>
              </a:path>
              <a:path w="8509" h="2333">
                <a:moveTo>
                  <a:pt x="12998" y="10517"/>
                </a:moveTo>
                <a:cubicBezTo>
                  <a:pt x="13023" y="10661"/>
                  <a:pt x="13063" y="10844"/>
                  <a:pt x="13047" y="10988"/>
                </a:cubicBezTo>
                <a:cubicBezTo>
                  <a:pt x="13027" y="11168"/>
                  <a:pt x="13008" y="11351"/>
                  <a:pt x="12998" y="11534"/>
                </a:cubicBezTo>
                <a:cubicBezTo>
                  <a:pt x="12991" y="11654"/>
                  <a:pt x="12963" y="11764"/>
                  <a:pt x="12948" y="11881"/>
                </a:cubicBezTo>
                <a:cubicBezTo>
                  <a:pt x="12948" y="11898"/>
                  <a:pt x="12948" y="11914"/>
                  <a:pt x="12948" y="11931"/>
                </a:cubicBezTo>
                <a:cubicBezTo>
                  <a:pt x="12948" y="11842"/>
                  <a:pt x="12965" y="11770"/>
                  <a:pt x="12973" y="11683"/>
                </a:cubicBezTo>
                <a:cubicBezTo>
                  <a:pt x="12989" y="11509"/>
                  <a:pt x="13057" y="11338"/>
                  <a:pt x="13097" y="11162"/>
                </a:cubicBezTo>
                <a:cubicBezTo>
                  <a:pt x="13148" y="10937"/>
                  <a:pt x="13200" y="10817"/>
                  <a:pt x="13295" y="10616"/>
                </a:cubicBezTo>
                <a:cubicBezTo>
                  <a:pt x="13327" y="10547"/>
                  <a:pt x="13321" y="10541"/>
                  <a:pt x="13370" y="10492"/>
                </a:cubicBezTo>
                <a:cubicBezTo>
                  <a:pt x="13514" y="10492"/>
                  <a:pt x="13470" y="10496"/>
                  <a:pt x="13519" y="10641"/>
                </a:cubicBezTo>
                <a:cubicBezTo>
                  <a:pt x="13555" y="10748"/>
                  <a:pt x="13565" y="10873"/>
                  <a:pt x="13568" y="10988"/>
                </a:cubicBezTo>
                <a:cubicBezTo>
                  <a:pt x="13572" y="11139"/>
                  <a:pt x="13593" y="11283"/>
                  <a:pt x="13593" y="11435"/>
                </a:cubicBezTo>
                <a:cubicBezTo>
                  <a:pt x="13593" y="11572"/>
                  <a:pt x="13573" y="11698"/>
                  <a:pt x="13568" y="11832"/>
                </a:cubicBezTo>
                <a:cubicBezTo>
                  <a:pt x="13565" y="11915"/>
                  <a:pt x="13601" y="12013"/>
                  <a:pt x="13618" y="12055"/>
                </a:cubicBezTo>
              </a:path>
              <a:path w="8509" h="2333">
                <a:moveTo>
                  <a:pt x="13965" y="10740"/>
                </a:moveTo>
                <a:cubicBezTo>
                  <a:pt x="14007" y="10824"/>
                  <a:pt x="14019" y="10877"/>
                  <a:pt x="14039" y="10964"/>
                </a:cubicBezTo>
                <a:cubicBezTo>
                  <a:pt x="14065" y="11078"/>
                  <a:pt x="14075" y="11197"/>
                  <a:pt x="14114" y="11311"/>
                </a:cubicBezTo>
                <a:cubicBezTo>
                  <a:pt x="14162" y="11452"/>
                  <a:pt x="14212" y="11654"/>
                  <a:pt x="14288" y="11782"/>
                </a:cubicBezTo>
                <a:cubicBezTo>
                  <a:pt x="14318" y="11833"/>
                  <a:pt x="14400" y="11967"/>
                  <a:pt x="14461" y="11981"/>
                </a:cubicBezTo>
                <a:cubicBezTo>
                  <a:pt x="14550" y="12001"/>
                  <a:pt x="14568" y="11965"/>
                  <a:pt x="14610" y="11906"/>
                </a:cubicBezTo>
              </a:path>
              <a:path w="8509" h="2333">
                <a:moveTo>
                  <a:pt x="14511" y="10616"/>
                </a:moveTo>
                <a:cubicBezTo>
                  <a:pt x="14448" y="10669"/>
                  <a:pt x="14438" y="10747"/>
                  <a:pt x="14412" y="10840"/>
                </a:cubicBezTo>
                <a:cubicBezTo>
                  <a:pt x="14369" y="10994"/>
                  <a:pt x="14311" y="11136"/>
                  <a:pt x="14263" y="11286"/>
                </a:cubicBezTo>
                <a:cubicBezTo>
                  <a:pt x="14204" y="11472"/>
                  <a:pt x="14113" y="11668"/>
                  <a:pt x="14064" y="11857"/>
                </a:cubicBezTo>
                <a:cubicBezTo>
                  <a:pt x="14034" y="11974"/>
                  <a:pt x="14011" y="12055"/>
                  <a:pt x="13940" y="12154"/>
                </a:cubicBezTo>
                <a:cubicBezTo>
                  <a:pt x="13932" y="12162"/>
                  <a:pt x="13923" y="12171"/>
                  <a:pt x="13915" y="12179"/>
                </a:cubicBezTo>
              </a:path>
              <a:path w="8509" h="2333">
                <a:moveTo>
                  <a:pt x="12824" y="10120"/>
                </a:moveTo>
                <a:cubicBezTo>
                  <a:pt x="12852" y="10148"/>
                  <a:pt x="12865" y="10157"/>
                  <a:pt x="12898" y="10145"/>
                </a:cubicBezTo>
              </a:path>
              <a:path w="8509" h="2333">
                <a:moveTo>
                  <a:pt x="14982" y="10914"/>
                </a:moveTo>
                <a:cubicBezTo>
                  <a:pt x="15104" y="10914"/>
                  <a:pt x="15212" y="10909"/>
                  <a:pt x="15329" y="10939"/>
                </a:cubicBezTo>
              </a:path>
              <a:path w="8509" h="2333">
                <a:moveTo>
                  <a:pt x="15156" y="11162"/>
                </a:moveTo>
                <a:cubicBezTo>
                  <a:pt x="15271" y="11181"/>
                  <a:pt x="15287" y="11190"/>
                  <a:pt x="15354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Ink 26"/>
          <p:cNvSpPr/>
          <p:nvPr/>
        </p:nvSpPr>
        <p:spPr>
          <a:xfrm>
            <a:off x="6134040" y="1768320"/>
            <a:ext cx="1366920" cy="2401920"/>
          </a:xfrm>
          <a:custGeom>
            <a:avLst/>
            <a:gdLst/>
            <a:ahLst/>
            <a:rect l="l" t="t" r="r" b="b"/>
            <a:pathLst>
              <a:path w="3796" h="6674">
                <a:moveTo>
                  <a:pt x="20836" y="4911"/>
                </a:moveTo>
                <a:cubicBezTo>
                  <a:pt x="20789" y="5012"/>
                  <a:pt x="20735" y="5108"/>
                  <a:pt x="20687" y="5209"/>
                </a:cubicBezTo>
                <a:cubicBezTo>
                  <a:pt x="20639" y="5310"/>
                  <a:pt x="20590" y="5408"/>
                  <a:pt x="20538" y="5507"/>
                </a:cubicBezTo>
                <a:cubicBezTo>
                  <a:pt x="20444" y="5688"/>
                  <a:pt x="20378" y="5878"/>
                  <a:pt x="20265" y="6052"/>
                </a:cubicBezTo>
                <a:cubicBezTo>
                  <a:pt x="20148" y="6232"/>
                  <a:pt x="20065" y="6380"/>
                  <a:pt x="19968" y="6573"/>
                </a:cubicBezTo>
                <a:cubicBezTo>
                  <a:pt x="19872" y="6765"/>
                  <a:pt x="19770" y="6954"/>
                  <a:pt x="19670" y="7144"/>
                </a:cubicBezTo>
                <a:cubicBezTo>
                  <a:pt x="19481" y="7501"/>
                  <a:pt x="19320" y="7923"/>
                  <a:pt x="19100" y="8260"/>
                </a:cubicBezTo>
                <a:cubicBezTo>
                  <a:pt x="18973" y="8454"/>
                  <a:pt x="18875" y="8654"/>
                  <a:pt x="18752" y="8855"/>
                </a:cubicBezTo>
                <a:cubicBezTo>
                  <a:pt x="18628" y="9059"/>
                  <a:pt x="18513" y="9253"/>
                  <a:pt x="18380" y="9451"/>
                </a:cubicBezTo>
                <a:cubicBezTo>
                  <a:pt x="18234" y="9668"/>
                  <a:pt x="18131" y="9905"/>
                  <a:pt x="17983" y="10120"/>
                </a:cubicBezTo>
                <a:cubicBezTo>
                  <a:pt x="17880" y="10270"/>
                  <a:pt x="17791" y="10419"/>
                  <a:pt x="17686" y="10567"/>
                </a:cubicBezTo>
                <a:cubicBezTo>
                  <a:pt x="17607" y="10679"/>
                  <a:pt x="17532" y="10794"/>
                  <a:pt x="17462" y="10914"/>
                </a:cubicBezTo>
                <a:cubicBezTo>
                  <a:pt x="17406" y="11009"/>
                  <a:pt x="17358" y="11095"/>
                  <a:pt x="17289" y="11187"/>
                </a:cubicBezTo>
                <a:cubicBezTo>
                  <a:pt x="17250" y="11239"/>
                  <a:pt x="17209" y="11286"/>
                  <a:pt x="17165" y="11336"/>
                </a:cubicBezTo>
                <a:cubicBezTo>
                  <a:pt x="17142" y="11362"/>
                  <a:pt x="17112" y="11383"/>
                  <a:pt x="17090" y="11410"/>
                </a:cubicBezTo>
                <a:cubicBezTo>
                  <a:pt x="17085" y="11343"/>
                  <a:pt x="17088" y="11264"/>
                  <a:pt x="17090" y="11187"/>
                </a:cubicBezTo>
                <a:cubicBezTo>
                  <a:pt x="17093" y="11088"/>
                  <a:pt x="17097" y="11007"/>
                  <a:pt x="17115" y="10914"/>
                </a:cubicBezTo>
                <a:cubicBezTo>
                  <a:pt x="17115" y="10869"/>
                  <a:pt x="17111" y="10856"/>
                  <a:pt x="17140" y="10840"/>
                </a:cubicBezTo>
                <a:cubicBezTo>
                  <a:pt x="17121" y="10934"/>
                  <a:pt x="17105" y="11019"/>
                  <a:pt x="17090" y="11112"/>
                </a:cubicBezTo>
                <a:cubicBezTo>
                  <a:pt x="17073" y="11219"/>
                  <a:pt x="16983" y="11448"/>
                  <a:pt x="17090" y="11559"/>
                </a:cubicBezTo>
                <a:cubicBezTo>
                  <a:pt x="17149" y="11620"/>
                  <a:pt x="17244" y="11571"/>
                  <a:pt x="17314" y="11559"/>
                </a:cubicBezTo>
                <a:cubicBezTo>
                  <a:pt x="17455" y="11534"/>
                  <a:pt x="17617" y="11430"/>
                  <a:pt x="17735" y="11361"/>
                </a:cubicBezTo>
                <a:cubicBezTo>
                  <a:pt x="17798" y="11324"/>
                  <a:pt x="17837" y="11290"/>
                  <a:pt x="17884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Ink 27"/>
          <p:cNvSpPr/>
          <p:nvPr/>
        </p:nvSpPr>
        <p:spPr>
          <a:xfrm>
            <a:off x="1081080" y="2571840"/>
            <a:ext cx="3919680" cy="830160"/>
          </a:xfrm>
          <a:custGeom>
            <a:avLst/>
            <a:gdLst/>
            <a:ahLst/>
            <a:rect l="l" t="t" r="r" b="b"/>
            <a:pathLst>
              <a:path w="10891" h="2308">
                <a:moveTo>
                  <a:pt x="3001" y="8235"/>
                </a:moveTo>
                <a:cubicBezTo>
                  <a:pt x="3010" y="8338"/>
                  <a:pt x="3038" y="8430"/>
                  <a:pt x="3051" y="8533"/>
                </a:cubicBezTo>
                <a:cubicBezTo>
                  <a:pt x="3066" y="8648"/>
                  <a:pt x="3065" y="8741"/>
                  <a:pt x="3101" y="8855"/>
                </a:cubicBezTo>
                <a:cubicBezTo>
                  <a:pt x="3135" y="8963"/>
                  <a:pt x="3179" y="9094"/>
                  <a:pt x="3200" y="9203"/>
                </a:cubicBezTo>
                <a:cubicBezTo>
                  <a:pt x="3209" y="9251"/>
                  <a:pt x="3212" y="9286"/>
                  <a:pt x="3225" y="9327"/>
                </a:cubicBezTo>
                <a:cubicBezTo>
                  <a:pt x="3230" y="9241"/>
                  <a:pt x="3241" y="9164"/>
                  <a:pt x="3249" y="9079"/>
                </a:cubicBezTo>
                <a:cubicBezTo>
                  <a:pt x="3283" y="8719"/>
                  <a:pt x="3247" y="8347"/>
                  <a:pt x="3274" y="7987"/>
                </a:cubicBezTo>
                <a:cubicBezTo>
                  <a:pt x="3288" y="7802"/>
                  <a:pt x="3261" y="7625"/>
                  <a:pt x="3299" y="7441"/>
                </a:cubicBezTo>
                <a:cubicBezTo>
                  <a:pt x="3310" y="7386"/>
                  <a:pt x="3320" y="7354"/>
                  <a:pt x="3373" y="7317"/>
                </a:cubicBezTo>
                <a:cubicBezTo>
                  <a:pt x="3450" y="7263"/>
                  <a:pt x="3557" y="7254"/>
                  <a:pt x="3646" y="7243"/>
                </a:cubicBezTo>
                <a:cubicBezTo>
                  <a:pt x="3835" y="7219"/>
                  <a:pt x="4028" y="7186"/>
                  <a:pt x="4217" y="7169"/>
                </a:cubicBezTo>
                <a:cubicBezTo>
                  <a:pt x="4333" y="7159"/>
                  <a:pt x="4450" y="7148"/>
                  <a:pt x="4564" y="7144"/>
                </a:cubicBezTo>
                <a:cubicBezTo>
                  <a:pt x="4656" y="7141"/>
                  <a:pt x="4735" y="7151"/>
                  <a:pt x="4812" y="7169"/>
                </a:cubicBezTo>
              </a:path>
              <a:path w="10891" h="2308">
                <a:moveTo>
                  <a:pt x="4142" y="7838"/>
                </a:moveTo>
                <a:cubicBezTo>
                  <a:pt x="4066" y="7762"/>
                  <a:pt x="4014" y="7668"/>
                  <a:pt x="3894" y="7689"/>
                </a:cubicBezTo>
                <a:cubicBezTo>
                  <a:pt x="3833" y="7700"/>
                  <a:pt x="3732" y="7766"/>
                  <a:pt x="3696" y="7813"/>
                </a:cubicBezTo>
                <a:cubicBezTo>
                  <a:pt x="3646" y="7879"/>
                  <a:pt x="3628" y="7982"/>
                  <a:pt x="3646" y="8062"/>
                </a:cubicBezTo>
                <a:cubicBezTo>
                  <a:pt x="3673" y="8177"/>
                  <a:pt x="3753" y="8232"/>
                  <a:pt x="3795" y="8334"/>
                </a:cubicBezTo>
                <a:cubicBezTo>
                  <a:pt x="3846" y="8457"/>
                  <a:pt x="3921" y="8583"/>
                  <a:pt x="3969" y="8706"/>
                </a:cubicBezTo>
                <a:cubicBezTo>
                  <a:pt x="4017" y="8827"/>
                  <a:pt x="4018" y="8924"/>
                  <a:pt x="4018" y="9054"/>
                </a:cubicBezTo>
                <a:cubicBezTo>
                  <a:pt x="4018" y="9128"/>
                  <a:pt x="3989" y="9149"/>
                  <a:pt x="3919" y="9153"/>
                </a:cubicBezTo>
                <a:cubicBezTo>
                  <a:pt x="3850" y="9157"/>
                  <a:pt x="3817" y="9101"/>
                  <a:pt x="3770" y="9054"/>
                </a:cubicBezTo>
                <a:cubicBezTo>
                  <a:pt x="3738" y="9022"/>
                  <a:pt x="3736" y="8991"/>
                  <a:pt x="3721" y="8954"/>
                </a:cubicBezTo>
              </a:path>
              <a:path w="10891" h="2308">
                <a:moveTo>
                  <a:pt x="4465" y="7888"/>
                </a:moveTo>
                <a:cubicBezTo>
                  <a:pt x="4465" y="8122"/>
                  <a:pt x="4461" y="8350"/>
                  <a:pt x="4440" y="8582"/>
                </a:cubicBezTo>
                <a:cubicBezTo>
                  <a:pt x="4427" y="8729"/>
                  <a:pt x="4420" y="8881"/>
                  <a:pt x="4415" y="9029"/>
                </a:cubicBezTo>
                <a:cubicBezTo>
                  <a:pt x="4412" y="9121"/>
                  <a:pt x="4426" y="9193"/>
                  <a:pt x="4440" y="9277"/>
                </a:cubicBezTo>
                <a:cubicBezTo>
                  <a:pt x="4440" y="9329"/>
                  <a:pt x="4441" y="9344"/>
                  <a:pt x="4465" y="9277"/>
                </a:cubicBezTo>
              </a:path>
              <a:path w="10891" h="2308">
                <a:moveTo>
                  <a:pt x="4812" y="7987"/>
                </a:moveTo>
                <a:cubicBezTo>
                  <a:pt x="4812" y="8092"/>
                  <a:pt x="4834" y="8183"/>
                  <a:pt x="4837" y="8285"/>
                </a:cubicBezTo>
                <a:cubicBezTo>
                  <a:pt x="4841" y="8419"/>
                  <a:pt x="4862" y="8545"/>
                  <a:pt x="4862" y="8682"/>
                </a:cubicBezTo>
                <a:cubicBezTo>
                  <a:pt x="4862" y="8825"/>
                  <a:pt x="4837" y="8959"/>
                  <a:pt x="4837" y="9103"/>
                </a:cubicBezTo>
                <a:cubicBezTo>
                  <a:pt x="4837" y="9202"/>
                  <a:pt x="4837" y="9302"/>
                  <a:pt x="4837" y="9401"/>
                </a:cubicBezTo>
                <a:cubicBezTo>
                  <a:pt x="4848" y="9290"/>
                  <a:pt x="4899" y="9189"/>
                  <a:pt x="4911" y="9079"/>
                </a:cubicBezTo>
                <a:cubicBezTo>
                  <a:pt x="4928" y="8924"/>
                  <a:pt x="4936" y="8759"/>
                  <a:pt x="4961" y="8607"/>
                </a:cubicBezTo>
                <a:cubicBezTo>
                  <a:pt x="4990" y="8431"/>
                  <a:pt x="5045" y="8265"/>
                  <a:pt x="5135" y="8111"/>
                </a:cubicBezTo>
                <a:cubicBezTo>
                  <a:pt x="5233" y="7944"/>
                  <a:pt x="5305" y="7862"/>
                  <a:pt x="5531" y="7913"/>
                </a:cubicBezTo>
                <a:cubicBezTo>
                  <a:pt x="5572" y="7922"/>
                  <a:pt x="5621" y="8194"/>
                  <a:pt x="5631" y="8235"/>
                </a:cubicBezTo>
                <a:cubicBezTo>
                  <a:pt x="5702" y="8514"/>
                  <a:pt x="5675" y="8777"/>
                  <a:pt x="5655" y="9054"/>
                </a:cubicBezTo>
                <a:cubicBezTo>
                  <a:pt x="5646" y="9176"/>
                  <a:pt x="5662" y="9340"/>
                  <a:pt x="5631" y="9426"/>
                </a:cubicBezTo>
              </a:path>
              <a:path w="10891" h="2308">
                <a:moveTo>
                  <a:pt x="4564" y="7640"/>
                </a:moveTo>
                <a:lnTo>
                  <a:pt x="4564" y="7640"/>
                </a:lnTo>
              </a:path>
              <a:path w="10891" h="2308">
                <a:moveTo>
                  <a:pt x="5953" y="7938"/>
                </a:moveTo>
                <a:cubicBezTo>
                  <a:pt x="5982" y="8039"/>
                  <a:pt x="6019" y="8135"/>
                  <a:pt x="6052" y="8235"/>
                </a:cubicBezTo>
                <a:cubicBezTo>
                  <a:pt x="6103" y="8389"/>
                  <a:pt x="6140" y="8556"/>
                  <a:pt x="6201" y="8706"/>
                </a:cubicBezTo>
                <a:cubicBezTo>
                  <a:pt x="6244" y="8813"/>
                  <a:pt x="6282" y="8922"/>
                  <a:pt x="6325" y="9029"/>
                </a:cubicBezTo>
                <a:cubicBezTo>
                  <a:pt x="6353" y="9097"/>
                  <a:pt x="6400" y="9173"/>
                  <a:pt x="6449" y="9227"/>
                </a:cubicBezTo>
                <a:cubicBezTo>
                  <a:pt x="6473" y="9253"/>
                  <a:pt x="6499" y="9277"/>
                  <a:pt x="6524" y="9302"/>
                </a:cubicBezTo>
              </a:path>
              <a:path w="10891" h="2308">
                <a:moveTo>
                  <a:pt x="6424" y="7913"/>
                </a:moveTo>
                <a:cubicBezTo>
                  <a:pt x="6353" y="8025"/>
                  <a:pt x="6322" y="8123"/>
                  <a:pt x="6300" y="8260"/>
                </a:cubicBezTo>
                <a:cubicBezTo>
                  <a:pt x="6279" y="8392"/>
                  <a:pt x="6244" y="8482"/>
                  <a:pt x="6201" y="8607"/>
                </a:cubicBezTo>
                <a:cubicBezTo>
                  <a:pt x="6157" y="8735"/>
                  <a:pt x="6133" y="8852"/>
                  <a:pt x="6102" y="8979"/>
                </a:cubicBezTo>
                <a:cubicBezTo>
                  <a:pt x="6083" y="9057"/>
                  <a:pt x="6051" y="9159"/>
                  <a:pt x="6003" y="9227"/>
                </a:cubicBezTo>
                <a:cubicBezTo>
                  <a:pt x="5966" y="9280"/>
                  <a:pt x="5963" y="9257"/>
                  <a:pt x="5953" y="9327"/>
                </a:cubicBezTo>
              </a:path>
              <a:path w="10891" h="2308">
                <a:moveTo>
                  <a:pt x="6995" y="8657"/>
                </a:moveTo>
                <a:cubicBezTo>
                  <a:pt x="6987" y="8657"/>
                  <a:pt x="6978" y="8657"/>
                  <a:pt x="6970" y="8657"/>
                </a:cubicBezTo>
              </a:path>
              <a:path w="10891" h="2308">
                <a:moveTo>
                  <a:pt x="7962" y="8012"/>
                </a:moveTo>
                <a:cubicBezTo>
                  <a:pt x="7902" y="8026"/>
                  <a:pt x="7810" y="8059"/>
                  <a:pt x="7764" y="8111"/>
                </a:cubicBezTo>
                <a:cubicBezTo>
                  <a:pt x="7705" y="8178"/>
                  <a:pt x="7646" y="8278"/>
                  <a:pt x="7615" y="8359"/>
                </a:cubicBezTo>
                <a:cubicBezTo>
                  <a:pt x="7575" y="8463"/>
                  <a:pt x="7531" y="8595"/>
                  <a:pt x="7516" y="8706"/>
                </a:cubicBezTo>
                <a:cubicBezTo>
                  <a:pt x="7503" y="8807"/>
                  <a:pt x="7500" y="8910"/>
                  <a:pt x="7516" y="9004"/>
                </a:cubicBezTo>
                <a:cubicBezTo>
                  <a:pt x="7529" y="9082"/>
                  <a:pt x="7544" y="9216"/>
                  <a:pt x="7615" y="9277"/>
                </a:cubicBezTo>
                <a:cubicBezTo>
                  <a:pt x="7662" y="9317"/>
                  <a:pt x="7752" y="9344"/>
                  <a:pt x="7813" y="9327"/>
                </a:cubicBezTo>
                <a:cubicBezTo>
                  <a:pt x="7861" y="9303"/>
                  <a:pt x="7876" y="9295"/>
                  <a:pt x="7913" y="9302"/>
                </a:cubicBezTo>
              </a:path>
              <a:path w="10891" h="2308">
                <a:moveTo>
                  <a:pt x="8334" y="8136"/>
                </a:moveTo>
                <a:cubicBezTo>
                  <a:pt x="8299" y="8278"/>
                  <a:pt x="8275" y="8414"/>
                  <a:pt x="8260" y="8558"/>
                </a:cubicBezTo>
                <a:cubicBezTo>
                  <a:pt x="8247" y="8685"/>
                  <a:pt x="8249" y="8833"/>
                  <a:pt x="8285" y="8954"/>
                </a:cubicBezTo>
                <a:cubicBezTo>
                  <a:pt x="8307" y="9028"/>
                  <a:pt x="8318" y="9148"/>
                  <a:pt x="8359" y="9203"/>
                </a:cubicBezTo>
                <a:cubicBezTo>
                  <a:pt x="8386" y="9239"/>
                  <a:pt x="8433" y="9294"/>
                  <a:pt x="8483" y="9277"/>
                </a:cubicBezTo>
                <a:cubicBezTo>
                  <a:pt x="8535" y="9260"/>
                  <a:pt x="8586" y="9204"/>
                  <a:pt x="8607" y="9153"/>
                </a:cubicBezTo>
                <a:cubicBezTo>
                  <a:pt x="8657" y="9032"/>
                  <a:pt x="8737" y="8914"/>
                  <a:pt x="8756" y="8781"/>
                </a:cubicBezTo>
                <a:cubicBezTo>
                  <a:pt x="8778" y="8627"/>
                  <a:pt x="8751" y="8459"/>
                  <a:pt x="8731" y="8310"/>
                </a:cubicBezTo>
                <a:cubicBezTo>
                  <a:pt x="8721" y="8240"/>
                  <a:pt x="8699" y="8172"/>
                  <a:pt x="8657" y="8111"/>
                </a:cubicBezTo>
                <a:cubicBezTo>
                  <a:pt x="8598" y="8025"/>
                  <a:pt x="8519" y="8086"/>
                  <a:pt x="8458" y="8136"/>
                </a:cubicBezTo>
                <a:cubicBezTo>
                  <a:pt x="8411" y="8175"/>
                  <a:pt x="8345" y="8272"/>
                  <a:pt x="8334" y="8334"/>
                </a:cubicBezTo>
                <a:cubicBezTo>
                  <a:pt x="8321" y="8406"/>
                  <a:pt x="8279" y="8537"/>
                  <a:pt x="8285" y="8607"/>
                </a:cubicBezTo>
                <a:cubicBezTo>
                  <a:pt x="8309" y="8655"/>
                  <a:pt x="8317" y="8669"/>
                  <a:pt x="8310" y="8706"/>
                </a:cubicBezTo>
              </a:path>
              <a:path w="10891" h="2308">
                <a:moveTo>
                  <a:pt x="9327" y="8260"/>
                </a:moveTo>
                <a:cubicBezTo>
                  <a:pt x="9316" y="8184"/>
                  <a:pt x="9273" y="8137"/>
                  <a:pt x="9178" y="8161"/>
                </a:cubicBezTo>
                <a:cubicBezTo>
                  <a:pt x="9137" y="8171"/>
                  <a:pt x="9062" y="8274"/>
                  <a:pt x="9054" y="8310"/>
                </a:cubicBezTo>
                <a:cubicBezTo>
                  <a:pt x="9033" y="8407"/>
                  <a:pt x="9119" y="8521"/>
                  <a:pt x="9153" y="8607"/>
                </a:cubicBezTo>
                <a:cubicBezTo>
                  <a:pt x="9206" y="8740"/>
                  <a:pt x="9281" y="8835"/>
                  <a:pt x="9302" y="8979"/>
                </a:cubicBezTo>
                <a:cubicBezTo>
                  <a:pt x="9314" y="9060"/>
                  <a:pt x="9304" y="9140"/>
                  <a:pt x="9252" y="9203"/>
                </a:cubicBezTo>
                <a:cubicBezTo>
                  <a:pt x="9189" y="9279"/>
                  <a:pt x="9150" y="9297"/>
                  <a:pt x="9054" y="9302"/>
                </a:cubicBezTo>
                <a:cubicBezTo>
                  <a:pt x="8989" y="9305"/>
                  <a:pt x="8918" y="9313"/>
                  <a:pt x="8905" y="9227"/>
                </a:cubicBezTo>
                <a:cubicBezTo>
                  <a:pt x="8905" y="9194"/>
                  <a:pt x="8905" y="9161"/>
                  <a:pt x="8905" y="9128"/>
                </a:cubicBezTo>
              </a:path>
              <a:path w="10891" h="2308">
                <a:moveTo>
                  <a:pt x="9451" y="8186"/>
                </a:moveTo>
                <a:cubicBezTo>
                  <a:pt x="9518" y="8253"/>
                  <a:pt x="9502" y="8299"/>
                  <a:pt x="9525" y="8384"/>
                </a:cubicBezTo>
                <a:cubicBezTo>
                  <a:pt x="9550" y="8475"/>
                  <a:pt x="9598" y="8565"/>
                  <a:pt x="9624" y="8657"/>
                </a:cubicBezTo>
                <a:cubicBezTo>
                  <a:pt x="9661" y="8789"/>
                  <a:pt x="9719" y="8905"/>
                  <a:pt x="9773" y="9029"/>
                </a:cubicBezTo>
                <a:cubicBezTo>
                  <a:pt x="9810" y="9114"/>
                  <a:pt x="9842" y="9201"/>
                  <a:pt x="9872" y="9277"/>
                </a:cubicBezTo>
                <a:cubicBezTo>
                  <a:pt x="9893" y="9331"/>
                  <a:pt x="9920" y="9382"/>
                  <a:pt x="9947" y="9426"/>
                </a:cubicBezTo>
              </a:path>
              <a:path w="10891" h="2308">
                <a:moveTo>
                  <a:pt x="9947" y="8111"/>
                </a:moveTo>
                <a:cubicBezTo>
                  <a:pt x="9915" y="8237"/>
                  <a:pt x="9866" y="8379"/>
                  <a:pt x="9847" y="8508"/>
                </a:cubicBezTo>
                <a:cubicBezTo>
                  <a:pt x="9829" y="8625"/>
                  <a:pt x="9775" y="8722"/>
                  <a:pt x="9748" y="8830"/>
                </a:cubicBezTo>
                <a:cubicBezTo>
                  <a:pt x="9718" y="8950"/>
                  <a:pt x="9717" y="9085"/>
                  <a:pt x="9674" y="9203"/>
                </a:cubicBezTo>
                <a:cubicBezTo>
                  <a:pt x="9649" y="9270"/>
                  <a:pt x="9609" y="9365"/>
                  <a:pt x="9575" y="9426"/>
                </a:cubicBezTo>
                <a:cubicBezTo>
                  <a:pt x="9567" y="9434"/>
                  <a:pt x="9558" y="9443"/>
                  <a:pt x="9550" y="9451"/>
                </a:cubicBezTo>
              </a:path>
              <a:path w="10891" h="2308">
                <a:moveTo>
                  <a:pt x="10344" y="8607"/>
                </a:moveTo>
                <a:cubicBezTo>
                  <a:pt x="10291" y="8660"/>
                  <a:pt x="10354" y="8547"/>
                  <a:pt x="10269" y="8632"/>
                </a:cubicBezTo>
              </a:path>
              <a:path w="10891" h="2308">
                <a:moveTo>
                  <a:pt x="11187" y="8260"/>
                </a:moveTo>
                <a:cubicBezTo>
                  <a:pt x="11170" y="8219"/>
                  <a:pt x="11133" y="8107"/>
                  <a:pt x="11063" y="8111"/>
                </a:cubicBezTo>
                <a:cubicBezTo>
                  <a:pt x="10987" y="8116"/>
                  <a:pt x="10915" y="8184"/>
                  <a:pt x="10864" y="8235"/>
                </a:cubicBezTo>
                <a:cubicBezTo>
                  <a:pt x="10800" y="8299"/>
                  <a:pt x="10809" y="8355"/>
                  <a:pt x="10790" y="8434"/>
                </a:cubicBezTo>
                <a:cubicBezTo>
                  <a:pt x="10757" y="8569"/>
                  <a:pt x="10721" y="8692"/>
                  <a:pt x="10716" y="8830"/>
                </a:cubicBezTo>
                <a:cubicBezTo>
                  <a:pt x="10713" y="8927"/>
                  <a:pt x="10668" y="9029"/>
                  <a:pt x="10691" y="9128"/>
                </a:cubicBezTo>
                <a:cubicBezTo>
                  <a:pt x="10707" y="9200"/>
                  <a:pt x="10766" y="9253"/>
                  <a:pt x="10815" y="9302"/>
                </a:cubicBezTo>
                <a:cubicBezTo>
                  <a:pt x="10856" y="9343"/>
                  <a:pt x="10928" y="9373"/>
                  <a:pt x="10988" y="9351"/>
                </a:cubicBezTo>
                <a:cubicBezTo>
                  <a:pt x="11014" y="9341"/>
                  <a:pt x="11063" y="9291"/>
                  <a:pt x="11088" y="9277"/>
                </a:cubicBezTo>
              </a:path>
              <a:path w="10891" h="2308">
                <a:moveTo>
                  <a:pt x="11460" y="8285"/>
                </a:moveTo>
                <a:cubicBezTo>
                  <a:pt x="11460" y="8358"/>
                  <a:pt x="11438" y="8413"/>
                  <a:pt x="11435" y="8483"/>
                </a:cubicBezTo>
                <a:cubicBezTo>
                  <a:pt x="11427" y="8666"/>
                  <a:pt x="11393" y="8929"/>
                  <a:pt x="11460" y="9103"/>
                </a:cubicBezTo>
                <a:cubicBezTo>
                  <a:pt x="11474" y="9141"/>
                  <a:pt x="11512" y="9239"/>
                  <a:pt x="11559" y="9252"/>
                </a:cubicBezTo>
                <a:cubicBezTo>
                  <a:pt x="11629" y="9272"/>
                  <a:pt x="11732" y="9253"/>
                  <a:pt x="11782" y="9203"/>
                </a:cubicBezTo>
                <a:cubicBezTo>
                  <a:pt x="11822" y="9163"/>
                  <a:pt x="11883" y="9056"/>
                  <a:pt x="11906" y="9004"/>
                </a:cubicBezTo>
                <a:cubicBezTo>
                  <a:pt x="11937" y="8932"/>
                  <a:pt x="11974" y="8836"/>
                  <a:pt x="11956" y="8756"/>
                </a:cubicBezTo>
                <a:cubicBezTo>
                  <a:pt x="11934" y="8655"/>
                  <a:pt x="11872" y="8533"/>
                  <a:pt x="11807" y="8458"/>
                </a:cubicBezTo>
                <a:cubicBezTo>
                  <a:pt x="11763" y="8408"/>
                  <a:pt x="11711" y="8396"/>
                  <a:pt x="11658" y="8359"/>
                </a:cubicBezTo>
                <a:cubicBezTo>
                  <a:pt x="11579" y="8304"/>
                  <a:pt x="11536" y="8364"/>
                  <a:pt x="11460" y="8409"/>
                </a:cubicBezTo>
                <a:cubicBezTo>
                  <a:pt x="11420" y="8433"/>
                  <a:pt x="11331" y="8563"/>
                  <a:pt x="11311" y="8607"/>
                </a:cubicBezTo>
                <a:cubicBezTo>
                  <a:pt x="11286" y="8661"/>
                  <a:pt x="11286" y="8745"/>
                  <a:pt x="11286" y="8806"/>
                </a:cubicBezTo>
              </a:path>
              <a:path w="10891" h="2308">
                <a:moveTo>
                  <a:pt x="12402" y="8285"/>
                </a:moveTo>
                <a:cubicBezTo>
                  <a:pt x="12414" y="8254"/>
                  <a:pt x="12415" y="8174"/>
                  <a:pt x="12353" y="8161"/>
                </a:cubicBezTo>
                <a:cubicBezTo>
                  <a:pt x="12244" y="8138"/>
                  <a:pt x="12207" y="8189"/>
                  <a:pt x="12154" y="8260"/>
                </a:cubicBezTo>
                <a:cubicBezTo>
                  <a:pt x="12101" y="8330"/>
                  <a:pt x="12151" y="8383"/>
                  <a:pt x="12179" y="8458"/>
                </a:cubicBezTo>
                <a:cubicBezTo>
                  <a:pt x="12221" y="8570"/>
                  <a:pt x="12266" y="8663"/>
                  <a:pt x="12328" y="8756"/>
                </a:cubicBezTo>
                <a:cubicBezTo>
                  <a:pt x="12387" y="8845"/>
                  <a:pt x="12457" y="8902"/>
                  <a:pt x="12502" y="9004"/>
                </a:cubicBezTo>
                <a:cubicBezTo>
                  <a:pt x="12544" y="9099"/>
                  <a:pt x="12567" y="9187"/>
                  <a:pt x="12526" y="9277"/>
                </a:cubicBezTo>
                <a:cubicBezTo>
                  <a:pt x="12495" y="9344"/>
                  <a:pt x="12439" y="9352"/>
                  <a:pt x="12378" y="9327"/>
                </a:cubicBezTo>
                <a:cubicBezTo>
                  <a:pt x="12297" y="9294"/>
                  <a:pt x="12284" y="9255"/>
                  <a:pt x="12254" y="9178"/>
                </a:cubicBezTo>
              </a:path>
              <a:path w="10891" h="2308">
                <a:moveTo>
                  <a:pt x="12750" y="7987"/>
                </a:moveTo>
                <a:cubicBezTo>
                  <a:pt x="12858" y="7899"/>
                  <a:pt x="12868" y="7890"/>
                  <a:pt x="12973" y="7987"/>
                </a:cubicBezTo>
                <a:cubicBezTo>
                  <a:pt x="13024" y="8034"/>
                  <a:pt x="12997" y="8107"/>
                  <a:pt x="12973" y="8161"/>
                </a:cubicBezTo>
                <a:cubicBezTo>
                  <a:pt x="12944" y="8226"/>
                  <a:pt x="12845" y="8335"/>
                  <a:pt x="12849" y="8409"/>
                </a:cubicBezTo>
                <a:cubicBezTo>
                  <a:pt x="12853" y="8493"/>
                  <a:pt x="12970" y="8458"/>
                  <a:pt x="13022" y="8458"/>
                </a:cubicBezTo>
              </a:path>
              <a:path w="10891" h="2308">
                <a:moveTo>
                  <a:pt x="13295" y="8359"/>
                </a:moveTo>
                <a:cubicBezTo>
                  <a:pt x="13339" y="8429"/>
                  <a:pt x="13407" y="8482"/>
                  <a:pt x="13444" y="8558"/>
                </a:cubicBezTo>
                <a:cubicBezTo>
                  <a:pt x="13493" y="8661"/>
                  <a:pt x="13510" y="8781"/>
                  <a:pt x="13568" y="8880"/>
                </a:cubicBezTo>
                <a:cubicBezTo>
                  <a:pt x="13621" y="8970"/>
                  <a:pt x="13653" y="9068"/>
                  <a:pt x="13717" y="9153"/>
                </a:cubicBezTo>
                <a:cubicBezTo>
                  <a:pt x="13761" y="9211"/>
                  <a:pt x="13798" y="9246"/>
                  <a:pt x="13866" y="9252"/>
                </a:cubicBezTo>
                <a:cubicBezTo>
                  <a:pt x="13874" y="9252"/>
                  <a:pt x="13883" y="9252"/>
                  <a:pt x="13891" y="9252"/>
                </a:cubicBezTo>
              </a:path>
              <a:path w="10891" h="2308">
                <a:moveTo>
                  <a:pt x="13841" y="8136"/>
                </a:moveTo>
                <a:cubicBezTo>
                  <a:pt x="13781" y="8285"/>
                  <a:pt x="13724" y="8472"/>
                  <a:pt x="13643" y="8607"/>
                </a:cubicBezTo>
                <a:cubicBezTo>
                  <a:pt x="13594" y="8689"/>
                  <a:pt x="13505" y="8768"/>
                  <a:pt x="13469" y="8855"/>
                </a:cubicBezTo>
                <a:cubicBezTo>
                  <a:pt x="13428" y="8954"/>
                  <a:pt x="13391" y="9032"/>
                  <a:pt x="13345" y="9128"/>
                </a:cubicBezTo>
                <a:cubicBezTo>
                  <a:pt x="13316" y="9188"/>
                  <a:pt x="13265" y="9253"/>
                  <a:pt x="13221" y="9302"/>
                </a:cubicBezTo>
                <a:cubicBezTo>
                  <a:pt x="13198" y="9325"/>
                  <a:pt x="13187" y="9333"/>
                  <a:pt x="13221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Ink 28"/>
          <p:cNvSpPr/>
          <p:nvPr/>
        </p:nvSpPr>
        <p:spPr>
          <a:xfrm>
            <a:off x="5249880" y="3054240"/>
            <a:ext cx="1000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4585" y="8483"/>
                </a:moveTo>
                <a:cubicBezTo>
                  <a:pt x="14593" y="8491"/>
                  <a:pt x="14602" y="8500"/>
                  <a:pt x="14610" y="8508"/>
                </a:cubicBezTo>
                <a:cubicBezTo>
                  <a:pt x="14670" y="8472"/>
                  <a:pt x="14734" y="8483"/>
                  <a:pt x="14808" y="8483"/>
                </a:cubicBezTo>
                <a:cubicBezTo>
                  <a:pt x="14816" y="8483"/>
                  <a:pt x="14825" y="8483"/>
                  <a:pt x="14833" y="8483"/>
                </a:cubicBezTo>
              </a:path>
              <a:path w="274" h="150">
                <a:moveTo>
                  <a:pt x="14684" y="8632"/>
                </a:moveTo>
                <a:cubicBezTo>
                  <a:pt x="14742" y="8632"/>
                  <a:pt x="14800" y="8632"/>
                  <a:pt x="14858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Ink 29"/>
          <p:cNvSpPr/>
          <p:nvPr/>
        </p:nvSpPr>
        <p:spPr>
          <a:xfrm>
            <a:off x="820800" y="4394160"/>
            <a:ext cx="1679400" cy="1170000"/>
          </a:xfrm>
          <a:custGeom>
            <a:avLst/>
            <a:gdLst/>
            <a:ahLst/>
            <a:rect l="l" t="t" r="r" b="b"/>
            <a:pathLst>
              <a:path w="4664" h="3250">
                <a:moveTo>
                  <a:pt x="2704" y="12576"/>
                </a:moveTo>
                <a:cubicBezTo>
                  <a:pt x="2694" y="12508"/>
                  <a:pt x="2676" y="12451"/>
                  <a:pt x="2654" y="12378"/>
                </a:cubicBezTo>
                <a:cubicBezTo>
                  <a:pt x="2639" y="12330"/>
                  <a:pt x="2607" y="12201"/>
                  <a:pt x="2530" y="12204"/>
                </a:cubicBezTo>
                <a:cubicBezTo>
                  <a:pt x="2427" y="12208"/>
                  <a:pt x="2383" y="12276"/>
                  <a:pt x="2332" y="12353"/>
                </a:cubicBezTo>
                <a:cubicBezTo>
                  <a:pt x="2278" y="12434"/>
                  <a:pt x="2285" y="12604"/>
                  <a:pt x="2282" y="12700"/>
                </a:cubicBezTo>
                <a:cubicBezTo>
                  <a:pt x="2278" y="12829"/>
                  <a:pt x="2270" y="12999"/>
                  <a:pt x="2307" y="13122"/>
                </a:cubicBezTo>
                <a:cubicBezTo>
                  <a:pt x="2330" y="13198"/>
                  <a:pt x="2425" y="13444"/>
                  <a:pt x="2480" y="13494"/>
                </a:cubicBezTo>
                <a:cubicBezTo>
                  <a:pt x="2550" y="13557"/>
                  <a:pt x="2674" y="13547"/>
                  <a:pt x="2753" y="13519"/>
                </a:cubicBezTo>
                <a:cubicBezTo>
                  <a:pt x="2855" y="13482"/>
                  <a:pt x="2887" y="13313"/>
                  <a:pt x="2902" y="13221"/>
                </a:cubicBezTo>
              </a:path>
              <a:path w="4664" h="3250">
                <a:moveTo>
                  <a:pt x="2977" y="12551"/>
                </a:moveTo>
                <a:cubicBezTo>
                  <a:pt x="2977" y="12649"/>
                  <a:pt x="2963" y="12730"/>
                  <a:pt x="2952" y="12824"/>
                </a:cubicBezTo>
                <a:cubicBezTo>
                  <a:pt x="2934" y="12979"/>
                  <a:pt x="2905" y="13162"/>
                  <a:pt x="2927" y="13320"/>
                </a:cubicBezTo>
                <a:cubicBezTo>
                  <a:pt x="2942" y="13428"/>
                  <a:pt x="2953" y="13520"/>
                  <a:pt x="3001" y="13618"/>
                </a:cubicBezTo>
                <a:cubicBezTo>
                  <a:pt x="3089" y="13662"/>
                  <a:pt x="3133" y="13639"/>
                  <a:pt x="3175" y="13543"/>
                </a:cubicBezTo>
                <a:cubicBezTo>
                  <a:pt x="3235" y="13406"/>
                  <a:pt x="3230" y="13264"/>
                  <a:pt x="3249" y="13122"/>
                </a:cubicBezTo>
                <a:cubicBezTo>
                  <a:pt x="3271" y="12960"/>
                  <a:pt x="3282" y="12783"/>
                  <a:pt x="3225" y="12626"/>
                </a:cubicBezTo>
                <a:cubicBezTo>
                  <a:pt x="3208" y="12579"/>
                  <a:pt x="3107" y="12499"/>
                  <a:pt x="3051" y="12502"/>
                </a:cubicBezTo>
                <a:cubicBezTo>
                  <a:pt x="2986" y="12505"/>
                  <a:pt x="2925" y="12571"/>
                  <a:pt x="2902" y="12626"/>
                </a:cubicBezTo>
                <a:cubicBezTo>
                  <a:pt x="2861" y="12724"/>
                  <a:pt x="2883" y="12760"/>
                  <a:pt x="2927" y="12849"/>
                </a:cubicBezTo>
              </a:path>
              <a:path w="4664" h="3250">
                <a:moveTo>
                  <a:pt x="3373" y="12576"/>
                </a:moveTo>
                <a:cubicBezTo>
                  <a:pt x="3373" y="12662"/>
                  <a:pt x="3381" y="12741"/>
                  <a:pt x="3398" y="12824"/>
                </a:cubicBezTo>
                <a:cubicBezTo>
                  <a:pt x="3426" y="12957"/>
                  <a:pt x="3422" y="13087"/>
                  <a:pt x="3448" y="13221"/>
                </a:cubicBezTo>
                <a:cubicBezTo>
                  <a:pt x="3478" y="13375"/>
                  <a:pt x="3526" y="13505"/>
                  <a:pt x="3597" y="13643"/>
                </a:cubicBezTo>
                <a:cubicBezTo>
                  <a:pt x="3633" y="13712"/>
                  <a:pt x="3624" y="13707"/>
                  <a:pt x="3696" y="13717"/>
                </a:cubicBezTo>
                <a:cubicBezTo>
                  <a:pt x="3778" y="13670"/>
                  <a:pt x="3788" y="13635"/>
                  <a:pt x="3820" y="13543"/>
                </a:cubicBezTo>
                <a:cubicBezTo>
                  <a:pt x="3867" y="13409"/>
                  <a:pt x="3891" y="13287"/>
                  <a:pt x="3894" y="13146"/>
                </a:cubicBezTo>
                <a:cubicBezTo>
                  <a:pt x="3897" y="13001"/>
                  <a:pt x="3863" y="12865"/>
                  <a:pt x="3845" y="12725"/>
                </a:cubicBezTo>
                <a:cubicBezTo>
                  <a:pt x="3845" y="12658"/>
                  <a:pt x="3841" y="12624"/>
                  <a:pt x="3820" y="12576"/>
                </a:cubicBezTo>
                <a:cubicBezTo>
                  <a:pt x="3784" y="12695"/>
                  <a:pt x="3809" y="12755"/>
                  <a:pt x="3820" y="12874"/>
                </a:cubicBezTo>
                <a:cubicBezTo>
                  <a:pt x="3833" y="13015"/>
                  <a:pt x="3822" y="13156"/>
                  <a:pt x="3845" y="13295"/>
                </a:cubicBezTo>
                <a:cubicBezTo>
                  <a:pt x="3863" y="13405"/>
                  <a:pt x="3890" y="13509"/>
                  <a:pt x="3894" y="13618"/>
                </a:cubicBezTo>
                <a:cubicBezTo>
                  <a:pt x="3897" y="13709"/>
                  <a:pt x="3889" y="13735"/>
                  <a:pt x="3944" y="13667"/>
                </a:cubicBezTo>
              </a:path>
              <a:path w="4664" h="3250">
                <a:moveTo>
                  <a:pt x="3994" y="12601"/>
                </a:moveTo>
                <a:cubicBezTo>
                  <a:pt x="4004" y="12724"/>
                  <a:pt x="4022" y="12849"/>
                  <a:pt x="4043" y="12973"/>
                </a:cubicBezTo>
                <a:cubicBezTo>
                  <a:pt x="4068" y="13121"/>
                  <a:pt x="4093" y="13244"/>
                  <a:pt x="4093" y="13395"/>
                </a:cubicBezTo>
                <a:cubicBezTo>
                  <a:pt x="4093" y="13508"/>
                  <a:pt x="4118" y="13604"/>
                  <a:pt x="4118" y="13717"/>
                </a:cubicBezTo>
                <a:cubicBezTo>
                  <a:pt x="4118" y="13734"/>
                  <a:pt x="4118" y="13750"/>
                  <a:pt x="4118" y="13767"/>
                </a:cubicBezTo>
                <a:cubicBezTo>
                  <a:pt x="4118" y="13529"/>
                  <a:pt x="4092" y="13279"/>
                  <a:pt x="4142" y="13047"/>
                </a:cubicBezTo>
                <a:cubicBezTo>
                  <a:pt x="4169" y="12923"/>
                  <a:pt x="4175" y="12819"/>
                  <a:pt x="4217" y="12700"/>
                </a:cubicBezTo>
                <a:cubicBezTo>
                  <a:pt x="4245" y="12619"/>
                  <a:pt x="4255" y="12581"/>
                  <a:pt x="4341" y="12576"/>
                </a:cubicBezTo>
                <a:cubicBezTo>
                  <a:pt x="4408" y="12572"/>
                  <a:pt x="4438" y="12672"/>
                  <a:pt x="4490" y="12725"/>
                </a:cubicBezTo>
                <a:cubicBezTo>
                  <a:pt x="4512" y="12748"/>
                  <a:pt x="4517" y="12756"/>
                  <a:pt x="4539" y="12750"/>
                </a:cubicBezTo>
              </a:path>
              <a:path w="4664" h="3250">
                <a:moveTo>
                  <a:pt x="4688" y="12427"/>
                </a:moveTo>
                <a:cubicBezTo>
                  <a:pt x="4688" y="12533"/>
                  <a:pt x="4703" y="12624"/>
                  <a:pt x="4713" y="12725"/>
                </a:cubicBezTo>
                <a:cubicBezTo>
                  <a:pt x="4734" y="12944"/>
                  <a:pt x="4730" y="13178"/>
                  <a:pt x="4738" y="13395"/>
                </a:cubicBezTo>
                <a:cubicBezTo>
                  <a:pt x="4742" y="13494"/>
                  <a:pt x="4709" y="13731"/>
                  <a:pt x="4762" y="13841"/>
                </a:cubicBezTo>
                <a:cubicBezTo>
                  <a:pt x="4798" y="13770"/>
                  <a:pt x="4805" y="13747"/>
                  <a:pt x="4812" y="13667"/>
                </a:cubicBezTo>
              </a:path>
              <a:path w="4664" h="3250">
                <a:moveTo>
                  <a:pt x="4440" y="13022"/>
                </a:moveTo>
                <a:cubicBezTo>
                  <a:pt x="4547" y="12987"/>
                  <a:pt x="4625" y="12973"/>
                  <a:pt x="4738" y="12973"/>
                </a:cubicBezTo>
                <a:cubicBezTo>
                  <a:pt x="4817" y="12973"/>
                  <a:pt x="4935" y="12968"/>
                  <a:pt x="5011" y="12948"/>
                </a:cubicBezTo>
                <a:cubicBezTo>
                  <a:pt x="5056" y="12936"/>
                  <a:pt x="5099" y="12902"/>
                  <a:pt x="5135" y="12874"/>
                </a:cubicBezTo>
              </a:path>
              <a:path w="4664" h="3250">
                <a:moveTo>
                  <a:pt x="5035" y="12700"/>
                </a:moveTo>
                <a:cubicBezTo>
                  <a:pt x="5035" y="12881"/>
                  <a:pt x="5037" y="13067"/>
                  <a:pt x="5060" y="13246"/>
                </a:cubicBezTo>
                <a:cubicBezTo>
                  <a:pt x="5078" y="13390"/>
                  <a:pt x="5085" y="13521"/>
                  <a:pt x="5085" y="13667"/>
                </a:cubicBezTo>
                <a:cubicBezTo>
                  <a:pt x="5085" y="13738"/>
                  <a:pt x="5069" y="13785"/>
                  <a:pt x="5035" y="13841"/>
                </a:cubicBezTo>
                <a:cubicBezTo>
                  <a:pt x="5035" y="13725"/>
                  <a:pt x="5046" y="13609"/>
                  <a:pt x="5060" y="13494"/>
                </a:cubicBezTo>
                <a:cubicBezTo>
                  <a:pt x="5086" y="13285"/>
                  <a:pt x="5095" y="13050"/>
                  <a:pt x="5159" y="12849"/>
                </a:cubicBezTo>
                <a:cubicBezTo>
                  <a:pt x="5178" y="12790"/>
                  <a:pt x="5239" y="12720"/>
                  <a:pt x="5283" y="12675"/>
                </a:cubicBezTo>
                <a:cubicBezTo>
                  <a:pt x="5291" y="12667"/>
                  <a:pt x="5300" y="12658"/>
                  <a:pt x="5308" y="12650"/>
                </a:cubicBezTo>
                <a:cubicBezTo>
                  <a:pt x="5353" y="12695"/>
                  <a:pt x="5384" y="12738"/>
                  <a:pt x="5407" y="12799"/>
                </a:cubicBezTo>
                <a:cubicBezTo>
                  <a:pt x="5453" y="12916"/>
                  <a:pt x="5437" y="13049"/>
                  <a:pt x="5457" y="13171"/>
                </a:cubicBezTo>
                <a:cubicBezTo>
                  <a:pt x="5483" y="13329"/>
                  <a:pt x="5482" y="13483"/>
                  <a:pt x="5482" y="13643"/>
                </a:cubicBezTo>
                <a:cubicBezTo>
                  <a:pt x="5482" y="13689"/>
                  <a:pt x="5482" y="14012"/>
                  <a:pt x="5482" y="13767"/>
                </a:cubicBezTo>
              </a:path>
              <a:path w="4664" h="3250">
                <a:moveTo>
                  <a:pt x="5531" y="13122"/>
                </a:moveTo>
                <a:cubicBezTo>
                  <a:pt x="5594" y="13114"/>
                  <a:pt x="5654" y="13105"/>
                  <a:pt x="5705" y="13072"/>
                </a:cubicBezTo>
                <a:cubicBezTo>
                  <a:pt x="5772" y="13028"/>
                  <a:pt x="5846" y="12977"/>
                  <a:pt x="5904" y="12923"/>
                </a:cubicBezTo>
                <a:cubicBezTo>
                  <a:pt x="5963" y="12868"/>
                  <a:pt x="5992" y="12848"/>
                  <a:pt x="6003" y="12774"/>
                </a:cubicBezTo>
                <a:cubicBezTo>
                  <a:pt x="5925" y="12729"/>
                  <a:pt x="5881" y="12754"/>
                  <a:pt x="5829" y="12824"/>
                </a:cubicBezTo>
                <a:cubicBezTo>
                  <a:pt x="5741" y="12944"/>
                  <a:pt x="5729" y="13007"/>
                  <a:pt x="5705" y="13146"/>
                </a:cubicBezTo>
                <a:cubicBezTo>
                  <a:pt x="5679" y="13300"/>
                  <a:pt x="5692" y="13391"/>
                  <a:pt x="5730" y="13543"/>
                </a:cubicBezTo>
                <a:cubicBezTo>
                  <a:pt x="5775" y="13724"/>
                  <a:pt x="5842" y="13872"/>
                  <a:pt x="6028" y="13965"/>
                </a:cubicBezTo>
                <a:cubicBezTo>
                  <a:pt x="6090" y="13996"/>
                  <a:pt x="6180" y="13913"/>
                  <a:pt x="6201" y="13866"/>
                </a:cubicBezTo>
                <a:cubicBezTo>
                  <a:pt x="6249" y="13760"/>
                  <a:pt x="6268" y="13656"/>
                  <a:pt x="6276" y="13543"/>
                </a:cubicBezTo>
              </a:path>
              <a:path w="4664" h="3250">
                <a:moveTo>
                  <a:pt x="6251" y="12849"/>
                </a:moveTo>
                <a:cubicBezTo>
                  <a:pt x="6251" y="12962"/>
                  <a:pt x="6273" y="13060"/>
                  <a:pt x="6276" y="13171"/>
                </a:cubicBezTo>
                <a:cubicBezTo>
                  <a:pt x="6280" y="13304"/>
                  <a:pt x="6296" y="13438"/>
                  <a:pt x="6325" y="13568"/>
                </a:cubicBezTo>
                <a:cubicBezTo>
                  <a:pt x="6344" y="13651"/>
                  <a:pt x="6378" y="13794"/>
                  <a:pt x="6424" y="13866"/>
                </a:cubicBezTo>
                <a:cubicBezTo>
                  <a:pt x="6466" y="13931"/>
                  <a:pt x="6539" y="13937"/>
                  <a:pt x="6598" y="13891"/>
                </a:cubicBezTo>
                <a:cubicBezTo>
                  <a:pt x="6651" y="13850"/>
                  <a:pt x="6724" y="13680"/>
                  <a:pt x="6747" y="13618"/>
                </a:cubicBezTo>
                <a:cubicBezTo>
                  <a:pt x="6794" y="13493"/>
                  <a:pt x="6854" y="13355"/>
                  <a:pt x="6871" y="13221"/>
                </a:cubicBezTo>
                <a:cubicBezTo>
                  <a:pt x="6884" y="13122"/>
                  <a:pt x="6948" y="12992"/>
                  <a:pt x="6945" y="12898"/>
                </a:cubicBezTo>
                <a:cubicBezTo>
                  <a:pt x="6945" y="12854"/>
                  <a:pt x="6948" y="12841"/>
                  <a:pt x="6921" y="12824"/>
                </a:cubicBezTo>
                <a:cubicBezTo>
                  <a:pt x="6894" y="12919"/>
                  <a:pt x="6861" y="13023"/>
                  <a:pt x="6846" y="13122"/>
                </a:cubicBezTo>
                <a:cubicBezTo>
                  <a:pt x="6813" y="13344"/>
                  <a:pt x="6783" y="13553"/>
                  <a:pt x="6722" y="13767"/>
                </a:cubicBezTo>
                <a:cubicBezTo>
                  <a:pt x="6598" y="14202"/>
                  <a:pt x="6444" y="14607"/>
                  <a:pt x="6226" y="15007"/>
                </a:cubicBezTo>
                <a:cubicBezTo>
                  <a:pt x="6156" y="15135"/>
                  <a:pt x="6000" y="15327"/>
                  <a:pt x="5879" y="15404"/>
                </a:cubicBezTo>
                <a:cubicBezTo>
                  <a:pt x="5792" y="15459"/>
                  <a:pt x="5678" y="15450"/>
                  <a:pt x="5581" y="15453"/>
                </a:cubicBezTo>
                <a:cubicBezTo>
                  <a:pt x="5462" y="15457"/>
                  <a:pt x="5432" y="15420"/>
                  <a:pt x="5333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 Csc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2133720" y="685800"/>
          <a:ext cx="41781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685800"/>
                    <a:ext cx="4178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  Cos x(Cos x – 1)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Page 400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#1-5,11-23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Ink 4"/>
          <p:cNvSpPr/>
          <p:nvPr/>
        </p:nvSpPr>
        <p:spPr>
          <a:xfrm>
            <a:off x="1847880" y="2955960"/>
            <a:ext cx="2644920" cy="1500120"/>
          </a:xfrm>
          <a:custGeom>
            <a:avLst/>
            <a:gdLst/>
            <a:ahLst/>
            <a:rect l="l" t="t" r="r" b="b"/>
            <a:pathLst>
              <a:path w="7343" h="4169">
                <a:moveTo>
                  <a:pt x="5333" y="11237"/>
                </a:moveTo>
                <a:cubicBezTo>
                  <a:pt x="5435" y="11272"/>
                  <a:pt x="5527" y="11318"/>
                  <a:pt x="5631" y="11361"/>
                </a:cubicBezTo>
                <a:cubicBezTo>
                  <a:pt x="5970" y="11501"/>
                  <a:pt x="6298" y="11643"/>
                  <a:pt x="6648" y="11757"/>
                </a:cubicBezTo>
                <a:cubicBezTo>
                  <a:pt x="6979" y="11865"/>
                  <a:pt x="7303" y="11947"/>
                  <a:pt x="7640" y="12030"/>
                </a:cubicBezTo>
                <a:cubicBezTo>
                  <a:pt x="7986" y="12115"/>
                  <a:pt x="8334" y="12180"/>
                  <a:pt x="8682" y="12254"/>
                </a:cubicBezTo>
                <a:cubicBezTo>
                  <a:pt x="9032" y="12329"/>
                  <a:pt x="9390" y="12373"/>
                  <a:pt x="9748" y="12378"/>
                </a:cubicBezTo>
                <a:cubicBezTo>
                  <a:pt x="9989" y="12382"/>
                  <a:pt x="10255" y="12373"/>
                  <a:pt x="10492" y="12328"/>
                </a:cubicBezTo>
                <a:cubicBezTo>
                  <a:pt x="10708" y="12287"/>
                  <a:pt x="10983" y="12239"/>
                  <a:pt x="11187" y="12154"/>
                </a:cubicBezTo>
                <a:cubicBezTo>
                  <a:pt x="11469" y="12037"/>
                  <a:pt x="11773" y="11858"/>
                  <a:pt x="11981" y="11633"/>
                </a:cubicBezTo>
                <a:cubicBezTo>
                  <a:pt x="12160" y="11440"/>
                  <a:pt x="12327" y="11212"/>
                  <a:pt x="12402" y="10964"/>
                </a:cubicBezTo>
                <a:cubicBezTo>
                  <a:pt x="12490" y="10674"/>
                  <a:pt x="12474" y="10413"/>
                  <a:pt x="12427" y="10120"/>
                </a:cubicBezTo>
                <a:cubicBezTo>
                  <a:pt x="12390" y="9885"/>
                  <a:pt x="12314" y="9725"/>
                  <a:pt x="12179" y="9525"/>
                </a:cubicBezTo>
                <a:cubicBezTo>
                  <a:pt x="11950" y="9186"/>
                  <a:pt x="11577" y="8984"/>
                  <a:pt x="11237" y="8781"/>
                </a:cubicBezTo>
                <a:cubicBezTo>
                  <a:pt x="10893" y="8576"/>
                  <a:pt x="10506" y="8456"/>
                  <a:pt x="10120" y="8359"/>
                </a:cubicBezTo>
                <a:cubicBezTo>
                  <a:pt x="9729" y="8260"/>
                  <a:pt x="9309" y="8216"/>
                  <a:pt x="8905" y="8210"/>
                </a:cubicBezTo>
                <a:cubicBezTo>
                  <a:pt x="8650" y="8206"/>
                  <a:pt x="8390" y="8212"/>
                  <a:pt x="8136" y="8235"/>
                </a:cubicBezTo>
                <a:cubicBezTo>
                  <a:pt x="7826" y="8263"/>
                  <a:pt x="7495" y="8356"/>
                  <a:pt x="7193" y="8434"/>
                </a:cubicBezTo>
                <a:cubicBezTo>
                  <a:pt x="6968" y="8492"/>
                  <a:pt x="6781" y="8610"/>
                  <a:pt x="6573" y="8706"/>
                </a:cubicBezTo>
                <a:cubicBezTo>
                  <a:pt x="6343" y="8812"/>
                  <a:pt x="6171" y="8936"/>
                  <a:pt x="5978" y="9103"/>
                </a:cubicBezTo>
                <a:cubicBezTo>
                  <a:pt x="5837" y="9225"/>
                  <a:pt x="5714" y="9374"/>
                  <a:pt x="5606" y="9525"/>
                </a:cubicBezTo>
                <a:cubicBezTo>
                  <a:pt x="5515" y="9652"/>
                  <a:pt x="5402" y="9802"/>
                  <a:pt x="5333" y="9947"/>
                </a:cubicBezTo>
                <a:cubicBezTo>
                  <a:pt x="5255" y="10112"/>
                  <a:pt x="5189" y="10334"/>
                  <a:pt x="5159" y="10517"/>
                </a:cubicBezTo>
                <a:cubicBezTo>
                  <a:pt x="5125" y="10725"/>
                  <a:pt x="5094" y="11014"/>
                  <a:pt x="5184" y="11212"/>
                </a:cubicBezTo>
                <a:cubicBezTo>
                  <a:pt x="5239" y="11332"/>
                  <a:pt x="5394" y="11489"/>
                  <a:pt x="5507" y="11559"/>
                </a:cubicBezTo>
                <a:cubicBezTo>
                  <a:pt x="5836" y="11762"/>
                  <a:pt x="6239" y="11898"/>
                  <a:pt x="6598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7"/>
          <p:cNvGraphicFramePr/>
          <p:nvPr/>
        </p:nvGraphicFramePr>
        <p:xfrm>
          <a:off x="380880" y="533520"/>
          <a:ext cx="86108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610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Ink 28"/>
          <p:cNvSpPr/>
          <p:nvPr/>
        </p:nvSpPr>
        <p:spPr>
          <a:xfrm>
            <a:off x="5249880" y="633240"/>
            <a:ext cx="2135160" cy="1073160"/>
          </a:xfrm>
          <a:custGeom>
            <a:avLst/>
            <a:gdLst/>
            <a:ahLst/>
            <a:rect l="l" t="t" r="r" b="b"/>
            <a:pathLst>
              <a:path w="5929" h="2978">
                <a:moveTo>
                  <a:pt x="14858" y="3894"/>
                </a:moveTo>
                <a:cubicBezTo>
                  <a:pt x="14858" y="3986"/>
                  <a:pt x="14837" y="4053"/>
                  <a:pt x="14833" y="4142"/>
                </a:cubicBezTo>
                <a:cubicBezTo>
                  <a:pt x="14829" y="4224"/>
                  <a:pt x="14848" y="4299"/>
                  <a:pt x="14858" y="4366"/>
                </a:cubicBezTo>
                <a:cubicBezTo>
                  <a:pt x="14867" y="4425"/>
                  <a:pt x="14840" y="4493"/>
                  <a:pt x="14808" y="4514"/>
                </a:cubicBezTo>
              </a:path>
              <a:path w="5929" h="2978">
                <a:moveTo>
                  <a:pt x="14585" y="4242"/>
                </a:moveTo>
                <a:cubicBezTo>
                  <a:pt x="14666" y="4242"/>
                  <a:pt x="14731" y="4220"/>
                  <a:pt x="14808" y="4217"/>
                </a:cubicBezTo>
                <a:cubicBezTo>
                  <a:pt x="14891" y="4217"/>
                  <a:pt x="14907" y="4217"/>
                  <a:pt x="14957" y="4217"/>
                </a:cubicBezTo>
              </a:path>
              <a:path w="5929" h="2978">
                <a:moveTo>
                  <a:pt x="15652" y="4043"/>
                </a:moveTo>
                <a:cubicBezTo>
                  <a:pt x="15548" y="4027"/>
                  <a:pt x="15481" y="4032"/>
                  <a:pt x="15379" y="4093"/>
                </a:cubicBezTo>
                <a:cubicBezTo>
                  <a:pt x="15360" y="4104"/>
                  <a:pt x="15252" y="4127"/>
                  <a:pt x="15255" y="4167"/>
                </a:cubicBezTo>
                <a:cubicBezTo>
                  <a:pt x="15259" y="4227"/>
                  <a:pt x="15335" y="4268"/>
                  <a:pt x="15379" y="4291"/>
                </a:cubicBezTo>
                <a:cubicBezTo>
                  <a:pt x="15449" y="4328"/>
                  <a:pt x="15609" y="4373"/>
                  <a:pt x="15652" y="4440"/>
                </a:cubicBezTo>
                <a:cubicBezTo>
                  <a:pt x="15652" y="4457"/>
                  <a:pt x="15652" y="4473"/>
                  <a:pt x="15652" y="4490"/>
                </a:cubicBezTo>
                <a:cubicBezTo>
                  <a:pt x="15602" y="4539"/>
                  <a:pt x="15575" y="4560"/>
                  <a:pt x="15503" y="4564"/>
                </a:cubicBezTo>
                <a:cubicBezTo>
                  <a:pt x="15390" y="4570"/>
                  <a:pt x="15375" y="4570"/>
                  <a:pt x="15354" y="4465"/>
                </a:cubicBezTo>
              </a:path>
              <a:path w="5929" h="2978">
                <a:moveTo>
                  <a:pt x="15850" y="4142"/>
                </a:moveTo>
                <a:cubicBezTo>
                  <a:pt x="15843" y="4245"/>
                  <a:pt x="15817" y="4343"/>
                  <a:pt x="15801" y="4440"/>
                </a:cubicBezTo>
                <a:cubicBezTo>
                  <a:pt x="15791" y="4504"/>
                  <a:pt x="15872" y="4589"/>
                  <a:pt x="15801" y="4564"/>
                </a:cubicBezTo>
              </a:path>
              <a:path w="5929" h="2978">
                <a:moveTo>
                  <a:pt x="15801" y="3969"/>
                </a:moveTo>
                <a:cubicBezTo>
                  <a:pt x="15846" y="3910"/>
                  <a:pt x="15876" y="3869"/>
                  <a:pt x="15925" y="3820"/>
                </a:cubicBezTo>
              </a:path>
              <a:path w="5929" h="2978">
                <a:moveTo>
                  <a:pt x="15999" y="4242"/>
                </a:moveTo>
                <a:cubicBezTo>
                  <a:pt x="15986" y="4344"/>
                  <a:pt x="15947" y="4453"/>
                  <a:pt x="15999" y="4539"/>
                </a:cubicBezTo>
                <a:cubicBezTo>
                  <a:pt x="15999" y="4451"/>
                  <a:pt x="15997" y="4367"/>
                  <a:pt x="16024" y="4291"/>
                </a:cubicBezTo>
                <a:cubicBezTo>
                  <a:pt x="16046" y="4230"/>
                  <a:pt x="16065" y="4146"/>
                  <a:pt x="16098" y="4093"/>
                </a:cubicBezTo>
                <a:cubicBezTo>
                  <a:pt x="16136" y="4032"/>
                  <a:pt x="16150" y="3998"/>
                  <a:pt x="16222" y="3994"/>
                </a:cubicBezTo>
                <a:cubicBezTo>
                  <a:pt x="16312" y="3989"/>
                  <a:pt x="16299" y="4031"/>
                  <a:pt x="16321" y="4093"/>
                </a:cubicBezTo>
                <a:cubicBezTo>
                  <a:pt x="16355" y="4189"/>
                  <a:pt x="16346" y="4287"/>
                  <a:pt x="16346" y="4390"/>
                </a:cubicBezTo>
                <a:cubicBezTo>
                  <a:pt x="16346" y="4457"/>
                  <a:pt x="16304" y="4671"/>
                  <a:pt x="16371" y="4514"/>
                </a:cubicBezTo>
              </a:path>
              <a:path w="5929" h="2978">
                <a:moveTo>
                  <a:pt x="16520" y="3696"/>
                </a:moveTo>
                <a:cubicBezTo>
                  <a:pt x="16582" y="3656"/>
                  <a:pt x="16663" y="3576"/>
                  <a:pt x="16743" y="3597"/>
                </a:cubicBezTo>
                <a:cubicBezTo>
                  <a:pt x="16768" y="3621"/>
                  <a:pt x="16777" y="3629"/>
                  <a:pt x="16793" y="3646"/>
                </a:cubicBezTo>
                <a:cubicBezTo>
                  <a:pt x="16746" y="3693"/>
                  <a:pt x="16713" y="3746"/>
                  <a:pt x="16669" y="3795"/>
                </a:cubicBezTo>
                <a:cubicBezTo>
                  <a:pt x="16661" y="3803"/>
                  <a:pt x="16652" y="3812"/>
                  <a:pt x="16644" y="3820"/>
                </a:cubicBezTo>
                <a:cubicBezTo>
                  <a:pt x="16702" y="3834"/>
                  <a:pt x="16749" y="3845"/>
                  <a:pt x="16818" y="3845"/>
                </a:cubicBezTo>
                <a:cubicBezTo>
                  <a:pt x="16876" y="3845"/>
                  <a:pt x="16901" y="3845"/>
                  <a:pt x="16942" y="3845"/>
                </a:cubicBezTo>
              </a:path>
              <a:path w="5929" h="2978">
                <a:moveTo>
                  <a:pt x="17041" y="3994"/>
                </a:moveTo>
                <a:cubicBezTo>
                  <a:pt x="17031" y="4113"/>
                  <a:pt x="17005" y="4232"/>
                  <a:pt x="17066" y="4341"/>
                </a:cubicBezTo>
                <a:cubicBezTo>
                  <a:pt x="17097" y="4397"/>
                  <a:pt x="17168" y="4429"/>
                  <a:pt x="17214" y="4465"/>
                </a:cubicBezTo>
                <a:cubicBezTo>
                  <a:pt x="17242" y="4493"/>
                  <a:pt x="17256" y="4502"/>
                  <a:pt x="17289" y="4490"/>
                </a:cubicBezTo>
              </a:path>
              <a:path w="5929" h="2978">
                <a:moveTo>
                  <a:pt x="17289" y="4018"/>
                </a:moveTo>
                <a:cubicBezTo>
                  <a:pt x="17204" y="4132"/>
                  <a:pt x="17127" y="4233"/>
                  <a:pt x="17041" y="4341"/>
                </a:cubicBezTo>
                <a:cubicBezTo>
                  <a:pt x="16996" y="4397"/>
                  <a:pt x="16940" y="4438"/>
                  <a:pt x="16892" y="4490"/>
                </a:cubicBezTo>
                <a:cubicBezTo>
                  <a:pt x="16884" y="4498"/>
                  <a:pt x="16875" y="4506"/>
                  <a:pt x="16867" y="4514"/>
                </a:cubicBezTo>
              </a:path>
              <a:path w="5929" h="2978">
                <a:moveTo>
                  <a:pt x="18182" y="3820"/>
                </a:moveTo>
                <a:cubicBezTo>
                  <a:pt x="18167" y="3941"/>
                  <a:pt x="18136" y="4072"/>
                  <a:pt x="18132" y="4192"/>
                </a:cubicBezTo>
                <a:cubicBezTo>
                  <a:pt x="18129" y="4290"/>
                  <a:pt x="18146" y="4288"/>
                  <a:pt x="18157" y="4366"/>
                </a:cubicBezTo>
              </a:path>
              <a:path w="5929" h="2978">
                <a:moveTo>
                  <a:pt x="17983" y="4142"/>
                </a:moveTo>
                <a:cubicBezTo>
                  <a:pt x="18052" y="4134"/>
                  <a:pt x="18118" y="4122"/>
                  <a:pt x="18182" y="4093"/>
                </a:cubicBezTo>
                <a:cubicBezTo>
                  <a:pt x="18198" y="4085"/>
                  <a:pt x="18215" y="4076"/>
                  <a:pt x="18231" y="4068"/>
                </a:cubicBezTo>
              </a:path>
              <a:path w="5929" h="2978">
                <a:moveTo>
                  <a:pt x="18777" y="3994"/>
                </a:moveTo>
                <a:cubicBezTo>
                  <a:pt x="18808" y="3963"/>
                  <a:pt x="18683" y="3941"/>
                  <a:pt x="18628" y="3969"/>
                </a:cubicBezTo>
                <a:cubicBezTo>
                  <a:pt x="18590" y="3988"/>
                  <a:pt x="18538" y="4103"/>
                  <a:pt x="18529" y="4142"/>
                </a:cubicBezTo>
                <a:cubicBezTo>
                  <a:pt x="18513" y="4214"/>
                  <a:pt x="18475" y="4320"/>
                  <a:pt x="18529" y="4390"/>
                </a:cubicBezTo>
                <a:cubicBezTo>
                  <a:pt x="18579" y="4455"/>
                  <a:pt x="18642" y="4437"/>
                  <a:pt x="18703" y="4415"/>
                </a:cubicBezTo>
                <a:cubicBezTo>
                  <a:pt x="18728" y="4407"/>
                  <a:pt x="18752" y="4398"/>
                  <a:pt x="18777" y="4390"/>
                </a:cubicBezTo>
              </a:path>
              <a:path w="5929" h="2978">
                <a:moveTo>
                  <a:pt x="19000" y="4068"/>
                </a:moveTo>
                <a:cubicBezTo>
                  <a:pt x="18975" y="4159"/>
                  <a:pt x="18931" y="4247"/>
                  <a:pt x="18926" y="4341"/>
                </a:cubicBezTo>
                <a:cubicBezTo>
                  <a:pt x="18924" y="4386"/>
                  <a:pt x="18964" y="4468"/>
                  <a:pt x="19025" y="4465"/>
                </a:cubicBezTo>
                <a:cubicBezTo>
                  <a:pt x="19103" y="4461"/>
                  <a:pt x="19139" y="4398"/>
                  <a:pt x="19174" y="4341"/>
                </a:cubicBezTo>
                <a:cubicBezTo>
                  <a:pt x="19224" y="4258"/>
                  <a:pt x="19233" y="4198"/>
                  <a:pt x="19224" y="4118"/>
                </a:cubicBezTo>
                <a:cubicBezTo>
                  <a:pt x="19216" y="4046"/>
                  <a:pt x="19174" y="4012"/>
                  <a:pt x="19100" y="3994"/>
                </a:cubicBezTo>
                <a:cubicBezTo>
                  <a:pt x="19083" y="3994"/>
                  <a:pt x="19067" y="3994"/>
                  <a:pt x="19050" y="3994"/>
                </a:cubicBezTo>
              </a:path>
              <a:path w="5929" h="2978">
                <a:moveTo>
                  <a:pt x="19596" y="3919"/>
                </a:moveTo>
                <a:cubicBezTo>
                  <a:pt x="19550" y="3965"/>
                  <a:pt x="19517" y="3958"/>
                  <a:pt x="19472" y="3994"/>
                </a:cubicBezTo>
                <a:cubicBezTo>
                  <a:pt x="19409" y="4044"/>
                  <a:pt x="19409" y="4092"/>
                  <a:pt x="19447" y="4167"/>
                </a:cubicBezTo>
                <a:cubicBezTo>
                  <a:pt x="19479" y="4231"/>
                  <a:pt x="19541" y="4309"/>
                  <a:pt x="19521" y="4390"/>
                </a:cubicBezTo>
                <a:cubicBezTo>
                  <a:pt x="19500" y="4473"/>
                  <a:pt x="19401" y="4395"/>
                  <a:pt x="19372" y="4366"/>
                </a:cubicBezTo>
                <a:cubicBezTo>
                  <a:pt x="19343" y="4336"/>
                  <a:pt x="19332" y="4321"/>
                  <a:pt x="19323" y="4291"/>
                </a:cubicBezTo>
              </a:path>
              <a:path w="5929" h="2978">
                <a:moveTo>
                  <a:pt x="19819" y="3572"/>
                </a:moveTo>
                <a:cubicBezTo>
                  <a:pt x="19882" y="3529"/>
                  <a:pt x="19894" y="3513"/>
                  <a:pt x="19943" y="3522"/>
                </a:cubicBezTo>
                <a:cubicBezTo>
                  <a:pt x="19936" y="3612"/>
                  <a:pt x="19932" y="3657"/>
                  <a:pt x="19869" y="3721"/>
                </a:cubicBezTo>
                <a:cubicBezTo>
                  <a:pt x="19825" y="3765"/>
                  <a:pt x="19828" y="3757"/>
                  <a:pt x="19819" y="3820"/>
                </a:cubicBezTo>
                <a:cubicBezTo>
                  <a:pt x="19924" y="3838"/>
                  <a:pt x="19920" y="3834"/>
                  <a:pt x="20042" y="3820"/>
                </a:cubicBezTo>
              </a:path>
              <a:path w="5929" h="2978">
                <a:moveTo>
                  <a:pt x="20067" y="3994"/>
                </a:moveTo>
                <a:cubicBezTo>
                  <a:pt x="20089" y="4104"/>
                  <a:pt x="20094" y="4218"/>
                  <a:pt x="20191" y="4291"/>
                </a:cubicBezTo>
                <a:cubicBezTo>
                  <a:pt x="20269" y="4350"/>
                  <a:pt x="20322" y="4367"/>
                  <a:pt x="20414" y="4390"/>
                </a:cubicBezTo>
                <a:cubicBezTo>
                  <a:pt x="20475" y="4410"/>
                  <a:pt x="20490" y="4429"/>
                  <a:pt x="20513" y="4390"/>
                </a:cubicBezTo>
              </a:path>
              <a:path w="5929" h="2978">
                <a:moveTo>
                  <a:pt x="20464" y="4018"/>
                </a:moveTo>
                <a:cubicBezTo>
                  <a:pt x="20356" y="4126"/>
                  <a:pt x="20249" y="4259"/>
                  <a:pt x="20117" y="4341"/>
                </a:cubicBezTo>
                <a:cubicBezTo>
                  <a:pt x="20062" y="4375"/>
                  <a:pt x="20055" y="4377"/>
                  <a:pt x="20042" y="4440"/>
                </a:cubicBezTo>
              </a:path>
              <a:path w="5929" h="2978">
                <a:moveTo>
                  <a:pt x="14833" y="4738"/>
                </a:moveTo>
                <a:cubicBezTo>
                  <a:pt x="14861" y="4662"/>
                  <a:pt x="14885" y="4612"/>
                  <a:pt x="14932" y="4539"/>
                </a:cubicBezTo>
                <a:cubicBezTo>
                  <a:pt x="15093" y="4290"/>
                  <a:pt x="15287" y="4068"/>
                  <a:pt x="15478" y="3845"/>
                </a:cubicBezTo>
                <a:cubicBezTo>
                  <a:pt x="15670" y="3621"/>
                  <a:pt x="15844" y="3388"/>
                  <a:pt x="16049" y="3175"/>
                </a:cubicBezTo>
                <a:cubicBezTo>
                  <a:pt x="16277" y="2939"/>
                  <a:pt x="16499" y="2700"/>
                  <a:pt x="16743" y="2480"/>
                </a:cubicBezTo>
                <a:cubicBezTo>
                  <a:pt x="16932" y="2309"/>
                  <a:pt x="17168" y="2114"/>
                  <a:pt x="17388" y="1984"/>
                </a:cubicBezTo>
                <a:cubicBezTo>
                  <a:pt x="17511" y="1911"/>
                  <a:pt x="17628" y="1822"/>
                  <a:pt x="17760" y="1761"/>
                </a:cubicBezTo>
                <a:cubicBezTo>
                  <a:pt x="17752" y="1769"/>
                  <a:pt x="17743" y="1778"/>
                  <a:pt x="17735" y="17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Ink 29"/>
          <p:cNvSpPr/>
          <p:nvPr/>
        </p:nvSpPr>
        <p:spPr>
          <a:xfrm>
            <a:off x="8215200" y="1241280"/>
            <a:ext cx="901800" cy="465120"/>
          </a:xfrm>
          <a:custGeom>
            <a:avLst/>
            <a:gdLst/>
            <a:ahLst/>
            <a:rect l="l" t="t" r="r" b="b"/>
            <a:pathLst>
              <a:path w="2507" h="1291">
                <a:moveTo>
                  <a:pt x="22969" y="3770"/>
                </a:moveTo>
                <a:cubicBezTo>
                  <a:pt x="22993" y="3858"/>
                  <a:pt x="22994" y="3926"/>
                  <a:pt x="22994" y="4018"/>
                </a:cubicBezTo>
                <a:cubicBezTo>
                  <a:pt x="22994" y="4079"/>
                  <a:pt x="23008" y="4141"/>
                  <a:pt x="22969" y="4167"/>
                </a:cubicBezTo>
              </a:path>
              <a:path w="2507" h="1291">
                <a:moveTo>
                  <a:pt x="22820" y="4018"/>
                </a:moveTo>
                <a:cubicBezTo>
                  <a:pt x="22910" y="4013"/>
                  <a:pt x="22982" y="4003"/>
                  <a:pt x="23068" y="3994"/>
                </a:cubicBezTo>
              </a:path>
              <a:path w="2507" h="1291">
                <a:moveTo>
                  <a:pt x="23564" y="3845"/>
                </a:moveTo>
                <a:cubicBezTo>
                  <a:pt x="23499" y="3873"/>
                  <a:pt x="23373" y="3895"/>
                  <a:pt x="23391" y="3994"/>
                </a:cubicBezTo>
                <a:cubicBezTo>
                  <a:pt x="23406" y="4077"/>
                  <a:pt x="23460" y="4120"/>
                  <a:pt x="23490" y="4192"/>
                </a:cubicBezTo>
                <a:cubicBezTo>
                  <a:pt x="23517" y="4257"/>
                  <a:pt x="23473" y="4394"/>
                  <a:pt x="23416" y="4291"/>
                </a:cubicBezTo>
                <a:cubicBezTo>
                  <a:pt x="23408" y="4266"/>
                  <a:pt x="23399" y="4242"/>
                  <a:pt x="23391" y="4217"/>
                </a:cubicBezTo>
              </a:path>
              <a:path w="2507" h="1291">
                <a:moveTo>
                  <a:pt x="23763" y="4043"/>
                </a:moveTo>
                <a:cubicBezTo>
                  <a:pt x="23774" y="4132"/>
                  <a:pt x="23800" y="4201"/>
                  <a:pt x="23738" y="4242"/>
                </a:cubicBezTo>
              </a:path>
              <a:path w="2507" h="1291">
                <a:moveTo>
                  <a:pt x="23763" y="3820"/>
                </a:moveTo>
                <a:cubicBezTo>
                  <a:pt x="23791" y="3750"/>
                  <a:pt x="23790" y="3744"/>
                  <a:pt x="23837" y="3696"/>
                </a:cubicBezTo>
              </a:path>
              <a:path w="2507" h="1291">
                <a:moveTo>
                  <a:pt x="23912" y="4167"/>
                </a:moveTo>
                <a:cubicBezTo>
                  <a:pt x="23940" y="4279"/>
                  <a:pt x="23955" y="4085"/>
                  <a:pt x="23961" y="4043"/>
                </a:cubicBezTo>
                <a:cubicBezTo>
                  <a:pt x="23971" y="3972"/>
                  <a:pt x="23984" y="3944"/>
                  <a:pt x="24036" y="3894"/>
                </a:cubicBezTo>
                <a:cubicBezTo>
                  <a:pt x="24089" y="3842"/>
                  <a:pt x="24147" y="3941"/>
                  <a:pt x="24160" y="3994"/>
                </a:cubicBezTo>
                <a:cubicBezTo>
                  <a:pt x="24177" y="4060"/>
                  <a:pt x="24166" y="4165"/>
                  <a:pt x="24135" y="4217"/>
                </a:cubicBezTo>
              </a:path>
              <a:path w="2507" h="1291">
                <a:moveTo>
                  <a:pt x="24209" y="3547"/>
                </a:moveTo>
                <a:cubicBezTo>
                  <a:pt x="24278" y="3499"/>
                  <a:pt x="24327" y="3430"/>
                  <a:pt x="24408" y="3473"/>
                </a:cubicBezTo>
                <a:cubicBezTo>
                  <a:pt x="24485" y="3513"/>
                  <a:pt x="24407" y="3623"/>
                  <a:pt x="24383" y="3671"/>
                </a:cubicBezTo>
                <a:cubicBezTo>
                  <a:pt x="24351" y="3736"/>
                  <a:pt x="24366" y="3778"/>
                  <a:pt x="24433" y="3795"/>
                </a:cubicBezTo>
              </a:path>
              <a:path w="2507" h="1291">
                <a:moveTo>
                  <a:pt x="24606" y="4068"/>
                </a:moveTo>
                <a:cubicBezTo>
                  <a:pt x="24644" y="4192"/>
                  <a:pt x="24657" y="4191"/>
                  <a:pt x="24755" y="4266"/>
                </a:cubicBezTo>
                <a:cubicBezTo>
                  <a:pt x="24792" y="4294"/>
                  <a:pt x="24807" y="4291"/>
                  <a:pt x="24854" y="4291"/>
                </a:cubicBezTo>
              </a:path>
              <a:path w="2507" h="1291">
                <a:moveTo>
                  <a:pt x="24854" y="3944"/>
                </a:moveTo>
                <a:cubicBezTo>
                  <a:pt x="24766" y="4047"/>
                  <a:pt x="24669" y="4197"/>
                  <a:pt x="24581" y="4291"/>
                </a:cubicBezTo>
                <a:cubicBezTo>
                  <a:pt x="24538" y="4313"/>
                  <a:pt x="24517" y="4317"/>
                  <a:pt x="24557" y="4341"/>
                </a:cubicBezTo>
              </a:path>
              <a:path w="2507" h="1291">
                <a:moveTo>
                  <a:pt x="25078" y="3870"/>
                </a:moveTo>
                <a:cubicBezTo>
                  <a:pt x="25053" y="3957"/>
                  <a:pt x="25017" y="4065"/>
                  <a:pt x="25003" y="4142"/>
                </a:cubicBezTo>
                <a:cubicBezTo>
                  <a:pt x="25003" y="4184"/>
                  <a:pt x="25003" y="4192"/>
                  <a:pt x="25003" y="4217"/>
                </a:cubicBezTo>
              </a:path>
              <a:path w="2507" h="1291">
                <a:moveTo>
                  <a:pt x="24954" y="4118"/>
                </a:moveTo>
                <a:cubicBezTo>
                  <a:pt x="25005" y="4087"/>
                  <a:pt x="25047" y="4088"/>
                  <a:pt x="25102" y="4068"/>
                </a:cubicBezTo>
                <a:cubicBezTo>
                  <a:pt x="25119" y="4060"/>
                  <a:pt x="25135" y="4051"/>
                  <a:pt x="25152" y="4043"/>
                </a:cubicBezTo>
              </a:path>
              <a:path w="2507" h="1291">
                <a:moveTo>
                  <a:pt x="25102" y="4118"/>
                </a:moveTo>
                <a:cubicBezTo>
                  <a:pt x="25064" y="4161"/>
                  <a:pt x="24988" y="4226"/>
                  <a:pt x="25003" y="4291"/>
                </a:cubicBezTo>
                <a:cubicBezTo>
                  <a:pt x="25014" y="4336"/>
                  <a:pt x="25047" y="4360"/>
                  <a:pt x="25078" y="4390"/>
                </a:cubicBezTo>
              </a:path>
              <a:path w="2507" h="1291">
                <a:moveTo>
                  <a:pt x="25053" y="4539"/>
                </a:moveTo>
                <a:cubicBezTo>
                  <a:pt x="25045" y="4547"/>
                  <a:pt x="25036" y="4556"/>
                  <a:pt x="25028" y="4564"/>
                </a:cubicBezTo>
                <a:cubicBezTo>
                  <a:pt x="25090" y="4602"/>
                  <a:pt x="25102" y="4589"/>
                  <a:pt x="25152" y="4539"/>
                </a:cubicBezTo>
              </a:path>
              <a:path w="2507" h="1291">
                <a:moveTo>
                  <a:pt x="25226" y="4440"/>
                </a:moveTo>
                <a:cubicBezTo>
                  <a:pt x="25210" y="4423"/>
                  <a:pt x="25193" y="4407"/>
                  <a:pt x="25177" y="4390"/>
                </a:cubicBezTo>
                <a:cubicBezTo>
                  <a:pt x="25223" y="4367"/>
                  <a:pt x="25261" y="4348"/>
                  <a:pt x="25301" y="4316"/>
                </a:cubicBezTo>
                <a:cubicBezTo>
                  <a:pt x="25291" y="4384"/>
                  <a:pt x="25251" y="4464"/>
                  <a:pt x="25276" y="4539"/>
                </a:cubicBezTo>
                <a:cubicBezTo>
                  <a:pt x="25302" y="4616"/>
                  <a:pt x="25346" y="4586"/>
                  <a:pt x="25301" y="4688"/>
                </a:cubicBezTo>
                <a:cubicBezTo>
                  <a:pt x="25272" y="4753"/>
                  <a:pt x="25207" y="4759"/>
                  <a:pt x="25177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Ink 30"/>
          <p:cNvSpPr/>
          <p:nvPr/>
        </p:nvSpPr>
        <p:spPr>
          <a:xfrm>
            <a:off x="2340000" y="5500800"/>
            <a:ext cx="1017720" cy="393480"/>
          </a:xfrm>
          <a:custGeom>
            <a:avLst/>
            <a:gdLst/>
            <a:ahLst/>
            <a:rect l="l" t="t" r="r" b="b"/>
            <a:pathLst>
              <a:path w="2829" h="1092">
                <a:moveTo>
                  <a:pt x="6499" y="15801"/>
                </a:moveTo>
                <a:cubicBezTo>
                  <a:pt x="6590" y="15755"/>
                  <a:pt x="6674" y="15722"/>
                  <a:pt x="6747" y="15652"/>
                </a:cubicBezTo>
                <a:cubicBezTo>
                  <a:pt x="6801" y="15601"/>
                  <a:pt x="6855" y="15563"/>
                  <a:pt x="6921" y="15528"/>
                </a:cubicBezTo>
                <a:cubicBezTo>
                  <a:pt x="6977" y="15498"/>
                  <a:pt x="7050" y="15445"/>
                  <a:pt x="7094" y="15528"/>
                </a:cubicBezTo>
                <a:cubicBezTo>
                  <a:pt x="7150" y="15633"/>
                  <a:pt x="7102" y="15723"/>
                  <a:pt x="7069" y="15825"/>
                </a:cubicBezTo>
                <a:cubicBezTo>
                  <a:pt x="7037" y="15923"/>
                  <a:pt x="6984" y="16041"/>
                  <a:pt x="6921" y="16123"/>
                </a:cubicBezTo>
                <a:cubicBezTo>
                  <a:pt x="6869" y="16191"/>
                  <a:pt x="6816" y="16220"/>
                  <a:pt x="6747" y="16247"/>
                </a:cubicBezTo>
                <a:cubicBezTo>
                  <a:pt x="6697" y="16267"/>
                  <a:pt x="6592" y="16265"/>
                  <a:pt x="6623" y="16173"/>
                </a:cubicBezTo>
                <a:cubicBezTo>
                  <a:pt x="6647" y="16102"/>
                  <a:pt x="6768" y="16123"/>
                  <a:pt x="6821" y="16123"/>
                </a:cubicBezTo>
                <a:cubicBezTo>
                  <a:pt x="6916" y="16123"/>
                  <a:pt x="6956" y="16183"/>
                  <a:pt x="7020" y="16247"/>
                </a:cubicBezTo>
                <a:cubicBezTo>
                  <a:pt x="7083" y="16310"/>
                  <a:pt x="7093" y="16327"/>
                  <a:pt x="7144" y="16346"/>
                </a:cubicBezTo>
              </a:path>
              <a:path w="2829" h="1092">
                <a:moveTo>
                  <a:pt x="7590" y="15925"/>
                </a:moveTo>
                <a:cubicBezTo>
                  <a:pt x="7716" y="15861"/>
                  <a:pt x="7786" y="15834"/>
                  <a:pt x="7913" y="15801"/>
                </a:cubicBezTo>
                <a:cubicBezTo>
                  <a:pt x="7946" y="15793"/>
                  <a:pt x="7979" y="15784"/>
                  <a:pt x="8012" y="15776"/>
                </a:cubicBezTo>
              </a:path>
              <a:path w="2829" h="1092">
                <a:moveTo>
                  <a:pt x="7714" y="15900"/>
                </a:moveTo>
                <a:cubicBezTo>
                  <a:pt x="7844" y="15992"/>
                  <a:pt x="7847" y="16034"/>
                  <a:pt x="7938" y="16024"/>
                </a:cubicBezTo>
              </a:path>
              <a:path w="2829" h="1092">
                <a:moveTo>
                  <a:pt x="8607" y="15404"/>
                </a:moveTo>
                <a:cubicBezTo>
                  <a:pt x="8623" y="15396"/>
                  <a:pt x="8902" y="15217"/>
                  <a:pt x="8979" y="15280"/>
                </a:cubicBezTo>
                <a:cubicBezTo>
                  <a:pt x="9062" y="15349"/>
                  <a:pt x="9099" y="15453"/>
                  <a:pt x="9103" y="15553"/>
                </a:cubicBezTo>
                <a:cubicBezTo>
                  <a:pt x="9108" y="15694"/>
                  <a:pt x="9041" y="15780"/>
                  <a:pt x="8979" y="15900"/>
                </a:cubicBezTo>
                <a:cubicBezTo>
                  <a:pt x="8915" y="16025"/>
                  <a:pt x="8857" y="16081"/>
                  <a:pt x="8756" y="16173"/>
                </a:cubicBezTo>
                <a:cubicBezTo>
                  <a:pt x="8703" y="16222"/>
                  <a:pt x="8665" y="16192"/>
                  <a:pt x="8607" y="16173"/>
                </a:cubicBezTo>
                <a:cubicBezTo>
                  <a:pt x="8640" y="16054"/>
                  <a:pt x="8619" y="16068"/>
                  <a:pt x="8706" y="16024"/>
                </a:cubicBezTo>
                <a:cubicBezTo>
                  <a:pt x="8751" y="16001"/>
                  <a:pt x="8902" y="16030"/>
                  <a:pt x="8954" y="16073"/>
                </a:cubicBezTo>
                <a:cubicBezTo>
                  <a:pt x="9074" y="16173"/>
                  <a:pt x="9192" y="16275"/>
                  <a:pt x="9327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Ink 31"/>
          <p:cNvSpPr/>
          <p:nvPr/>
        </p:nvSpPr>
        <p:spPr>
          <a:xfrm>
            <a:off x="4554360" y="723960"/>
            <a:ext cx="3044880" cy="2793960"/>
          </a:xfrm>
          <a:custGeom>
            <a:avLst/>
            <a:gdLst/>
            <a:ahLst/>
            <a:rect l="l" t="t" r="r" b="b"/>
            <a:pathLst>
              <a:path w="8460" h="7765">
                <a:moveTo>
                  <a:pt x="17810" y="4713"/>
                </a:moveTo>
                <a:cubicBezTo>
                  <a:pt x="17858" y="4652"/>
                  <a:pt x="17905" y="4595"/>
                  <a:pt x="17959" y="4539"/>
                </a:cubicBezTo>
                <a:cubicBezTo>
                  <a:pt x="18123" y="4368"/>
                  <a:pt x="18283" y="4205"/>
                  <a:pt x="18455" y="4043"/>
                </a:cubicBezTo>
                <a:cubicBezTo>
                  <a:pt x="18676" y="3834"/>
                  <a:pt x="18895" y="3624"/>
                  <a:pt x="19124" y="3423"/>
                </a:cubicBezTo>
                <a:cubicBezTo>
                  <a:pt x="19492" y="3099"/>
                  <a:pt x="19861" y="2805"/>
                  <a:pt x="20265" y="2530"/>
                </a:cubicBezTo>
                <a:cubicBezTo>
                  <a:pt x="20487" y="2378"/>
                  <a:pt x="20731" y="2270"/>
                  <a:pt x="20960" y="2133"/>
                </a:cubicBezTo>
                <a:cubicBezTo>
                  <a:pt x="21023" y="2095"/>
                  <a:pt x="21039" y="2067"/>
                  <a:pt x="21084" y="2009"/>
                </a:cubicBezTo>
              </a:path>
              <a:path w="8460" h="7765">
                <a:moveTo>
                  <a:pt x="12750" y="8235"/>
                </a:moveTo>
                <a:cubicBezTo>
                  <a:pt x="12740" y="8370"/>
                  <a:pt x="12689" y="8500"/>
                  <a:pt x="12675" y="8632"/>
                </a:cubicBezTo>
                <a:cubicBezTo>
                  <a:pt x="12660" y="8774"/>
                  <a:pt x="12650" y="8910"/>
                  <a:pt x="12650" y="9054"/>
                </a:cubicBezTo>
                <a:cubicBezTo>
                  <a:pt x="12650" y="9211"/>
                  <a:pt x="12650" y="9368"/>
                  <a:pt x="12650" y="9525"/>
                </a:cubicBezTo>
              </a:path>
              <a:path w="8460" h="7765">
                <a:moveTo>
                  <a:pt x="13940" y="8682"/>
                </a:moveTo>
                <a:cubicBezTo>
                  <a:pt x="13923" y="8853"/>
                  <a:pt x="13915" y="9008"/>
                  <a:pt x="13915" y="9178"/>
                </a:cubicBezTo>
                <a:cubicBezTo>
                  <a:pt x="13915" y="9277"/>
                  <a:pt x="13920" y="9359"/>
                  <a:pt x="13940" y="9451"/>
                </a:cubicBezTo>
                <a:cubicBezTo>
                  <a:pt x="13940" y="9484"/>
                  <a:pt x="13940" y="9500"/>
                  <a:pt x="13940" y="9525"/>
                </a:cubicBezTo>
              </a:path>
              <a:path w="8460" h="7765">
                <a:moveTo>
                  <a:pt x="13618" y="9029"/>
                </a:moveTo>
                <a:cubicBezTo>
                  <a:pt x="13767" y="8981"/>
                  <a:pt x="13903" y="8962"/>
                  <a:pt x="14064" y="8979"/>
                </a:cubicBezTo>
                <a:cubicBezTo>
                  <a:pt x="14196" y="9001"/>
                  <a:pt x="14228" y="9009"/>
                  <a:pt x="14312" y="9004"/>
                </a:cubicBezTo>
              </a:path>
              <a:path w="8460" h="7765">
                <a:moveTo>
                  <a:pt x="15205" y="8434"/>
                </a:moveTo>
                <a:cubicBezTo>
                  <a:pt x="15197" y="8552"/>
                  <a:pt x="15180" y="8660"/>
                  <a:pt x="15180" y="8781"/>
                </a:cubicBezTo>
                <a:cubicBezTo>
                  <a:pt x="15180" y="8918"/>
                  <a:pt x="15194" y="9045"/>
                  <a:pt x="15205" y="9178"/>
                </a:cubicBezTo>
                <a:cubicBezTo>
                  <a:pt x="15215" y="9298"/>
                  <a:pt x="15210" y="9432"/>
                  <a:pt x="15230" y="9550"/>
                </a:cubicBezTo>
                <a:cubicBezTo>
                  <a:pt x="15243" y="9628"/>
                  <a:pt x="15255" y="9692"/>
                  <a:pt x="15255" y="9773"/>
                </a:cubicBezTo>
              </a:path>
              <a:path w="8460" h="7765">
                <a:moveTo>
                  <a:pt x="12973" y="6821"/>
                </a:moveTo>
                <a:cubicBezTo>
                  <a:pt x="12980" y="6887"/>
                  <a:pt x="12978" y="6936"/>
                  <a:pt x="12998" y="6995"/>
                </a:cubicBezTo>
                <a:cubicBezTo>
                  <a:pt x="13029" y="7084"/>
                  <a:pt x="13059" y="7101"/>
                  <a:pt x="13122" y="7169"/>
                </a:cubicBezTo>
                <a:cubicBezTo>
                  <a:pt x="13182" y="7233"/>
                  <a:pt x="13239" y="7261"/>
                  <a:pt x="13320" y="7293"/>
                </a:cubicBezTo>
                <a:cubicBezTo>
                  <a:pt x="13414" y="7330"/>
                  <a:pt x="13518" y="7375"/>
                  <a:pt x="13618" y="7392"/>
                </a:cubicBezTo>
                <a:cubicBezTo>
                  <a:pt x="13770" y="7418"/>
                  <a:pt x="13931" y="7445"/>
                  <a:pt x="14089" y="7441"/>
                </a:cubicBezTo>
                <a:cubicBezTo>
                  <a:pt x="14229" y="7437"/>
                  <a:pt x="14424" y="7406"/>
                  <a:pt x="14560" y="7367"/>
                </a:cubicBezTo>
                <a:cubicBezTo>
                  <a:pt x="14659" y="7339"/>
                  <a:pt x="14759" y="7304"/>
                  <a:pt x="14858" y="7293"/>
                </a:cubicBezTo>
                <a:cubicBezTo>
                  <a:pt x="14951" y="7283"/>
                  <a:pt x="15120" y="7283"/>
                  <a:pt x="15205" y="7317"/>
                </a:cubicBezTo>
                <a:cubicBezTo>
                  <a:pt x="15327" y="7365"/>
                  <a:pt x="15429" y="7501"/>
                  <a:pt x="15553" y="7541"/>
                </a:cubicBezTo>
                <a:cubicBezTo>
                  <a:pt x="15605" y="7558"/>
                  <a:pt x="15643" y="7567"/>
                  <a:pt x="15701" y="7541"/>
                </a:cubicBezTo>
                <a:cubicBezTo>
                  <a:pt x="15841" y="7479"/>
                  <a:pt x="15921" y="7348"/>
                  <a:pt x="16098" y="7317"/>
                </a:cubicBezTo>
                <a:cubicBezTo>
                  <a:pt x="16287" y="7284"/>
                  <a:pt x="16503" y="7293"/>
                  <a:pt x="16694" y="7317"/>
                </a:cubicBezTo>
                <a:cubicBezTo>
                  <a:pt x="16890" y="7342"/>
                  <a:pt x="17091" y="7379"/>
                  <a:pt x="17289" y="7392"/>
                </a:cubicBezTo>
                <a:cubicBezTo>
                  <a:pt x="17494" y="7405"/>
                  <a:pt x="17704" y="7413"/>
                  <a:pt x="17909" y="7417"/>
                </a:cubicBezTo>
                <a:cubicBezTo>
                  <a:pt x="18011" y="7419"/>
                  <a:pt x="18216" y="7425"/>
                  <a:pt x="18306" y="7367"/>
                </a:cubicBezTo>
                <a:cubicBezTo>
                  <a:pt x="18462" y="7266"/>
                  <a:pt x="18344" y="7292"/>
                  <a:pt x="18256" y="7218"/>
                </a:cubicBezTo>
              </a:path>
              <a:path w="8460" h="7765">
                <a:moveTo>
                  <a:pt x="15900" y="7714"/>
                </a:moveTo>
                <a:cubicBezTo>
                  <a:pt x="15882" y="7863"/>
                  <a:pt x="15823" y="7971"/>
                  <a:pt x="15776" y="8111"/>
                </a:cubicBezTo>
                <a:cubicBezTo>
                  <a:pt x="15742" y="8213"/>
                  <a:pt x="15675" y="8306"/>
                  <a:pt x="15652" y="8409"/>
                </a:cubicBezTo>
                <a:cubicBezTo>
                  <a:pt x="15636" y="8481"/>
                  <a:pt x="15599" y="8536"/>
                  <a:pt x="15577" y="8607"/>
                </a:cubicBezTo>
                <a:cubicBezTo>
                  <a:pt x="15577" y="8615"/>
                  <a:pt x="15577" y="8624"/>
                  <a:pt x="15577" y="8632"/>
                </a:cubicBezTo>
              </a:path>
              <a:path w="8460" h="7765">
                <a:moveTo>
                  <a:pt x="15478" y="8310"/>
                </a:moveTo>
                <a:cubicBezTo>
                  <a:pt x="15467" y="8364"/>
                  <a:pt x="15455" y="8447"/>
                  <a:pt x="15478" y="8508"/>
                </a:cubicBezTo>
                <a:cubicBezTo>
                  <a:pt x="15491" y="8543"/>
                  <a:pt x="15508" y="8574"/>
                  <a:pt x="15528" y="8607"/>
                </a:cubicBezTo>
                <a:cubicBezTo>
                  <a:pt x="15704" y="8574"/>
                  <a:pt x="15748" y="8526"/>
                  <a:pt x="15900" y="8458"/>
                </a:cubicBezTo>
                <a:cubicBezTo>
                  <a:pt x="15978" y="8433"/>
                  <a:pt x="16006" y="8422"/>
                  <a:pt x="16049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Ink 32"/>
          <p:cNvSpPr/>
          <p:nvPr/>
        </p:nvSpPr>
        <p:spPr>
          <a:xfrm>
            <a:off x="687240" y="2017800"/>
            <a:ext cx="3044880" cy="474480"/>
          </a:xfrm>
          <a:custGeom>
            <a:avLst/>
            <a:gdLst/>
            <a:ahLst/>
            <a:rect l="l" t="t" r="r" b="b"/>
            <a:pathLst>
              <a:path w="8459" h="1316">
                <a:moveTo>
                  <a:pt x="2059" y="5978"/>
                </a:moveTo>
                <a:cubicBezTo>
                  <a:pt x="2059" y="5903"/>
                  <a:pt x="2056" y="5882"/>
                  <a:pt x="2108" y="5829"/>
                </a:cubicBezTo>
                <a:cubicBezTo>
                  <a:pt x="2162" y="5774"/>
                  <a:pt x="2210" y="5779"/>
                  <a:pt x="2282" y="5779"/>
                </a:cubicBezTo>
                <a:cubicBezTo>
                  <a:pt x="2350" y="5779"/>
                  <a:pt x="2406" y="5808"/>
                  <a:pt x="2456" y="5854"/>
                </a:cubicBezTo>
                <a:cubicBezTo>
                  <a:pt x="2501" y="5895"/>
                  <a:pt x="2527" y="5993"/>
                  <a:pt x="2530" y="6052"/>
                </a:cubicBezTo>
                <a:cubicBezTo>
                  <a:pt x="2534" y="6144"/>
                  <a:pt x="2509" y="6211"/>
                  <a:pt x="2505" y="6300"/>
                </a:cubicBezTo>
                <a:cubicBezTo>
                  <a:pt x="2502" y="6363"/>
                  <a:pt x="2471" y="6499"/>
                  <a:pt x="2431" y="6548"/>
                </a:cubicBezTo>
                <a:cubicBezTo>
                  <a:pt x="2397" y="6589"/>
                  <a:pt x="2348" y="6684"/>
                  <a:pt x="2307" y="6722"/>
                </a:cubicBezTo>
                <a:cubicBezTo>
                  <a:pt x="2291" y="6737"/>
                  <a:pt x="2151" y="6794"/>
                  <a:pt x="2133" y="6796"/>
                </a:cubicBezTo>
                <a:cubicBezTo>
                  <a:pt x="2058" y="6806"/>
                  <a:pt x="1932" y="6794"/>
                  <a:pt x="1910" y="6697"/>
                </a:cubicBezTo>
                <a:cubicBezTo>
                  <a:pt x="1898" y="6643"/>
                  <a:pt x="1912" y="6544"/>
                  <a:pt x="1935" y="6499"/>
                </a:cubicBezTo>
                <a:cubicBezTo>
                  <a:pt x="1969" y="6431"/>
                  <a:pt x="2036" y="6381"/>
                  <a:pt x="2108" y="6449"/>
                </a:cubicBezTo>
                <a:cubicBezTo>
                  <a:pt x="2141" y="6480"/>
                  <a:pt x="2198" y="6580"/>
                  <a:pt x="2208" y="6623"/>
                </a:cubicBezTo>
                <a:cubicBezTo>
                  <a:pt x="2221" y="6679"/>
                  <a:pt x="2219" y="6699"/>
                  <a:pt x="2257" y="6747"/>
                </a:cubicBezTo>
              </a:path>
              <a:path w="8459" h="1316">
                <a:moveTo>
                  <a:pt x="2927" y="6201"/>
                </a:moveTo>
                <a:cubicBezTo>
                  <a:pt x="2890" y="6183"/>
                  <a:pt x="2831" y="6219"/>
                  <a:pt x="2778" y="6251"/>
                </a:cubicBezTo>
                <a:cubicBezTo>
                  <a:pt x="2718" y="6287"/>
                  <a:pt x="2728" y="6327"/>
                  <a:pt x="2704" y="6375"/>
                </a:cubicBezTo>
                <a:cubicBezTo>
                  <a:pt x="2681" y="6421"/>
                  <a:pt x="2709" y="6450"/>
                  <a:pt x="2753" y="6499"/>
                </a:cubicBezTo>
                <a:cubicBezTo>
                  <a:pt x="2792" y="6543"/>
                  <a:pt x="2840" y="6515"/>
                  <a:pt x="2877" y="6573"/>
                </a:cubicBezTo>
                <a:cubicBezTo>
                  <a:pt x="2918" y="6637"/>
                  <a:pt x="2952" y="6703"/>
                  <a:pt x="2902" y="6772"/>
                </a:cubicBezTo>
                <a:cubicBezTo>
                  <a:pt x="2869" y="6819"/>
                  <a:pt x="2736" y="6890"/>
                  <a:pt x="2679" y="6871"/>
                </a:cubicBezTo>
                <a:cubicBezTo>
                  <a:pt x="2622" y="6852"/>
                  <a:pt x="2633" y="6789"/>
                  <a:pt x="2629" y="6747"/>
                </a:cubicBezTo>
              </a:path>
              <a:path w="8459" h="1316">
                <a:moveTo>
                  <a:pt x="3101" y="6573"/>
                </a:moveTo>
                <a:cubicBezTo>
                  <a:pt x="3239" y="6564"/>
                  <a:pt x="3219" y="6579"/>
                  <a:pt x="3299" y="6499"/>
                </a:cubicBezTo>
                <a:cubicBezTo>
                  <a:pt x="3341" y="6457"/>
                  <a:pt x="3387" y="6417"/>
                  <a:pt x="3373" y="6350"/>
                </a:cubicBezTo>
                <a:cubicBezTo>
                  <a:pt x="3359" y="6283"/>
                  <a:pt x="3317" y="6255"/>
                  <a:pt x="3274" y="6276"/>
                </a:cubicBezTo>
                <a:cubicBezTo>
                  <a:pt x="3211" y="6307"/>
                  <a:pt x="3124" y="6352"/>
                  <a:pt x="3101" y="6424"/>
                </a:cubicBezTo>
                <a:cubicBezTo>
                  <a:pt x="3079" y="6494"/>
                  <a:pt x="3076" y="6570"/>
                  <a:pt x="3076" y="6648"/>
                </a:cubicBezTo>
                <a:cubicBezTo>
                  <a:pt x="3076" y="6698"/>
                  <a:pt x="3101" y="6800"/>
                  <a:pt x="3175" y="6796"/>
                </a:cubicBezTo>
                <a:cubicBezTo>
                  <a:pt x="3192" y="6788"/>
                  <a:pt x="3208" y="6780"/>
                  <a:pt x="3225" y="6772"/>
                </a:cubicBezTo>
              </a:path>
              <a:path w="8459" h="1316">
                <a:moveTo>
                  <a:pt x="3696" y="6350"/>
                </a:moveTo>
                <a:cubicBezTo>
                  <a:pt x="3671" y="6325"/>
                  <a:pt x="3663" y="6317"/>
                  <a:pt x="3646" y="6300"/>
                </a:cubicBezTo>
                <a:cubicBezTo>
                  <a:pt x="3613" y="6333"/>
                  <a:pt x="3581" y="6367"/>
                  <a:pt x="3547" y="6400"/>
                </a:cubicBezTo>
                <a:cubicBezTo>
                  <a:pt x="3504" y="6442"/>
                  <a:pt x="3492" y="6499"/>
                  <a:pt x="3473" y="6548"/>
                </a:cubicBezTo>
                <a:cubicBezTo>
                  <a:pt x="3442" y="6626"/>
                  <a:pt x="3449" y="6676"/>
                  <a:pt x="3473" y="6747"/>
                </a:cubicBezTo>
                <a:cubicBezTo>
                  <a:pt x="3514" y="6866"/>
                  <a:pt x="3617" y="6769"/>
                  <a:pt x="3671" y="6722"/>
                </a:cubicBezTo>
              </a:path>
              <a:path w="8459" h="1316">
                <a:moveTo>
                  <a:pt x="3795" y="5730"/>
                </a:moveTo>
                <a:cubicBezTo>
                  <a:pt x="3846" y="5658"/>
                  <a:pt x="3887" y="5579"/>
                  <a:pt x="3994" y="5606"/>
                </a:cubicBezTo>
                <a:cubicBezTo>
                  <a:pt x="4002" y="5614"/>
                  <a:pt x="4010" y="5623"/>
                  <a:pt x="4018" y="5631"/>
                </a:cubicBezTo>
                <a:cubicBezTo>
                  <a:pt x="4009" y="5716"/>
                  <a:pt x="3996" y="5777"/>
                  <a:pt x="3919" y="5829"/>
                </a:cubicBezTo>
                <a:cubicBezTo>
                  <a:pt x="3894" y="5846"/>
                  <a:pt x="3816" y="5934"/>
                  <a:pt x="3820" y="5978"/>
                </a:cubicBezTo>
                <a:cubicBezTo>
                  <a:pt x="3824" y="6024"/>
                  <a:pt x="3944" y="6072"/>
                  <a:pt x="3969" y="6077"/>
                </a:cubicBezTo>
                <a:cubicBezTo>
                  <a:pt x="3985" y="6077"/>
                  <a:pt x="4002" y="6077"/>
                  <a:pt x="4018" y="6077"/>
                </a:cubicBezTo>
              </a:path>
              <a:path w="8459" h="1316">
                <a:moveTo>
                  <a:pt x="4167" y="6300"/>
                </a:moveTo>
                <a:cubicBezTo>
                  <a:pt x="4167" y="6401"/>
                  <a:pt x="4187" y="6433"/>
                  <a:pt x="4217" y="6524"/>
                </a:cubicBezTo>
                <a:cubicBezTo>
                  <a:pt x="4261" y="6659"/>
                  <a:pt x="4262" y="6686"/>
                  <a:pt x="4366" y="6772"/>
                </a:cubicBezTo>
                <a:cubicBezTo>
                  <a:pt x="4439" y="6832"/>
                  <a:pt x="4441" y="6859"/>
                  <a:pt x="4514" y="6896"/>
                </a:cubicBezTo>
                <a:cubicBezTo>
                  <a:pt x="4544" y="6926"/>
                  <a:pt x="4558" y="6931"/>
                  <a:pt x="4589" y="6896"/>
                </a:cubicBezTo>
              </a:path>
              <a:path w="8459" h="1316">
                <a:moveTo>
                  <a:pt x="4415" y="6226"/>
                </a:moveTo>
                <a:cubicBezTo>
                  <a:pt x="4352" y="6317"/>
                  <a:pt x="4288" y="6458"/>
                  <a:pt x="4217" y="6548"/>
                </a:cubicBezTo>
                <a:cubicBezTo>
                  <a:pt x="4166" y="6613"/>
                  <a:pt x="4108" y="6654"/>
                  <a:pt x="4068" y="6722"/>
                </a:cubicBezTo>
                <a:cubicBezTo>
                  <a:pt x="4035" y="6779"/>
                  <a:pt x="4027" y="6785"/>
                  <a:pt x="4018" y="6846"/>
                </a:cubicBezTo>
              </a:path>
              <a:path w="8459" h="1316">
                <a:moveTo>
                  <a:pt x="4762" y="6424"/>
                </a:moveTo>
                <a:cubicBezTo>
                  <a:pt x="4903" y="6424"/>
                  <a:pt x="5043" y="6424"/>
                  <a:pt x="5184" y="6424"/>
                </a:cubicBezTo>
              </a:path>
              <a:path w="8459" h="1316">
                <a:moveTo>
                  <a:pt x="5358" y="5978"/>
                </a:moveTo>
                <a:cubicBezTo>
                  <a:pt x="5411" y="5905"/>
                  <a:pt x="5455" y="5850"/>
                  <a:pt x="5531" y="5804"/>
                </a:cubicBezTo>
                <a:cubicBezTo>
                  <a:pt x="5587" y="5770"/>
                  <a:pt x="5659" y="5710"/>
                  <a:pt x="5730" y="5730"/>
                </a:cubicBezTo>
                <a:cubicBezTo>
                  <a:pt x="5809" y="5753"/>
                  <a:pt x="5779" y="5871"/>
                  <a:pt x="5779" y="5928"/>
                </a:cubicBezTo>
                <a:cubicBezTo>
                  <a:pt x="5779" y="5989"/>
                  <a:pt x="5756" y="6129"/>
                  <a:pt x="5730" y="6176"/>
                </a:cubicBezTo>
                <a:cubicBezTo>
                  <a:pt x="5683" y="6261"/>
                  <a:pt x="5624" y="6333"/>
                  <a:pt x="5581" y="6424"/>
                </a:cubicBezTo>
                <a:cubicBezTo>
                  <a:pt x="5531" y="6528"/>
                  <a:pt x="5438" y="6598"/>
                  <a:pt x="5383" y="6697"/>
                </a:cubicBezTo>
                <a:cubicBezTo>
                  <a:pt x="5365" y="6730"/>
                  <a:pt x="5292" y="6789"/>
                  <a:pt x="5283" y="6821"/>
                </a:cubicBezTo>
                <a:cubicBezTo>
                  <a:pt x="5268" y="6874"/>
                  <a:pt x="5265" y="6884"/>
                  <a:pt x="5283" y="6921"/>
                </a:cubicBezTo>
                <a:cubicBezTo>
                  <a:pt x="5360" y="6892"/>
                  <a:pt x="5423" y="6896"/>
                  <a:pt x="5507" y="6896"/>
                </a:cubicBezTo>
                <a:cubicBezTo>
                  <a:pt x="5561" y="6896"/>
                  <a:pt x="5597" y="6915"/>
                  <a:pt x="5655" y="6921"/>
                </a:cubicBezTo>
              </a:path>
              <a:path w="8459" h="1316">
                <a:moveTo>
                  <a:pt x="6201" y="6251"/>
                </a:moveTo>
                <a:cubicBezTo>
                  <a:pt x="6097" y="6209"/>
                  <a:pt x="6041" y="6194"/>
                  <a:pt x="5928" y="6251"/>
                </a:cubicBezTo>
                <a:cubicBezTo>
                  <a:pt x="5903" y="6263"/>
                  <a:pt x="5828" y="6356"/>
                  <a:pt x="5829" y="6375"/>
                </a:cubicBezTo>
                <a:cubicBezTo>
                  <a:pt x="5834" y="6449"/>
                  <a:pt x="5917" y="6495"/>
                  <a:pt x="5953" y="6548"/>
                </a:cubicBezTo>
                <a:cubicBezTo>
                  <a:pt x="5995" y="6611"/>
                  <a:pt x="6080" y="6642"/>
                  <a:pt x="6102" y="6722"/>
                </a:cubicBezTo>
                <a:cubicBezTo>
                  <a:pt x="6123" y="6798"/>
                  <a:pt x="6091" y="6833"/>
                  <a:pt x="6028" y="6846"/>
                </a:cubicBezTo>
                <a:cubicBezTo>
                  <a:pt x="5965" y="6859"/>
                  <a:pt x="5854" y="6796"/>
                  <a:pt x="5829" y="6772"/>
                </a:cubicBezTo>
              </a:path>
              <a:path w="8459" h="1316">
                <a:moveTo>
                  <a:pt x="6201" y="6548"/>
                </a:moveTo>
                <a:cubicBezTo>
                  <a:pt x="6299" y="6510"/>
                  <a:pt x="6440" y="6476"/>
                  <a:pt x="6524" y="6400"/>
                </a:cubicBezTo>
                <a:cubicBezTo>
                  <a:pt x="6567" y="6361"/>
                  <a:pt x="6612" y="6314"/>
                  <a:pt x="6598" y="6251"/>
                </a:cubicBezTo>
                <a:cubicBezTo>
                  <a:pt x="6573" y="6139"/>
                  <a:pt x="6496" y="6216"/>
                  <a:pt x="6449" y="6251"/>
                </a:cubicBezTo>
                <a:cubicBezTo>
                  <a:pt x="6362" y="6315"/>
                  <a:pt x="6288" y="6384"/>
                  <a:pt x="6226" y="6474"/>
                </a:cubicBezTo>
                <a:cubicBezTo>
                  <a:pt x="6181" y="6540"/>
                  <a:pt x="6156" y="6596"/>
                  <a:pt x="6152" y="6672"/>
                </a:cubicBezTo>
                <a:cubicBezTo>
                  <a:pt x="6149" y="6726"/>
                  <a:pt x="6179" y="6766"/>
                  <a:pt x="6226" y="6796"/>
                </a:cubicBezTo>
                <a:cubicBezTo>
                  <a:pt x="6301" y="6843"/>
                  <a:pt x="6371" y="6818"/>
                  <a:pt x="6449" y="6796"/>
                </a:cubicBezTo>
              </a:path>
              <a:path w="8459" h="1316">
                <a:moveTo>
                  <a:pt x="6896" y="6375"/>
                </a:moveTo>
                <a:cubicBezTo>
                  <a:pt x="6961" y="6353"/>
                  <a:pt x="6959" y="6365"/>
                  <a:pt x="6921" y="6300"/>
                </a:cubicBezTo>
                <a:cubicBezTo>
                  <a:pt x="6884" y="6319"/>
                  <a:pt x="6858" y="6363"/>
                  <a:pt x="6821" y="6400"/>
                </a:cubicBezTo>
                <a:cubicBezTo>
                  <a:pt x="6746" y="6475"/>
                  <a:pt x="6727" y="6507"/>
                  <a:pt x="6697" y="6598"/>
                </a:cubicBezTo>
                <a:cubicBezTo>
                  <a:pt x="6671" y="6677"/>
                  <a:pt x="6655" y="6738"/>
                  <a:pt x="6697" y="6821"/>
                </a:cubicBezTo>
                <a:cubicBezTo>
                  <a:pt x="6721" y="6869"/>
                  <a:pt x="6794" y="6908"/>
                  <a:pt x="6846" y="6896"/>
                </a:cubicBezTo>
                <a:cubicBezTo>
                  <a:pt x="6906" y="6883"/>
                  <a:pt x="6952" y="6834"/>
                  <a:pt x="6995" y="6796"/>
                </a:cubicBezTo>
              </a:path>
              <a:path w="8459" h="1316">
                <a:moveTo>
                  <a:pt x="7243" y="5804"/>
                </a:moveTo>
                <a:cubicBezTo>
                  <a:pt x="7294" y="5771"/>
                  <a:pt x="7463" y="5611"/>
                  <a:pt x="7541" y="5705"/>
                </a:cubicBezTo>
                <a:cubicBezTo>
                  <a:pt x="7611" y="5790"/>
                  <a:pt x="7507" y="5867"/>
                  <a:pt x="7466" y="5928"/>
                </a:cubicBezTo>
                <a:cubicBezTo>
                  <a:pt x="7442" y="5964"/>
                  <a:pt x="7376" y="6031"/>
                  <a:pt x="7392" y="6077"/>
                </a:cubicBezTo>
                <a:cubicBezTo>
                  <a:pt x="7403" y="6109"/>
                  <a:pt x="7441" y="6121"/>
                  <a:pt x="7466" y="6127"/>
                </a:cubicBezTo>
              </a:path>
              <a:path w="8459" h="1316">
                <a:moveTo>
                  <a:pt x="7615" y="6325"/>
                </a:moveTo>
                <a:cubicBezTo>
                  <a:pt x="7601" y="6442"/>
                  <a:pt x="7593" y="6493"/>
                  <a:pt x="7640" y="6598"/>
                </a:cubicBezTo>
                <a:cubicBezTo>
                  <a:pt x="7691" y="6712"/>
                  <a:pt x="7752" y="6738"/>
                  <a:pt x="7863" y="6796"/>
                </a:cubicBezTo>
                <a:cubicBezTo>
                  <a:pt x="7967" y="6850"/>
                  <a:pt x="8000" y="6824"/>
                  <a:pt x="8062" y="6747"/>
                </a:cubicBezTo>
              </a:path>
              <a:path w="8459" h="1316">
                <a:moveTo>
                  <a:pt x="7987" y="6226"/>
                </a:moveTo>
                <a:cubicBezTo>
                  <a:pt x="7889" y="6324"/>
                  <a:pt x="7805" y="6420"/>
                  <a:pt x="7714" y="6524"/>
                </a:cubicBezTo>
                <a:cubicBezTo>
                  <a:pt x="7653" y="6594"/>
                  <a:pt x="7588" y="6691"/>
                  <a:pt x="7516" y="6747"/>
                </a:cubicBezTo>
                <a:cubicBezTo>
                  <a:pt x="7484" y="6772"/>
                  <a:pt x="7381" y="6805"/>
                  <a:pt x="7417" y="6871"/>
                </a:cubicBezTo>
                <a:cubicBezTo>
                  <a:pt x="7425" y="6871"/>
                  <a:pt x="7433" y="6871"/>
                  <a:pt x="7441" y="6871"/>
                </a:cubicBezTo>
              </a:path>
              <a:path w="8459" h="1316">
                <a:moveTo>
                  <a:pt x="8483" y="6152"/>
                </a:moveTo>
                <a:cubicBezTo>
                  <a:pt x="8363" y="6152"/>
                  <a:pt x="8246" y="6143"/>
                  <a:pt x="8136" y="6201"/>
                </a:cubicBezTo>
                <a:cubicBezTo>
                  <a:pt x="8022" y="6261"/>
                  <a:pt x="8147" y="6343"/>
                  <a:pt x="8186" y="6400"/>
                </a:cubicBezTo>
                <a:cubicBezTo>
                  <a:pt x="8239" y="6478"/>
                  <a:pt x="8337" y="6551"/>
                  <a:pt x="8359" y="6648"/>
                </a:cubicBezTo>
                <a:cubicBezTo>
                  <a:pt x="8373" y="6712"/>
                  <a:pt x="8312" y="6751"/>
                  <a:pt x="8260" y="6772"/>
                </a:cubicBezTo>
                <a:cubicBezTo>
                  <a:pt x="8146" y="6818"/>
                  <a:pt x="8048" y="6775"/>
                  <a:pt x="8037" y="6697"/>
                </a:cubicBezTo>
              </a:path>
              <a:path w="8459" h="1316">
                <a:moveTo>
                  <a:pt x="8533" y="6251"/>
                </a:moveTo>
                <a:cubicBezTo>
                  <a:pt x="8568" y="6417"/>
                  <a:pt x="8582" y="6532"/>
                  <a:pt x="8582" y="6697"/>
                </a:cubicBezTo>
                <a:cubicBezTo>
                  <a:pt x="8582" y="6829"/>
                  <a:pt x="8582" y="6631"/>
                  <a:pt x="8582" y="6499"/>
                </a:cubicBezTo>
              </a:path>
              <a:path w="8459" h="1316">
                <a:moveTo>
                  <a:pt x="8731" y="5879"/>
                </a:moveTo>
                <a:cubicBezTo>
                  <a:pt x="8739" y="5862"/>
                  <a:pt x="8748" y="5846"/>
                  <a:pt x="8756" y="5829"/>
                </a:cubicBezTo>
              </a:path>
              <a:path w="8459" h="1316">
                <a:moveTo>
                  <a:pt x="8830" y="6449"/>
                </a:moveTo>
                <a:cubicBezTo>
                  <a:pt x="8824" y="6572"/>
                  <a:pt x="8819" y="6660"/>
                  <a:pt x="8781" y="6772"/>
                </a:cubicBezTo>
                <a:cubicBezTo>
                  <a:pt x="8789" y="6692"/>
                  <a:pt x="8803" y="6616"/>
                  <a:pt x="8830" y="6548"/>
                </a:cubicBezTo>
                <a:cubicBezTo>
                  <a:pt x="8866" y="6457"/>
                  <a:pt x="8899" y="6358"/>
                  <a:pt x="8954" y="6276"/>
                </a:cubicBezTo>
                <a:cubicBezTo>
                  <a:pt x="8983" y="6232"/>
                  <a:pt x="9048" y="6184"/>
                  <a:pt x="9103" y="6201"/>
                </a:cubicBezTo>
                <a:cubicBezTo>
                  <a:pt x="9170" y="6222"/>
                  <a:pt x="9176" y="6397"/>
                  <a:pt x="9178" y="6449"/>
                </a:cubicBezTo>
                <a:cubicBezTo>
                  <a:pt x="9181" y="6537"/>
                  <a:pt x="9224" y="6632"/>
                  <a:pt x="9203" y="6722"/>
                </a:cubicBezTo>
                <a:cubicBezTo>
                  <a:pt x="9192" y="6767"/>
                  <a:pt x="9129" y="6994"/>
                  <a:pt x="9203" y="6821"/>
                </a:cubicBezTo>
              </a:path>
              <a:path w="8459" h="1316">
                <a:moveTo>
                  <a:pt x="9401" y="5730"/>
                </a:moveTo>
                <a:cubicBezTo>
                  <a:pt x="9468" y="5694"/>
                  <a:pt x="9613" y="5575"/>
                  <a:pt x="9699" y="5655"/>
                </a:cubicBezTo>
                <a:cubicBezTo>
                  <a:pt x="9739" y="5693"/>
                  <a:pt x="9723" y="5817"/>
                  <a:pt x="9699" y="5854"/>
                </a:cubicBezTo>
                <a:cubicBezTo>
                  <a:pt x="9643" y="5941"/>
                  <a:pt x="9566" y="6004"/>
                  <a:pt x="9500" y="6077"/>
                </a:cubicBezTo>
                <a:cubicBezTo>
                  <a:pt x="9470" y="6110"/>
                  <a:pt x="9461" y="6190"/>
                  <a:pt x="9525" y="6201"/>
                </a:cubicBezTo>
                <a:cubicBezTo>
                  <a:pt x="9585" y="6211"/>
                  <a:pt x="9661" y="6201"/>
                  <a:pt x="9723" y="6201"/>
                </a:cubicBezTo>
              </a:path>
              <a:path w="8459" h="1316">
                <a:moveTo>
                  <a:pt x="9947" y="6350"/>
                </a:moveTo>
                <a:cubicBezTo>
                  <a:pt x="9947" y="6524"/>
                  <a:pt x="9937" y="6523"/>
                  <a:pt x="10021" y="6648"/>
                </a:cubicBezTo>
                <a:cubicBezTo>
                  <a:pt x="10065" y="6713"/>
                  <a:pt x="10137" y="6778"/>
                  <a:pt x="10220" y="6796"/>
                </a:cubicBezTo>
                <a:cubicBezTo>
                  <a:pt x="10276" y="6808"/>
                  <a:pt x="10324" y="6794"/>
                  <a:pt x="10368" y="6772"/>
                </a:cubicBezTo>
              </a:path>
              <a:path w="8459" h="1316">
                <a:moveTo>
                  <a:pt x="10344" y="6226"/>
                </a:moveTo>
                <a:cubicBezTo>
                  <a:pt x="10254" y="6342"/>
                  <a:pt x="10153" y="6496"/>
                  <a:pt x="10046" y="6598"/>
                </a:cubicBezTo>
                <a:cubicBezTo>
                  <a:pt x="9982" y="6659"/>
                  <a:pt x="9911" y="6719"/>
                  <a:pt x="9847" y="6772"/>
                </a:cubicBezTo>
                <a:cubicBezTo>
                  <a:pt x="9812" y="6801"/>
                  <a:pt x="9743" y="6826"/>
                  <a:pt x="9723" y="6871"/>
                </a:cubicBezTo>
                <a:cubicBezTo>
                  <a:pt x="9723" y="6879"/>
                  <a:pt x="9723" y="6888"/>
                  <a:pt x="9723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Ink 33"/>
          <p:cNvSpPr/>
          <p:nvPr/>
        </p:nvSpPr>
        <p:spPr>
          <a:xfrm>
            <a:off x="3973680" y="2303640"/>
            <a:ext cx="206280" cy="90360"/>
          </a:xfrm>
          <a:custGeom>
            <a:avLst/>
            <a:gdLst/>
            <a:ahLst/>
            <a:rect l="l" t="t" r="r" b="b"/>
            <a:pathLst>
              <a:path w="572" h="249">
                <a:moveTo>
                  <a:pt x="11038" y="6400"/>
                </a:moveTo>
                <a:cubicBezTo>
                  <a:pt x="11124" y="6421"/>
                  <a:pt x="11197" y="6424"/>
                  <a:pt x="11286" y="6424"/>
                </a:cubicBezTo>
                <a:cubicBezTo>
                  <a:pt x="11394" y="6424"/>
                  <a:pt x="11501" y="6424"/>
                  <a:pt x="11609" y="6424"/>
                </a:cubicBezTo>
              </a:path>
              <a:path w="572" h="249">
                <a:moveTo>
                  <a:pt x="11162" y="6598"/>
                </a:moveTo>
                <a:cubicBezTo>
                  <a:pt x="11227" y="6637"/>
                  <a:pt x="11305" y="6623"/>
                  <a:pt x="11385" y="6623"/>
                </a:cubicBezTo>
                <a:cubicBezTo>
                  <a:pt x="11417" y="6623"/>
                  <a:pt x="11564" y="6660"/>
                  <a:pt x="11584" y="6648"/>
                </a:cubicBezTo>
                <a:cubicBezTo>
                  <a:pt x="11584" y="6640"/>
                  <a:pt x="11584" y="6631"/>
                  <a:pt x="11584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Ink 34"/>
          <p:cNvSpPr/>
          <p:nvPr/>
        </p:nvSpPr>
        <p:spPr>
          <a:xfrm>
            <a:off x="4429080" y="2062080"/>
            <a:ext cx="19080" cy="474840"/>
          </a:xfrm>
          <a:custGeom>
            <a:avLst/>
            <a:gdLst/>
            <a:ahLst/>
            <a:rect l="l" t="t" r="r" b="b"/>
            <a:pathLst>
              <a:path w="51" h="1316">
                <a:moveTo>
                  <a:pt x="12353" y="5730"/>
                </a:moveTo>
                <a:cubicBezTo>
                  <a:pt x="12353" y="5828"/>
                  <a:pt x="12341" y="5909"/>
                  <a:pt x="12328" y="6003"/>
                </a:cubicBezTo>
                <a:cubicBezTo>
                  <a:pt x="12302" y="6195"/>
                  <a:pt x="12321" y="6407"/>
                  <a:pt x="12303" y="6598"/>
                </a:cubicBezTo>
                <a:cubicBezTo>
                  <a:pt x="12291" y="6730"/>
                  <a:pt x="12306" y="6878"/>
                  <a:pt x="12328" y="6995"/>
                </a:cubicBezTo>
                <a:cubicBezTo>
                  <a:pt x="12346" y="7089"/>
                  <a:pt x="12333" y="6998"/>
                  <a:pt x="12353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Ink 35"/>
          <p:cNvSpPr/>
          <p:nvPr/>
        </p:nvSpPr>
        <p:spPr>
          <a:xfrm>
            <a:off x="4660920" y="2089080"/>
            <a:ext cx="1938240" cy="455760"/>
          </a:xfrm>
          <a:custGeom>
            <a:avLst/>
            <a:gdLst/>
            <a:ahLst/>
            <a:rect l="l" t="t" r="r" b="b"/>
            <a:pathLst>
              <a:path w="5384" h="1266">
                <a:moveTo>
                  <a:pt x="13097" y="6152"/>
                </a:moveTo>
                <a:cubicBezTo>
                  <a:pt x="13072" y="6251"/>
                  <a:pt x="13069" y="6351"/>
                  <a:pt x="13047" y="6449"/>
                </a:cubicBezTo>
                <a:cubicBezTo>
                  <a:pt x="13022" y="6560"/>
                  <a:pt x="13034" y="6587"/>
                  <a:pt x="13047" y="6697"/>
                </a:cubicBezTo>
                <a:cubicBezTo>
                  <a:pt x="13056" y="6775"/>
                  <a:pt x="13030" y="6780"/>
                  <a:pt x="13097" y="6796"/>
                </a:cubicBezTo>
              </a:path>
              <a:path w="5384" h="1266">
                <a:moveTo>
                  <a:pt x="12948" y="6474"/>
                </a:moveTo>
                <a:cubicBezTo>
                  <a:pt x="13021" y="6446"/>
                  <a:pt x="13095" y="6442"/>
                  <a:pt x="13171" y="6424"/>
                </a:cubicBezTo>
                <a:cubicBezTo>
                  <a:pt x="13196" y="6416"/>
                  <a:pt x="13221" y="6408"/>
                  <a:pt x="13246" y="6400"/>
                </a:cubicBezTo>
              </a:path>
              <a:path w="5384" h="1266">
                <a:moveTo>
                  <a:pt x="13742" y="6251"/>
                </a:moveTo>
                <a:cubicBezTo>
                  <a:pt x="13679" y="6260"/>
                  <a:pt x="13607" y="6272"/>
                  <a:pt x="13543" y="6300"/>
                </a:cubicBezTo>
                <a:cubicBezTo>
                  <a:pt x="13481" y="6327"/>
                  <a:pt x="13310" y="6386"/>
                  <a:pt x="13345" y="6499"/>
                </a:cubicBezTo>
                <a:cubicBezTo>
                  <a:pt x="13361" y="6550"/>
                  <a:pt x="13485" y="6585"/>
                  <a:pt x="13519" y="6623"/>
                </a:cubicBezTo>
                <a:cubicBezTo>
                  <a:pt x="13568" y="6678"/>
                  <a:pt x="13692" y="6762"/>
                  <a:pt x="13692" y="6846"/>
                </a:cubicBezTo>
                <a:cubicBezTo>
                  <a:pt x="13692" y="6915"/>
                  <a:pt x="13577" y="6957"/>
                  <a:pt x="13519" y="6945"/>
                </a:cubicBezTo>
                <a:cubicBezTo>
                  <a:pt x="13446" y="6930"/>
                  <a:pt x="13405" y="6865"/>
                  <a:pt x="13419" y="6796"/>
                </a:cubicBezTo>
                <a:cubicBezTo>
                  <a:pt x="13427" y="6780"/>
                  <a:pt x="13436" y="6763"/>
                  <a:pt x="13444" y="6747"/>
                </a:cubicBezTo>
              </a:path>
              <a:path w="5384" h="1266">
                <a:moveTo>
                  <a:pt x="13965" y="6424"/>
                </a:moveTo>
                <a:cubicBezTo>
                  <a:pt x="13965" y="6553"/>
                  <a:pt x="13957" y="6650"/>
                  <a:pt x="13940" y="6772"/>
                </a:cubicBezTo>
                <a:cubicBezTo>
                  <a:pt x="13931" y="6838"/>
                  <a:pt x="13901" y="7004"/>
                  <a:pt x="13965" y="6921"/>
                </a:cubicBezTo>
              </a:path>
              <a:path w="5384" h="1266">
                <a:moveTo>
                  <a:pt x="14039" y="6201"/>
                </a:moveTo>
                <a:cubicBezTo>
                  <a:pt x="14047" y="6185"/>
                  <a:pt x="14056" y="6168"/>
                  <a:pt x="14064" y="6152"/>
                </a:cubicBezTo>
              </a:path>
              <a:path w="5384" h="1266">
                <a:moveTo>
                  <a:pt x="14238" y="6722"/>
                </a:moveTo>
                <a:cubicBezTo>
                  <a:pt x="14220" y="6866"/>
                  <a:pt x="14251" y="6894"/>
                  <a:pt x="14188" y="6945"/>
                </a:cubicBezTo>
                <a:cubicBezTo>
                  <a:pt x="14212" y="6857"/>
                  <a:pt x="14200" y="6786"/>
                  <a:pt x="14213" y="6697"/>
                </a:cubicBezTo>
                <a:cubicBezTo>
                  <a:pt x="14230" y="6581"/>
                  <a:pt x="14258" y="6507"/>
                  <a:pt x="14337" y="6424"/>
                </a:cubicBezTo>
                <a:cubicBezTo>
                  <a:pt x="14418" y="6338"/>
                  <a:pt x="14481" y="6338"/>
                  <a:pt x="14585" y="6400"/>
                </a:cubicBezTo>
                <a:cubicBezTo>
                  <a:pt x="14653" y="6440"/>
                  <a:pt x="14658" y="6581"/>
                  <a:pt x="14660" y="6648"/>
                </a:cubicBezTo>
                <a:cubicBezTo>
                  <a:pt x="14663" y="6734"/>
                  <a:pt x="14635" y="6807"/>
                  <a:pt x="14635" y="6896"/>
                </a:cubicBezTo>
                <a:cubicBezTo>
                  <a:pt x="14635" y="6955"/>
                  <a:pt x="14635" y="6957"/>
                  <a:pt x="14585" y="6970"/>
                </a:cubicBezTo>
              </a:path>
              <a:path w="5384" h="1266">
                <a:moveTo>
                  <a:pt x="14808" y="5879"/>
                </a:moveTo>
                <a:cubicBezTo>
                  <a:pt x="14920" y="5826"/>
                  <a:pt x="14967" y="5789"/>
                  <a:pt x="15081" y="5829"/>
                </a:cubicBezTo>
                <a:cubicBezTo>
                  <a:pt x="15160" y="5857"/>
                  <a:pt x="15205" y="5950"/>
                  <a:pt x="15106" y="6003"/>
                </a:cubicBezTo>
                <a:cubicBezTo>
                  <a:pt x="15027" y="6045"/>
                  <a:pt x="14997" y="6070"/>
                  <a:pt x="14932" y="6127"/>
                </a:cubicBezTo>
                <a:cubicBezTo>
                  <a:pt x="14842" y="6206"/>
                  <a:pt x="14879" y="6207"/>
                  <a:pt x="14957" y="6251"/>
                </a:cubicBezTo>
              </a:path>
              <a:path w="5384" h="1266">
                <a:moveTo>
                  <a:pt x="15230" y="6573"/>
                </a:moveTo>
                <a:cubicBezTo>
                  <a:pt x="15262" y="6709"/>
                  <a:pt x="15283" y="6739"/>
                  <a:pt x="15354" y="6846"/>
                </a:cubicBezTo>
                <a:cubicBezTo>
                  <a:pt x="15399" y="6913"/>
                  <a:pt x="15469" y="6952"/>
                  <a:pt x="15553" y="6970"/>
                </a:cubicBezTo>
                <a:cubicBezTo>
                  <a:pt x="15622" y="6970"/>
                  <a:pt x="15657" y="6961"/>
                  <a:pt x="15701" y="6921"/>
                </a:cubicBezTo>
              </a:path>
              <a:path w="5384" h="1266">
                <a:moveTo>
                  <a:pt x="15453" y="6499"/>
                </a:moveTo>
                <a:cubicBezTo>
                  <a:pt x="15274" y="6678"/>
                  <a:pt x="15240" y="6764"/>
                  <a:pt x="15106" y="6921"/>
                </a:cubicBezTo>
                <a:cubicBezTo>
                  <a:pt x="15072" y="6960"/>
                  <a:pt x="14994" y="7001"/>
                  <a:pt x="15032" y="7020"/>
                </a:cubicBezTo>
              </a:path>
              <a:path w="5384" h="1266">
                <a:moveTo>
                  <a:pt x="15925" y="6276"/>
                </a:moveTo>
                <a:cubicBezTo>
                  <a:pt x="15925" y="6479"/>
                  <a:pt x="15912" y="6707"/>
                  <a:pt x="15949" y="6896"/>
                </a:cubicBezTo>
                <a:cubicBezTo>
                  <a:pt x="15949" y="6912"/>
                  <a:pt x="15949" y="6929"/>
                  <a:pt x="15949" y="6945"/>
                </a:cubicBezTo>
              </a:path>
              <a:path w="5384" h="1266">
                <a:moveTo>
                  <a:pt x="15751" y="6623"/>
                </a:moveTo>
                <a:cubicBezTo>
                  <a:pt x="15853" y="6601"/>
                  <a:pt x="15949" y="6598"/>
                  <a:pt x="16049" y="6573"/>
                </a:cubicBezTo>
              </a:path>
              <a:path w="5384" h="1266">
                <a:moveTo>
                  <a:pt x="16669" y="6524"/>
                </a:moveTo>
                <a:cubicBezTo>
                  <a:pt x="16606" y="6554"/>
                  <a:pt x="16606" y="6492"/>
                  <a:pt x="16545" y="6449"/>
                </a:cubicBezTo>
                <a:cubicBezTo>
                  <a:pt x="16471" y="6396"/>
                  <a:pt x="16431" y="6484"/>
                  <a:pt x="16371" y="6524"/>
                </a:cubicBezTo>
                <a:cubicBezTo>
                  <a:pt x="16304" y="6568"/>
                  <a:pt x="16248" y="6667"/>
                  <a:pt x="16222" y="6747"/>
                </a:cubicBezTo>
                <a:cubicBezTo>
                  <a:pt x="16206" y="6796"/>
                  <a:pt x="16183" y="6910"/>
                  <a:pt x="16247" y="6945"/>
                </a:cubicBezTo>
                <a:cubicBezTo>
                  <a:pt x="16323" y="6986"/>
                  <a:pt x="16421" y="6969"/>
                  <a:pt x="16495" y="6945"/>
                </a:cubicBezTo>
                <a:cubicBezTo>
                  <a:pt x="16549" y="6919"/>
                  <a:pt x="16569" y="6907"/>
                  <a:pt x="16594" y="6871"/>
                </a:cubicBezTo>
              </a:path>
              <a:path w="5384" h="1266">
                <a:moveTo>
                  <a:pt x="16793" y="6524"/>
                </a:moveTo>
                <a:cubicBezTo>
                  <a:pt x="16696" y="6639"/>
                  <a:pt x="16676" y="6715"/>
                  <a:pt x="16669" y="6871"/>
                </a:cubicBezTo>
                <a:cubicBezTo>
                  <a:pt x="16666" y="6954"/>
                  <a:pt x="16700" y="6984"/>
                  <a:pt x="16768" y="7020"/>
                </a:cubicBezTo>
                <a:cubicBezTo>
                  <a:pt x="16831" y="7054"/>
                  <a:pt x="16903" y="7061"/>
                  <a:pt x="16966" y="7020"/>
                </a:cubicBezTo>
                <a:cubicBezTo>
                  <a:pt x="17086" y="6943"/>
                  <a:pt x="17109" y="6883"/>
                  <a:pt x="17115" y="6747"/>
                </a:cubicBezTo>
                <a:cubicBezTo>
                  <a:pt x="17119" y="6667"/>
                  <a:pt x="17123" y="6608"/>
                  <a:pt x="17066" y="6548"/>
                </a:cubicBezTo>
                <a:cubicBezTo>
                  <a:pt x="17018" y="6497"/>
                  <a:pt x="16894" y="6421"/>
                  <a:pt x="16818" y="6449"/>
                </a:cubicBezTo>
                <a:cubicBezTo>
                  <a:pt x="16818" y="6457"/>
                  <a:pt x="16818" y="6466"/>
                  <a:pt x="16818" y="6474"/>
                </a:cubicBezTo>
              </a:path>
              <a:path w="5384" h="1266">
                <a:moveTo>
                  <a:pt x="17264" y="6499"/>
                </a:moveTo>
                <a:cubicBezTo>
                  <a:pt x="17150" y="6507"/>
                  <a:pt x="17129" y="6483"/>
                  <a:pt x="17090" y="6573"/>
                </a:cubicBezTo>
                <a:cubicBezTo>
                  <a:pt x="17150" y="6633"/>
                  <a:pt x="17205" y="6693"/>
                  <a:pt x="17264" y="6747"/>
                </a:cubicBezTo>
                <a:cubicBezTo>
                  <a:pt x="17338" y="6815"/>
                  <a:pt x="17377" y="6895"/>
                  <a:pt x="17438" y="6970"/>
                </a:cubicBezTo>
                <a:cubicBezTo>
                  <a:pt x="17381" y="7036"/>
                  <a:pt x="17328" y="7061"/>
                  <a:pt x="17239" y="7020"/>
                </a:cubicBezTo>
                <a:cubicBezTo>
                  <a:pt x="17118" y="6964"/>
                  <a:pt x="17115" y="6943"/>
                  <a:pt x="17115" y="6821"/>
                </a:cubicBezTo>
                <a:cubicBezTo>
                  <a:pt x="17115" y="6805"/>
                  <a:pt x="17115" y="6788"/>
                  <a:pt x="17115" y="6772"/>
                </a:cubicBezTo>
              </a:path>
              <a:path w="5384" h="1266">
                <a:moveTo>
                  <a:pt x="17512" y="6052"/>
                </a:moveTo>
                <a:cubicBezTo>
                  <a:pt x="17630" y="6058"/>
                  <a:pt x="17716" y="6052"/>
                  <a:pt x="17810" y="6127"/>
                </a:cubicBezTo>
                <a:cubicBezTo>
                  <a:pt x="17770" y="6187"/>
                  <a:pt x="17658" y="6260"/>
                  <a:pt x="17636" y="6325"/>
                </a:cubicBezTo>
                <a:cubicBezTo>
                  <a:pt x="17601" y="6429"/>
                  <a:pt x="17736" y="6410"/>
                  <a:pt x="17785" y="6424"/>
                </a:cubicBezTo>
                <a:cubicBezTo>
                  <a:pt x="17802" y="6432"/>
                  <a:pt x="17818" y="6441"/>
                  <a:pt x="17835" y="6449"/>
                </a:cubicBezTo>
              </a:path>
              <a:path w="5384" h="1266">
                <a:moveTo>
                  <a:pt x="17934" y="6672"/>
                </a:moveTo>
                <a:cubicBezTo>
                  <a:pt x="17995" y="6804"/>
                  <a:pt x="18017" y="6859"/>
                  <a:pt x="18132" y="6945"/>
                </a:cubicBezTo>
                <a:cubicBezTo>
                  <a:pt x="18214" y="7006"/>
                  <a:pt x="18245" y="7048"/>
                  <a:pt x="18331" y="7069"/>
                </a:cubicBezTo>
              </a:path>
              <a:path w="5384" h="1266">
                <a:moveTo>
                  <a:pt x="18207" y="6672"/>
                </a:moveTo>
                <a:cubicBezTo>
                  <a:pt x="18066" y="6713"/>
                  <a:pt x="17923" y="6737"/>
                  <a:pt x="17785" y="6772"/>
                </a:cubicBezTo>
                <a:cubicBezTo>
                  <a:pt x="17716" y="6789"/>
                  <a:pt x="17686" y="6821"/>
                  <a:pt x="17611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Ink 36"/>
          <p:cNvSpPr/>
          <p:nvPr/>
        </p:nvSpPr>
        <p:spPr>
          <a:xfrm>
            <a:off x="581040" y="2759040"/>
            <a:ext cx="1482840" cy="563760"/>
          </a:xfrm>
          <a:custGeom>
            <a:avLst/>
            <a:gdLst/>
            <a:ahLst/>
            <a:rect l="l" t="t" r="r" b="b"/>
            <a:pathLst>
              <a:path w="4119" h="1563">
                <a:moveTo>
                  <a:pt x="1736" y="7913"/>
                </a:moveTo>
                <a:cubicBezTo>
                  <a:pt x="1811" y="7838"/>
                  <a:pt x="1889" y="7732"/>
                  <a:pt x="1984" y="7689"/>
                </a:cubicBezTo>
                <a:cubicBezTo>
                  <a:pt x="2064" y="7653"/>
                  <a:pt x="2118" y="7660"/>
                  <a:pt x="2183" y="7714"/>
                </a:cubicBezTo>
                <a:cubicBezTo>
                  <a:pt x="2235" y="7758"/>
                  <a:pt x="2296" y="7845"/>
                  <a:pt x="2307" y="7913"/>
                </a:cubicBezTo>
                <a:cubicBezTo>
                  <a:pt x="2323" y="8012"/>
                  <a:pt x="2312" y="8141"/>
                  <a:pt x="2282" y="8235"/>
                </a:cubicBezTo>
                <a:cubicBezTo>
                  <a:pt x="2251" y="8333"/>
                  <a:pt x="2208" y="8421"/>
                  <a:pt x="2158" y="8508"/>
                </a:cubicBezTo>
                <a:cubicBezTo>
                  <a:pt x="2105" y="8600"/>
                  <a:pt x="1996" y="8680"/>
                  <a:pt x="1910" y="8731"/>
                </a:cubicBezTo>
                <a:cubicBezTo>
                  <a:pt x="1841" y="8771"/>
                  <a:pt x="1781" y="8762"/>
                  <a:pt x="1712" y="8731"/>
                </a:cubicBezTo>
                <a:cubicBezTo>
                  <a:pt x="1624" y="8691"/>
                  <a:pt x="1616" y="8651"/>
                  <a:pt x="1612" y="8558"/>
                </a:cubicBezTo>
                <a:cubicBezTo>
                  <a:pt x="1610" y="8518"/>
                  <a:pt x="1612" y="8411"/>
                  <a:pt x="1637" y="8384"/>
                </a:cubicBezTo>
                <a:cubicBezTo>
                  <a:pt x="1664" y="8354"/>
                  <a:pt x="1745" y="8301"/>
                  <a:pt x="1786" y="8310"/>
                </a:cubicBezTo>
                <a:cubicBezTo>
                  <a:pt x="1866" y="8328"/>
                  <a:pt x="1886" y="8381"/>
                  <a:pt x="1935" y="8434"/>
                </a:cubicBezTo>
                <a:cubicBezTo>
                  <a:pt x="1967" y="8469"/>
                  <a:pt x="1999" y="8581"/>
                  <a:pt x="2009" y="8632"/>
                </a:cubicBezTo>
                <a:cubicBezTo>
                  <a:pt x="2021" y="8694"/>
                  <a:pt x="2014" y="8686"/>
                  <a:pt x="2059" y="8731"/>
                </a:cubicBezTo>
              </a:path>
              <a:path w="4119" h="1563">
                <a:moveTo>
                  <a:pt x="2753" y="8136"/>
                </a:moveTo>
                <a:cubicBezTo>
                  <a:pt x="2676" y="8110"/>
                  <a:pt x="2635" y="8155"/>
                  <a:pt x="2555" y="8186"/>
                </a:cubicBezTo>
                <a:cubicBezTo>
                  <a:pt x="2486" y="8212"/>
                  <a:pt x="2424" y="8220"/>
                  <a:pt x="2456" y="8285"/>
                </a:cubicBezTo>
                <a:cubicBezTo>
                  <a:pt x="2493" y="8360"/>
                  <a:pt x="2543" y="8383"/>
                  <a:pt x="2604" y="8434"/>
                </a:cubicBezTo>
                <a:cubicBezTo>
                  <a:pt x="2678" y="8496"/>
                  <a:pt x="2695" y="8562"/>
                  <a:pt x="2729" y="8632"/>
                </a:cubicBezTo>
                <a:cubicBezTo>
                  <a:pt x="2753" y="8682"/>
                  <a:pt x="2763" y="8754"/>
                  <a:pt x="2679" y="8781"/>
                </a:cubicBezTo>
                <a:cubicBezTo>
                  <a:pt x="2621" y="8799"/>
                  <a:pt x="2518" y="8781"/>
                  <a:pt x="2456" y="8781"/>
                </a:cubicBezTo>
              </a:path>
              <a:path w="4119" h="1563">
                <a:moveTo>
                  <a:pt x="2853" y="8458"/>
                </a:moveTo>
                <a:cubicBezTo>
                  <a:pt x="2923" y="8438"/>
                  <a:pt x="3070" y="8414"/>
                  <a:pt x="3125" y="8359"/>
                </a:cubicBezTo>
                <a:cubicBezTo>
                  <a:pt x="3152" y="8332"/>
                  <a:pt x="3241" y="8233"/>
                  <a:pt x="3225" y="8186"/>
                </a:cubicBezTo>
                <a:cubicBezTo>
                  <a:pt x="3193" y="8091"/>
                  <a:pt x="3099" y="8171"/>
                  <a:pt x="3051" y="8186"/>
                </a:cubicBezTo>
                <a:cubicBezTo>
                  <a:pt x="2937" y="8222"/>
                  <a:pt x="2925" y="8230"/>
                  <a:pt x="2902" y="8334"/>
                </a:cubicBezTo>
                <a:cubicBezTo>
                  <a:pt x="2887" y="8402"/>
                  <a:pt x="2856" y="8508"/>
                  <a:pt x="2877" y="8582"/>
                </a:cubicBezTo>
                <a:cubicBezTo>
                  <a:pt x="2893" y="8641"/>
                  <a:pt x="2948" y="8722"/>
                  <a:pt x="3001" y="8756"/>
                </a:cubicBezTo>
                <a:cubicBezTo>
                  <a:pt x="3056" y="8784"/>
                  <a:pt x="3079" y="8792"/>
                  <a:pt x="3125" y="8781"/>
                </a:cubicBezTo>
              </a:path>
              <a:path w="4119" h="1563">
                <a:moveTo>
                  <a:pt x="3770" y="8285"/>
                </a:moveTo>
                <a:cubicBezTo>
                  <a:pt x="3744" y="8258"/>
                  <a:pt x="3676" y="8204"/>
                  <a:pt x="3646" y="8210"/>
                </a:cubicBezTo>
                <a:cubicBezTo>
                  <a:pt x="3617" y="8216"/>
                  <a:pt x="3526" y="8245"/>
                  <a:pt x="3497" y="8260"/>
                </a:cubicBezTo>
                <a:cubicBezTo>
                  <a:pt x="3448" y="8285"/>
                  <a:pt x="3404" y="8416"/>
                  <a:pt x="3373" y="8458"/>
                </a:cubicBezTo>
                <a:cubicBezTo>
                  <a:pt x="3323" y="8525"/>
                  <a:pt x="3361" y="8571"/>
                  <a:pt x="3373" y="8632"/>
                </a:cubicBezTo>
                <a:cubicBezTo>
                  <a:pt x="3385" y="8694"/>
                  <a:pt x="3402" y="8730"/>
                  <a:pt x="3448" y="8781"/>
                </a:cubicBezTo>
                <a:cubicBezTo>
                  <a:pt x="3488" y="8825"/>
                  <a:pt x="3603" y="8824"/>
                  <a:pt x="3646" y="8806"/>
                </a:cubicBezTo>
                <a:cubicBezTo>
                  <a:pt x="3706" y="8776"/>
                  <a:pt x="3729" y="8758"/>
                  <a:pt x="3746" y="8706"/>
                </a:cubicBezTo>
              </a:path>
              <a:path w="4119" h="1563">
                <a:moveTo>
                  <a:pt x="3870" y="7863"/>
                </a:moveTo>
                <a:cubicBezTo>
                  <a:pt x="3901" y="7785"/>
                  <a:pt x="3926" y="7735"/>
                  <a:pt x="4018" y="7714"/>
                </a:cubicBezTo>
                <a:cubicBezTo>
                  <a:pt x="4083" y="7699"/>
                  <a:pt x="4152" y="7749"/>
                  <a:pt x="4167" y="7813"/>
                </a:cubicBezTo>
                <a:cubicBezTo>
                  <a:pt x="4182" y="7878"/>
                  <a:pt x="4080" y="7967"/>
                  <a:pt x="4043" y="8012"/>
                </a:cubicBezTo>
                <a:cubicBezTo>
                  <a:pt x="4009" y="8054"/>
                  <a:pt x="3954" y="8072"/>
                  <a:pt x="3969" y="8136"/>
                </a:cubicBezTo>
                <a:cubicBezTo>
                  <a:pt x="3984" y="8198"/>
                  <a:pt x="4064" y="8207"/>
                  <a:pt x="4118" y="8210"/>
                </a:cubicBezTo>
                <a:cubicBezTo>
                  <a:pt x="4134" y="8210"/>
                  <a:pt x="4151" y="8210"/>
                  <a:pt x="4167" y="8210"/>
                </a:cubicBezTo>
              </a:path>
              <a:path w="4119" h="1563">
                <a:moveTo>
                  <a:pt x="4341" y="8260"/>
                </a:moveTo>
                <a:cubicBezTo>
                  <a:pt x="4328" y="8427"/>
                  <a:pt x="4319" y="8508"/>
                  <a:pt x="4390" y="8657"/>
                </a:cubicBezTo>
                <a:cubicBezTo>
                  <a:pt x="4438" y="8759"/>
                  <a:pt x="4501" y="8762"/>
                  <a:pt x="4564" y="8830"/>
                </a:cubicBezTo>
                <a:cubicBezTo>
                  <a:pt x="4622" y="8892"/>
                  <a:pt x="4593" y="8905"/>
                  <a:pt x="4688" y="8905"/>
                </a:cubicBezTo>
              </a:path>
              <a:path w="4119" h="1563">
                <a:moveTo>
                  <a:pt x="4688" y="8285"/>
                </a:moveTo>
                <a:cubicBezTo>
                  <a:pt x="4610" y="8371"/>
                  <a:pt x="4533" y="8441"/>
                  <a:pt x="4465" y="8533"/>
                </a:cubicBezTo>
                <a:cubicBezTo>
                  <a:pt x="4399" y="8624"/>
                  <a:pt x="4308" y="8692"/>
                  <a:pt x="4242" y="8781"/>
                </a:cubicBezTo>
                <a:cubicBezTo>
                  <a:pt x="4191" y="8850"/>
                  <a:pt x="4153" y="8864"/>
                  <a:pt x="4142" y="8954"/>
                </a:cubicBezTo>
              </a:path>
              <a:path w="4119" h="1563">
                <a:moveTo>
                  <a:pt x="5333" y="7665"/>
                </a:moveTo>
                <a:cubicBezTo>
                  <a:pt x="5246" y="7729"/>
                  <a:pt x="5211" y="7815"/>
                  <a:pt x="5159" y="7913"/>
                </a:cubicBezTo>
                <a:cubicBezTo>
                  <a:pt x="5086" y="8050"/>
                  <a:pt x="5027" y="8130"/>
                  <a:pt x="4986" y="8285"/>
                </a:cubicBezTo>
                <a:cubicBezTo>
                  <a:pt x="4951" y="8419"/>
                  <a:pt x="4915" y="8544"/>
                  <a:pt x="4911" y="8682"/>
                </a:cubicBezTo>
                <a:cubicBezTo>
                  <a:pt x="4907" y="8835"/>
                  <a:pt x="4932" y="9021"/>
                  <a:pt x="5011" y="9153"/>
                </a:cubicBezTo>
                <a:cubicBezTo>
                  <a:pt x="5036" y="9178"/>
                  <a:pt x="5060" y="9202"/>
                  <a:pt x="5085" y="9227"/>
                </a:cubicBezTo>
              </a:path>
              <a:path w="4119" h="1563">
                <a:moveTo>
                  <a:pt x="5631" y="7913"/>
                </a:moveTo>
                <a:cubicBezTo>
                  <a:pt x="5631" y="8023"/>
                  <a:pt x="5642" y="8140"/>
                  <a:pt x="5655" y="8235"/>
                </a:cubicBezTo>
                <a:cubicBezTo>
                  <a:pt x="5667" y="8325"/>
                  <a:pt x="5677" y="8420"/>
                  <a:pt x="5680" y="8508"/>
                </a:cubicBezTo>
                <a:cubicBezTo>
                  <a:pt x="5684" y="8602"/>
                  <a:pt x="5705" y="8685"/>
                  <a:pt x="5705" y="8781"/>
                </a:cubicBezTo>
                <a:cubicBezTo>
                  <a:pt x="5705" y="8887"/>
                  <a:pt x="5714" y="8980"/>
                  <a:pt x="5730" y="9079"/>
                </a:cubicBezTo>
                <a:cubicBezTo>
                  <a:pt x="5730" y="9123"/>
                  <a:pt x="5733" y="9137"/>
                  <a:pt x="570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Ink 37"/>
          <p:cNvSpPr/>
          <p:nvPr/>
        </p:nvSpPr>
        <p:spPr>
          <a:xfrm>
            <a:off x="2286000" y="2705040"/>
            <a:ext cx="1839960" cy="777960"/>
          </a:xfrm>
          <a:custGeom>
            <a:avLst/>
            <a:gdLst/>
            <a:ahLst/>
            <a:rect l="l" t="t" r="r" b="b"/>
            <a:pathLst>
              <a:path w="5111" h="2159">
                <a:moveTo>
                  <a:pt x="10096" y="7516"/>
                </a:moveTo>
                <a:cubicBezTo>
                  <a:pt x="10220" y="7640"/>
                  <a:pt x="10279" y="7761"/>
                  <a:pt x="10368" y="7913"/>
                </a:cubicBezTo>
                <a:cubicBezTo>
                  <a:pt x="10454" y="8059"/>
                  <a:pt x="10530" y="8249"/>
                  <a:pt x="10592" y="8409"/>
                </a:cubicBezTo>
                <a:cubicBezTo>
                  <a:pt x="10665" y="8598"/>
                  <a:pt x="10666" y="8782"/>
                  <a:pt x="10666" y="8979"/>
                </a:cubicBezTo>
                <a:cubicBezTo>
                  <a:pt x="10666" y="9109"/>
                  <a:pt x="10661" y="9299"/>
                  <a:pt x="10567" y="9401"/>
                </a:cubicBezTo>
                <a:cubicBezTo>
                  <a:pt x="10495" y="9479"/>
                  <a:pt x="10438" y="9544"/>
                  <a:pt x="10344" y="9599"/>
                </a:cubicBezTo>
                <a:cubicBezTo>
                  <a:pt x="10254" y="9652"/>
                  <a:pt x="10248" y="9653"/>
                  <a:pt x="10170" y="9674"/>
                </a:cubicBezTo>
              </a:path>
              <a:path w="5111" h="2159">
                <a:moveTo>
                  <a:pt x="11038" y="8756"/>
                </a:moveTo>
                <a:cubicBezTo>
                  <a:pt x="11222" y="8723"/>
                  <a:pt x="11281" y="8685"/>
                  <a:pt x="11435" y="8731"/>
                </a:cubicBezTo>
              </a:path>
              <a:path w="5111" h="2159">
                <a:moveTo>
                  <a:pt x="11212" y="8930"/>
                </a:moveTo>
                <a:cubicBezTo>
                  <a:pt x="11297" y="8989"/>
                  <a:pt x="11374" y="9051"/>
                  <a:pt x="11460" y="9103"/>
                </a:cubicBezTo>
              </a:path>
              <a:path w="5111" h="2159">
                <a:moveTo>
                  <a:pt x="6350" y="8483"/>
                </a:moveTo>
                <a:cubicBezTo>
                  <a:pt x="6443" y="8452"/>
                  <a:pt x="6482" y="8480"/>
                  <a:pt x="6573" y="8483"/>
                </a:cubicBezTo>
                <a:cubicBezTo>
                  <a:pt x="6677" y="8487"/>
                  <a:pt x="6769" y="8504"/>
                  <a:pt x="6871" y="8508"/>
                </a:cubicBezTo>
                <a:cubicBezTo>
                  <a:pt x="6981" y="8512"/>
                  <a:pt x="7081" y="8533"/>
                  <a:pt x="7193" y="8533"/>
                </a:cubicBezTo>
                <a:cubicBezTo>
                  <a:pt x="7232" y="8533"/>
                  <a:pt x="7420" y="8563"/>
                  <a:pt x="7441" y="8508"/>
                </a:cubicBezTo>
                <a:cubicBezTo>
                  <a:pt x="7417" y="8483"/>
                  <a:pt x="7409" y="8474"/>
                  <a:pt x="7392" y="8458"/>
                </a:cubicBezTo>
              </a:path>
              <a:path w="5111" h="2159">
                <a:moveTo>
                  <a:pt x="8161" y="8508"/>
                </a:moveTo>
                <a:cubicBezTo>
                  <a:pt x="8206" y="8463"/>
                  <a:pt x="8231" y="8441"/>
                  <a:pt x="8186" y="8384"/>
                </a:cubicBezTo>
                <a:cubicBezTo>
                  <a:pt x="8142" y="8328"/>
                  <a:pt x="8087" y="8335"/>
                  <a:pt x="8037" y="8310"/>
                </a:cubicBezTo>
                <a:cubicBezTo>
                  <a:pt x="7995" y="8289"/>
                  <a:pt x="7899" y="8271"/>
                  <a:pt x="7863" y="8334"/>
                </a:cubicBezTo>
                <a:cubicBezTo>
                  <a:pt x="7820" y="8409"/>
                  <a:pt x="7955" y="8489"/>
                  <a:pt x="7987" y="8533"/>
                </a:cubicBezTo>
                <a:cubicBezTo>
                  <a:pt x="8049" y="8619"/>
                  <a:pt x="8144" y="8689"/>
                  <a:pt x="8210" y="8781"/>
                </a:cubicBezTo>
                <a:cubicBezTo>
                  <a:pt x="8243" y="8827"/>
                  <a:pt x="8298" y="8921"/>
                  <a:pt x="8285" y="8979"/>
                </a:cubicBezTo>
                <a:cubicBezTo>
                  <a:pt x="8265" y="9067"/>
                  <a:pt x="8206" y="9054"/>
                  <a:pt x="8136" y="9054"/>
                </a:cubicBezTo>
                <a:cubicBezTo>
                  <a:pt x="8064" y="9054"/>
                  <a:pt x="7979" y="9016"/>
                  <a:pt x="7913" y="8979"/>
                </a:cubicBezTo>
                <a:cubicBezTo>
                  <a:pt x="7888" y="8954"/>
                  <a:pt x="7880" y="8946"/>
                  <a:pt x="7863" y="8930"/>
                </a:cubicBezTo>
              </a:path>
              <a:path w="5111" h="2159">
                <a:moveTo>
                  <a:pt x="8558" y="8607"/>
                </a:moveTo>
                <a:cubicBezTo>
                  <a:pt x="8566" y="8666"/>
                  <a:pt x="8575" y="8897"/>
                  <a:pt x="8607" y="8979"/>
                </a:cubicBezTo>
                <a:cubicBezTo>
                  <a:pt x="8630" y="9002"/>
                  <a:pt x="8641" y="9010"/>
                  <a:pt x="8607" y="9004"/>
                </a:cubicBezTo>
              </a:path>
              <a:path w="5111" h="2159">
                <a:moveTo>
                  <a:pt x="8582" y="8310"/>
                </a:moveTo>
                <a:cubicBezTo>
                  <a:pt x="8611" y="8259"/>
                  <a:pt x="8606" y="8248"/>
                  <a:pt x="8657" y="8235"/>
                </a:cubicBezTo>
              </a:path>
              <a:path w="5111" h="2159">
                <a:moveTo>
                  <a:pt x="8905" y="8880"/>
                </a:moveTo>
                <a:cubicBezTo>
                  <a:pt x="8905" y="8941"/>
                  <a:pt x="8896" y="8957"/>
                  <a:pt x="8930" y="8979"/>
                </a:cubicBezTo>
                <a:cubicBezTo>
                  <a:pt x="8930" y="8873"/>
                  <a:pt x="8921" y="8760"/>
                  <a:pt x="8954" y="8657"/>
                </a:cubicBezTo>
                <a:cubicBezTo>
                  <a:pt x="8970" y="8606"/>
                  <a:pt x="8999" y="8558"/>
                  <a:pt x="9029" y="8508"/>
                </a:cubicBezTo>
                <a:cubicBezTo>
                  <a:pt x="9058" y="8459"/>
                  <a:pt x="9126" y="8416"/>
                  <a:pt x="9178" y="8458"/>
                </a:cubicBezTo>
                <a:cubicBezTo>
                  <a:pt x="9238" y="8506"/>
                  <a:pt x="9290" y="8606"/>
                  <a:pt x="9302" y="8682"/>
                </a:cubicBezTo>
                <a:cubicBezTo>
                  <a:pt x="9316" y="8774"/>
                  <a:pt x="9317" y="8898"/>
                  <a:pt x="9327" y="8979"/>
                </a:cubicBezTo>
                <a:cubicBezTo>
                  <a:pt x="9327" y="9054"/>
                  <a:pt x="9327" y="9062"/>
                  <a:pt x="9327" y="9103"/>
                </a:cubicBezTo>
              </a:path>
              <a:path w="5111" h="2159">
                <a:moveTo>
                  <a:pt x="9426" y="8062"/>
                </a:moveTo>
                <a:cubicBezTo>
                  <a:pt x="9466" y="8036"/>
                  <a:pt x="9603" y="7932"/>
                  <a:pt x="9674" y="7987"/>
                </a:cubicBezTo>
                <a:cubicBezTo>
                  <a:pt x="9727" y="8028"/>
                  <a:pt x="9707" y="8146"/>
                  <a:pt x="9674" y="8186"/>
                </a:cubicBezTo>
                <a:cubicBezTo>
                  <a:pt x="9641" y="8227"/>
                  <a:pt x="9585" y="8253"/>
                  <a:pt x="9575" y="8310"/>
                </a:cubicBezTo>
                <a:cubicBezTo>
                  <a:pt x="9562" y="8385"/>
                  <a:pt x="9577" y="8451"/>
                  <a:pt x="9624" y="8508"/>
                </a:cubicBezTo>
                <a:cubicBezTo>
                  <a:pt x="9641" y="8525"/>
                  <a:pt x="9657" y="8541"/>
                  <a:pt x="9674" y="8558"/>
                </a:cubicBezTo>
              </a:path>
              <a:path w="5111" h="2159">
                <a:moveTo>
                  <a:pt x="9847" y="8607"/>
                </a:moveTo>
                <a:cubicBezTo>
                  <a:pt x="9876" y="8717"/>
                  <a:pt x="9892" y="8798"/>
                  <a:pt x="9971" y="8880"/>
                </a:cubicBezTo>
                <a:cubicBezTo>
                  <a:pt x="10034" y="8946"/>
                  <a:pt x="10139" y="9086"/>
                  <a:pt x="10220" y="9128"/>
                </a:cubicBezTo>
                <a:cubicBezTo>
                  <a:pt x="10253" y="9136"/>
                  <a:pt x="10286" y="9145"/>
                  <a:pt x="10319" y="9153"/>
                </a:cubicBezTo>
              </a:path>
              <a:path w="5111" h="2159">
                <a:moveTo>
                  <a:pt x="10269" y="8558"/>
                </a:moveTo>
                <a:cubicBezTo>
                  <a:pt x="10114" y="8661"/>
                  <a:pt x="10022" y="8769"/>
                  <a:pt x="9897" y="8905"/>
                </a:cubicBezTo>
                <a:cubicBezTo>
                  <a:pt x="9772" y="9042"/>
                  <a:pt x="9683" y="9197"/>
                  <a:pt x="9575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Ink 38"/>
          <p:cNvSpPr/>
          <p:nvPr/>
        </p:nvSpPr>
        <p:spPr>
          <a:xfrm>
            <a:off x="965160" y="3500280"/>
            <a:ext cx="3017880" cy="706680"/>
          </a:xfrm>
          <a:custGeom>
            <a:avLst/>
            <a:gdLst/>
            <a:ahLst/>
            <a:rect l="l" t="t" r="r" b="b"/>
            <a:pathLst>
              <a:path w="8385" h="1961">
                <a:moveTo>
                  <a:pt x="2704" y="9922"/>
                </a:moveTo>
                <a:cubicBezTo>
                  <a:pt x="2635" y="10058"/>
                  <a:pt x="2740" y="9858"/>
                  <a:pt x="2753" y="9847"/>
                </a:cubicBezTo>
                <a:cubicBezTo>
                  <a:pt x="2811" y="9797"/>
                  <a:pt x="2863" y="9770"/>
                  <a:pt x="2927" y="9748"/>
                </a:cubicBezTo>
                <a:cubicBezTo>
                  <a:pt x="2991" y="9725"/>
                  <a:pt x="3043" y="9701"/>
                  <a:pt x="3101" y="9748"/>
                </a:cubicBezTo>
                <a:cubicBezTo>
                  <a:pt x="3142" y="9781"/>
                  <a:pt x="3194" y="9919"/>
                  <a:pt x="3200" y="9971"/>
                </a:cubicBezTo>
                <a:cubicBezTo>
                  <a:pt x="3226" y="10188"/>
                  <a:pt x="3161" y="10432"/>
                  <a:pt x="3101" y="10641"/>
                </a:cubicBezTo>
                <a:cubicBezTo>
                  <a:pt x="3074" y="10733"/>
                  <a:pt x="3043" y="10838"/>
                  <a:pt x="2952" y="10889"/>
                </a:cubicBezTo>
                <a:cubicBezTo>
                  <a:pt x="2872" y="10934"/>
                  <a:pt x="2819" y="10913"/>
                  <a:pt x="2753" y="10864"/>
                </a:cubicBezTo>
                <a:cubicBezTo>
                  <a:pt x="2694" y="10820"/>
                  <a:pt x="2704" y="10755"/>
                  <a:pt x="2704" y="10691"/>
                </a:cubicBezTo>
                <a:cubicBezTo>
                  <a:pt x="2704" y="10557"/>
                  <a:pt x="2735" y="10541"/>
                  <a:pt x="2828" y="10492"/>
                </a:cubicBezTo>
                <a:cubicBezTo>
                  <a:pt x="2909" y="10450"/>
                  <a:pt x="2979" y="10546"/>
                  <a:pt x="3026" y="10616"/>
                </a:cubicBezTo>
                <a:cubicBezTo>
                  <a:pt x="3078" y="10695"/>
                  <a:pt x="3081" y="10777"/>
                  <a:pt x="3101" y="10864"/>
                </a:cubicBezTo>
                <a:cubicBezTo>
                  <a:pt x="3108" y="10894"/>
                  <a:pt x="3166" y="11077"/>
                  <a:pt x="3200" y="11088"/>
                </a:cubicBezTo>
                <a:cubicBezTo>
                  <a:pt x="3208" y="11080"/>
                  <a:pt x="3217" y="11071"/>
                  <a:pt x="3225" y="11063"/>
                </a:cubicBezTo>
              </a:path>
              <a:path w="8385" h="1961">
                <a:moveTo>
                  <a:pt x="3845" y="10393"/>
                </a:moveTo>
                <a:cubicBezTo>
                  <a:pt x="3744" y="10399"/>
                  <a:pt x="3664" y="10412"/>
                  <a:pt x="3572" y="10443"/>
                </a:cubicBezTo>
                <a:cubicBezTo>
                  <a:pt x="3528" y="10465"/>
                  <a:pt x="3517" y="10468"/>
                  <a:pt x="3497" y="10492"/>
                </a:cubicBezTo>
                <a:cubicBezTo>
                  <a:pt x="3533" y="10564"/>
                  <a:pt x="3570" y="10655"/>
                  <a:pt x="3621" y="10716"/>
                </a:cubicBezTo>
                <a:cubicBezTo>
                  <a:pt x="3699" y="10809"/>
                  <a:pt x="3791" y="10862"/>
                  <a:pt x="3820" y="10988"/>
                </a:cubicBezTo>
                <a:cubicBezTo>
                  <a:pt x="3846" y="11100"/>
                  <a:pt x="3793" y="11121"/>
                  <a:pt x="3721" y="11112"/>
                </a:cubicBezTo>
                <a:cubicBezTo>
                  <a:pt x="3635" y="11102"/>
                  <a:pt x="3613" y="11090"/>
                  <a:pt x="3572" y="11013"/>
                </a:cubicBezTo>
                <a:cubicBezTo>
                  <a:pt x="3564" y="10997"/>
                  <a:pt x="3555" y="10980"/>
                  <a:pt x="3547" y="10964"/>
                </a:cubicBezTo>
              </a:path>
              <a:path w="8385" h="1961">
                <a:moveTo>
                  <a:pt x="3944" y="10666"/>
                </a:moveTo>
                <a:cubicBezTo>
                  <a:pt x="4049" y="10645"/>
                  <a:pt x="4164" y="10664"/>
                  <a:pt x="4266" y="10641"/>
                </a:cubicBezTo>
                <a:cubicBezTo>
                  <a:pt x="4349" y="10622"/>
                  <a:pt x="4426" y="10570"/>
                  <a:pt x="4490" y="10517"/>
                </a:cubicBezTo>
                <a:cubicBezTo>
                  <a:pt x="4446" y="10441"/>
                  <a:pt x="4413" y="10424"/>
                  <a:pt x="4316" y="10443"/>
                </a:cubicBezTo>
                <a:cubicBezTo>
                  <a:pt x="4209" y="10464"/>
                  <a:pt x="4183" y="10540"/>
                  <a:pt x="4118" y="10616"/>
                </a:cubicBezTo>
                <a:cubicBezTo>
                  <a:pt x="4017" y="10733"/>
                  <a:pt x="4042" y="10771"/>
                  <a:pt x="4093" y="10914"/>
                </a:cubicBezTo>
                <a:cubicBezTo>
                  <a:pt x="4125" y="11002"/>
                  <a:pt x="4176" y="11073"/>
                  <a:pt x="4266" y="11112"/>
                </a:cubicBezTo>
                <a:cubicBezTo>
                  <a:pt x="4291" y="11120"/>
                  <a:pt x="4316" y="11129"/>
                  <a:pt x="4341" y="11137"/>
                </a:cubicBezTo>
              </a:path>
              <a:path w="8385" h="1961">
                <a:moveTo>
                  <a:pt x="4986" y="10592"/>
                </a:moveTo>
                <a:cubicBezTo>
                  <a:pt x="5002" y="10592"/>
                  <a:pt x="5019" y="10592"/>
                  <a:pt x="5035" y="10592"/>
                </a:cubicBezTo>
                <a:cubicBezTo>
                  <a:pt x="4976" y="10531"/>
                  <a:pt x="4966" y="10539"/>
                  <a:pt x="4887" y="10567"/>
                </a:cubicBezTo>
                <a:cubicBezTo>
                  <a:pt x="4801" y="10597"/>
                  <a:pt x="4732" y="10634"/>
                  <a:pt x="4663" y="10691"/>
                </a:cubicBezTo>
                <a:cubicBezTo>
                  <a:pt x="4590" y="10752"/>
                  <a:pt x="4614" y="10828"/>
                  <a:pt x="4614" y="10914"/>
                </a:cubicBezTo>
                <a:cubicBezTo>
                  <a:pt x="4614" y="11011"/>
                  <a:pt x="4690" y="11059"/>
                  <a:pt x="4762" y="11112"/>
                </a:cubicBezTo>
                <a:cubicBezTo>
                  <a:pt x="4897" y="11212"/>
                  <a:pt x="4929" y="11197"/>
                  <a:pt x="5060" y="11112"/>
                </a:cubicBezTo>
              </a:path>
              <a:path w="8385" h="1961">
                <a:moveTo>
                  <a:pt x="5209" y="10071"/>
                </a:moveTo>
                <a:cubicBezTo>
                  <a:pt x="5336" y="10089"/>
                  <a:pt x="5361" y="10064"/>
                  <a:pt x="5407" y="10120"/>
                </a:cubicBezTo>
                <a:cubicBezTo>
                  <a:pt x="5398" y="10208"/>
                  <a:pt x="5365" y="10264"/>
                  <a:pt x="5333" y="10344"/>
                </a:cubicBezTo>
                <a:cubicBezTo>
                  <a:pt x="5304" y="10418"/>
                  <a:pt x="5288" y="10439"/>
                  <a:pt x="5234" y="10492"/>
                </a:cubicBezTo>
                <a:cubicBezTo>
                  <a:pt x="5182" y="10543"/>
                  <a:pt x="5256" y="10617"/>
                  <a:pt x="5308" y="10641"/>
                </a:cubicBezTo>
                <a:cubicBezTo>
                  <a:pt x="5414" y="10684"/>
                  <a:pt x="5436" y="10700"/>
                  <a:pt x="5507" y="10691"/>
                </a:cubicBezTo>
              </a:path>
              <a:path w="8385" h="1961">
                <a:moveTo>
                  <a:pt x="5655" y="10567"/>
                </a:moveTo>
                <a:cubicBezTo>
                  <a:pt x="5631" y="10659"/>
                  <a:pt x="5611" y="10748"/>
                  <a:pt x="5655" y="10840"/>
                </a:cubicBezTo>
                <a:cubicBezTo>
                  <a:pt x="5717" y="10969"/>
                  <a:pt x="5804" y="11062"/>
                  <a:pt x="5904" y="11162"/>
                </a:cubicBezTo>
                <a:cubicBezTo>
                  <a:pt x="5976" y="11234"/>
                  <a:pt x="6054" y="11237"/>
                  <a:pt x="6152" y="11261"/>
                </a:cubicBezTo>
              </a:path>
              <a:path w="8385" h="1961">
                <a:moveTo>
                  <a:pt x="6077" y="10616"/>
                </a:moveTo>
                <a:cubicBezTo>
                  <a:pt x="5949" y="10677"/>
                  <a:pt x="5863" y="10747"/>
                  <a:pt x="5755" y="10840"/>
                </a:cubicBezTo>
                <a:cubicBezTo>
                  <a:pt x="5677" y="10907"/>
                  <a:pt x="5617" y="10984"/>
                  <a:pt x="5556" y="11063"/>
                </a:cubicBezTo>
                <a:cubicBezTo>
                  <a:pt x="5510" y="11123"/>
                  <a:pt x="5522" y="11182"/>
                  <a:pt x="5581" y="11212"/>
                </a:cubicBezTo>
              </a:path>
              <a:path w="8385" h="1961">
                <a:moveTo>
                  <a:pt x="6524" y="10790"/>
                </a:moveTo>
                <a:cubicBezTo>
                  <a:pt x="6532" y="10790"/>
                  <a:pt x="6540" y="10790"/>
                  <a:pt x="6548" y="10790"/>
                </a:cubicBezTo>
              </a:path>
              <a:path w="8385" h="1961">
                <a:moveTo>
                  <a:pt x="7541" y="10716"/>
                </a:moveTo>
                <a:cubicBezTo>
                  <a:pt x="7541" y="10741"/>
                  <a:pt x="7541" y="10765"/>
                  <a:pt x="7541" y="10790"/>
                </a:cubicBezTo>
                <a:cubicBezTo>
                  <a:pt x="7541" y="10675"/>
                  <a:pt x="7551" y="10678"/>
                  <a:pt x="7466" y="10616"/>
                </a:cubicBezTo>
                <a:cubicBezTo>
                  <a:pt x="7386" y="10557"/>
                  <a:pt x="7343" y="10577"/>
                  <a:pt x="7243" y="10616"/>
                </a:cubicBezTo>
                <a:cubicBezTo>
                  <a:pt x="7180" y="10641"/>
                  <a:pt x="7062" y="10724"/>
                  <a:pt x="7045" y="10790"/>
                </a:cubicBezTo>
                <a:cubicBezTo>
                  <a:pt x="7025" y="10867"/>
                  <a:pt x="7012" y="10988"/>
                  <a:pt x="7045" y="11063"/>
                </a:cubicBezTo>
                <a:cubicBezTo>
                  <a:pt x="7093" y="11172"/>
                  <a:pt x="7187" y="11260"/>
                  <a:pt x="7293" y="11311"/>
                </a:cubicBezTo>
                <a:cubicBezTo>
                  <a:pt x="7367" y="11336"/>
                  <a:pt x="7392" y="11344"/>
                  <a:pt x="7441" y="11361"/>
                </a:cubicBezTo>
              </a:path>
              <a:path w="8385" h="1961">
                <a:moveTo>
                  <a:pt x="7813" y="10740"/>
                </a:moveTo>
                <a:cubicBezTo>
                  <a:pt x="7722" y="10888"/>
                  <a:pt x="7689" y="10925"/>
                  <a:pt x="7689" y="11088"/>
                </a:cubicBezTo>
                <a:cubicBezTo>
                  <a:pt x="7689" y="11203"/>
                  <a:pt x="7792" y="11337"/>
                  <a:pt x="7888" y="11410"/>
                </a:cubicBezTo>
                <a:cubicBezTo>
                  <a:pt x="7951" y="11458"/>
                  <a:pt x="8086" y="11477"/>
                  <a:pt x="8161" y="11460"/>
                </a:cubicBezTo>
                <a:cubicBezTo>
                  <a:pt x="8251" y="11439"/>
                  <a:pt x="8305" y="11336"/>
                  <a:pt x="8334" y="11261"/>
                </a:cubicBezTo>
                <a:cubicBezTo>
                  <a:pt x="8372" y="11162"/>
                  <a:pt x="8394" y="11066"/>
                  <a:pt x="8359" y="10964"/>
                </a:cubicBezTo>
                <a:cubicBezTo>
                  <a:pt x="8319" y="10846"/>
                  <a:pt x="8246" y="10738"/>
                  <a:pt x="8136" y="10691"/>
                </a:cubicBezTo>
                <a:cubicBezTo>
                  <a:pt x="8020" y="10642"/>
                  <a:pt x="7905" y="10618"/>
                  <a:pt x="7789" y="10691"/>
                </a:cubicBezTo>
                <a:cubicBezTo>
                  <a:pt x="7711" y="10740"/>
                  <a:pt x="7697" y="10814"/>
                  <a:pt x="7739" y="10889"/>
                </a:cubicBezTo>
                <a:cubicBezTo>
                  <a:pt x="7785" y="10958"/>
                  <a:pt x="7797" y="10978"/>
                  <a:pt x="7838" y="11013"/>
                </a:cubicBezTo>
              </a:path>
              <a:path w="8385" h="1961">
                <a:moveTo>
                  <a:pt x="8582" y="10790"/>
                </a:moveTo>
                <a:cubicBezTo>
                  <a:pt x="8497" y="10713"/>
                  <a:pt x="8507" y="10716"/>
                  <a:pt x="8384" y="10716"/>
                </a:cubicBezTo>
                <a:cubicBezTo>
                  <a:pt x="8384" y="10832"/>
                  <a:pt x="8402" y="10873"/>
                  <a:pt x="8483" y="10964"/>
                </a:cubicBezTo>
                <a:cubicBezTo>
                  <a:pt x="8565" y="11056"/>
                  <a:pt x="8642" y="11166"/>
                  <a:pt x="8682" y="11286"/>
                </a:cubicBezTo>
                <a:cubicBezTo>
                  <a:pt x="8704" y="11352"/>
                  <a:pt x="8728" y="11458"/>
                  <a:pt x="8657" y="11509"/>
                </a:cubicBezTo>
                <a:cubicBezTo>
                  <a:pt x="8548" y="11586"/>
                  <a:pt x="8453" y="11539"/>
                  <a:pt x="8384" y="11435"/>
                </a:cubicBezTo>
                <a:cubicBezTo>
                  <a:pt x="8352" y="11371"/>
                  <a:pt x="8340" y="11340"/>
                  <a:pt x="8334" y="11286"/>
                </a:cubicBezTo>
              </a:path>
              <a:path w="8385" h="1961">
                <a:moveTo>
                  <a:pt x="8756" y="10120"/>
                </a:moveTo>
                <a:cubicBezTo>
                  <a:pt x="8923" y="10096"/>
                  <a:pt x="8967" y="10059"/>
                  <a:pt x="9029" y="10220"/>
                </a:cubicBezTo>
                <a:cubicBezTo>
                  <a:pt x="9076" y="10341"/>
                  <a:pt x="9043" y="10386"/>
                  <a:pt x="8954" y="10468"/>
                </a:cubicBezTo>
                <a:cubicBezTo>
                  <a:pt x="8916" y="10503"/>
                  <a:pt x="8882" y="10492"/>
                  <a:pt x="8830" y="10492"/>
                </a:cubicBezTo>
                <a:cubicBezTo>
                  <a:pt x="8708" y="10492"/>
                  <a:pt x="8940" y="10504"/>
                  <a:pt x="8979" y="10517"/>
                </a:cubicBezTo>
                <a:cubicBezTo>
                  <a:pt x="9054" y="10542"/>
                  <a:pt x="9078" y="10550"/>
                  <a:pt x="9128" y="10567"/>
                </a:cubicBezTo>
              </a:path>
              <a:path w="8385" h="1961">
                <a:moveTo>
                  <a:pt x="9500" y="10914"/>
                </a:moveTo>
                <a:cubicBezTo>
                  <a:pt x="9594" y="11146"/>
                  <a:pt x="9691" y="11398"/>
                  <a:pt x="9872" y="11584"/>
                </a:cubicBezTo>
                <a:cubicBezTo>
                  <a:pt x="9947" y="11633"/>
                  <a:pt x="9972" y="11649"/>
                  <a:pt x="10021" y="11683"/>
                </a:cubicBezTo>
              </a:path>
              <a:path w="8385" h="1961">
                <a:moveTo>
                  <a:pt x="9897" y="10864"/>
                </a:moveTo>
                <a:cubicBezTo>
                  <a:pt x="9730" y="10982"/>
                  <a:pt x="9633" y="11079"/>
                  <a:pt x="9500" y="11212"/>
                </a:cubicBezTo>
                <a:cubicBezTo>
                  <a:pt x="9414" y="11298"/>
                  <a:pt x="9371" y="11366"/>
                  <a:pt x="9327" y="11485"/>
                </a:cubicBezTo>
                <a:cubicBezTo>
                  <a:pt x="9284" y="11600"/>
                  <a:pt x="9305" y="11590"/>
                  <a:pt x="9401" y="11609"/>
                </a:cubicBezTo>
              </a:path>
              <a:path w="8385" h="1961">
                <a:moveTo>
                  <a:pt x="10666" y="10864"/>
                </a:moveTo>
                <a:cubicBezTo>
                  <a:pt x="10833" y="10883"/>
                  <a:pt x="10857" y="10866"/>
                  <a:pt x="10939" y="10914"/>
                </a:cubicBezTo>
              </a:path>
              <a:path w="8385" h="1961">
                <a:moveTo>
                  <a:pt x="10815" y="11162"/>
                </a:moveTo>
                <a:cubicBezTo>
                  <a:pt x="10953" y="11241"/>
                  <a:pt x="10973" y="11261"/>
                  <a:pt x="11063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Ink 39"/>
          <p:cNvSpPr/>
          <p:nvPr/>
        </p:nvSpPr>
        <p:spPr>
          <a:xfrm>
            <a:off x="4446720" y="3875040"/>
            <a:ext cx="554040" cy="554040"/>
          </a:xfrm>
          <a:custGeom>
            <a:avLst/>
            <a:gdLst/>
            <a:ahLst/>
            <a:rect l="l" t="t" r="r" b="b"/>
            <a:pathLst>
              <a:path w="1539" h="1539">
                <a:moveTo>
                  <a:pt x="12452" y="11013"/>
                </a:moveTo>
                <a:cubicBezTo>
                  <a:pt x="12480" y="10958"/>
                  <a:pt x="12502" y="10904"/>
                  <a:pt x="12551" y="10864"/>
                </a:cubicBezTo>
                <a:cubicBezTo>
                  <a:pt x="12606" y="10819"/>
                  <a:pt x="12639" y="10808"/>
                  <a:pt x="12700" y="10790"/>
                </a:cubicBezTo>
                <a:cubicBezTo>
                  <a:pt x="12781" y="10766"/>
                  <a:pt x="12781" y="10777"/>
                  <a:pt x="12874" y="10815"/>
                </a:cubicBezTo>
                <a:cubicBezTo>
                  <a:pt x="12960" y="10851"/>
                  <a:pt x="13052" y="11035"/>
                  <a:pt x="13072" y="11112"/>
                </a:cubicBezTo>
                <a:cubicBezTo>
                  <a:pt x="13101" y="11222"/>
                  <a:pt x="13111" y="11393"/>
                  <a:pt x="13097" y="11509"/>
                </a:cubicBezTo>
                <a:cubicBezTo>
                  <a:pt x="13079" y="11653"/>
                  <a:pt x="13030" y="11744"/>
                  <a:pt x="12948" y="11857"/>
                </a:cubicBezTo>
                <a:cubicBezTo>
                  <a:pt x="12891" y="11936"/>
                  <a:pt x="12801" y="12029"/>
                  <a:pt x="12700" y="12055"/>
                </a:cubicBezTo>
                <a:cubicBezTo>
                  <a:pt x="12630" y="12073"/>
                  <a:pt x="12540" y="12058"/>
                  <a:pt x="12477" y="12030"/>
                </a:cubicBezTo>
                <a:cubicBezTo>
                  <a:pt x="12384" y="11988"/>
                  <a:pt x="12358" y="11902"/>
                  <a:pt x="12353" y="11807"/>
                </a:cubicBezTo>
                <a:cubicBezTo>
                  <a:pt x="12350" y="11757"/>
                  <a:pt x="12341" y="11681"/>
                  <a:pt x="12402" y="11658"/>
                </a:cubicBezTo>
                <a:cubicBezTo>
                  <a:pt x="12502" y="11620"/>
                  <a:pt x="12624" y="11720"/>
                  <a:pt x="12700" y="11757"/>
                </a:cubicBezTo>
                <a:cubicBezTo>
                  <a:pt x="12811" y="11810"/>
                  <a:pt x="12897" y="11866"/>
                  <a:pt x="12998" y="11931"/>
                </a:cubicBezTo>
                <a:cubicBezTo>
                  <a:pt x="13110" y="12002"/>
                  <a:pt x="13234" y="12090"/>
                  <a:pt x="13345" y="12154"/>
                </a:cubicBezTo>
                <a:cubicBezTo>
                  <a:pt x="13434" y="12205"/>
                  <a:pt x="13549" y="12235"/>
                  <a:pt x="13643" y="12278"/>
                </a:cubicBezTo>
                <a:cubicBezTo>
                  <a:pt x="13689" y="12299"/>
                  <a:pt x="13839" y="12336"/>
                  <a:pt x="13891" y="12303"/>
                </a:cubicBezTo>
                <a:cubicBezTo>
                  <a:pt x="13891" y="12295"/>
                  <a:pt x="13891" y="12286"/>
                  <a:pt x="13891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Ink 40"/>
          <p:cNvSpPr/>
          <p:nvPr/>
        </p:nvSpPr>
        <p:spPr>
          <a:xfrm>
            <a:off x="892080" y="4286160"/>
            <a:ext cx="2197080" cy="992160"/>
          </a:xfrm>
          <a:custGeom>
            <a:avLst/>
            <a:gdLst/>
            <a:ahLst/>
            <a:rect l="l" t="t" r="r" b="b"/>
            <a:pathLst>
              <a:path w="6103" h="2755">
                <a:moveTo>
                  <a:pt x="2604" y="12005"/>
                </a:moveTo>
                <a:cubicBezTo>
                  <a:pt x="2640" y="11970"/>
                  <a:pt x="2677" y="11918"/>
                  <a:pt x="2729" y="11906"/>
                </a:cubicBezTo>
                <a:cubicBezTo>
                  <a:pt x="2793" y="11891"/>
                  <a:pt x="2870" y="11906"/>
                  <a:pt x="2927" y="11931"/>
                </a:cubicBezTo>
                <a:cubicBezTo>
                  <a:pt x="3026" y="11975"/>
                  <a:pt x="3037" y="12038"/>
                  <a:pt x="3076" y="12129"/>
                </a:cubicBezTo>
                <a:cubicBezTo>
                  <a:pt x="3128" y="12249"/>
                  <a:pt x="3109" y="12455"/>
                  <a:pt x="3076" y="12576"/>
                </a:cubicBezTo>
                <a:cubicBezTo>
                  <a:pt x="3036" y="12724"/>
                  <a:pt x="2963" y="12784"/>
                  <a:pt x="2877" y="12898"/>
                </a:cubicBezTo>
                <a:cubicBezTo>
                  <a:pt x="2839" y="12948"/>
                  <a:pt x="2729" y="13025"/>
                  <a:pt x="2654" y="13022"/>
                </a:cubicBezTo>
                <a:cubicBezTo>
                  <a:pt x="2620" y="13021"/>
                  <a:pt x="2488" y="12972"/>
                  <a:pt x="2480" y="12923"/>
                </a:cubicBezTo>
                <a:cubicBezTo>
                  <a:pt x="2461" y="12810"/>
                  <a:pt x="2482" y="12753"/>
                  <a:pt x="2555" y="12675"/>
                </a:cubicBezTo>
                <a:cubicBezTo>
                  <a:pt x="2613" y="12612"/>
                  <a:pt x="2751" y="12681"/>
                  <a:pt x="2803" y="12725"/>
                </a:cubicBezTo>
                <a:cubicBezTo>
                  <a:pt x="2861" y="12774"/>
                  <a:pt x="2923" y="12951"/>
                  <a:pt x="2927" y="13022"/>
                </a:cubicBezTo>
                <a:cubicBezTo>
                  <a:pt x="2931" y="13086"/>
                  <a:pt x="2929" y="13111"/>
                  <a:pt x="2952" y="13171"/>
                </a:cubicBezTo>
              </a:path>
              <a:path w="6103" h="2755">
                <a:moveTo>
                  <a:pt x="3299" y="13146"/>
                </a:moveTo>
                <a:cubicBezTo>
                  <a:pt x="3316" y="13146"/>
                  <a:pt x="3332" y="13146"/>
                  <a:pt x="3349" y="13146"/>
                </a:cubicBezTo>
              </a:path>
              <a:path w="6103" h="2755">
                <a:moveTo>
                  <a:pt x="4440" y="12229"/>
                </a:moveTo>
                <a:cubicBezTo>
                  <a:pt x="4440" y="12374"/>
                  <a:pt x="4427" y="12508"/>
                  <a:pt x="4415" y="12650"/>
                </a:cubicBezTo>
                <a:cubicBezTo>
                  <a:pt x="4406" y="12758"/>
                  <a:pt x="4425" y="12913"/>
                  <a:pt x="4440" y="13022"/>
                </a:cubicBezTo>
                <a:cubicBezTo>
                  <a:pt x="4454" y="13126"/>
                  <a:pt x="4465" y="13214"/>
                  <a:pt x="4465" y="13320"/>
                </a:cubicBezTo>
              </a:path>
              <a:path w="6103" h="2755">
                <a:moveTo>
                  <a:pt x="3969" y="13246"/>
                </a:moveTo>
                <a:cubicBezTo>
                  <a:pt x="4035" y="13286"/>
                  <a:pt x="4136" y="13299"/>
                  <a:pt x="4217" y="13320"/>
                </a:cubicBezTo>
                <a:cubicBezTo>
                  <a:pt x="4362" y="13357"/>
                  <a:pt x="4514" y="13404"/>
                  <a:pt x="4663" y="13419"/>
                </a:cubicBezTo>
                <a:cubicBezTo>
                  <a:pt x="4837" y="13436"/>
                  <a:pt x="5041" y="13428"/>
                  <a:pt x="5209" y="13395"/>
                </a:cubicBezTo>
                <a:cubicBezTo>
                  <a:pt x="5331" y="13371"/>
                  <a:pt x="5318" y="13385"/>
                  <a:pt x="5383" y="13320"/>
                </a:cubicBezTo>
              </a:path>
              <a:path w="6103" h="2755">
                <a:moveTo>
                  <a:pt x="4440" y="13965"/>
                </a:moveTo>
                <a:cubicBezTo>
                  <a:pt x="4448" y="13998"/>
                  <a:pt x="4457" y="14031"/>
                  <a:pt x="4465" y="14064"/>
                </a:cubicBezTo>
                <a:cubicBezTo>
                  <a:pt x="4491" y="13996"/>
                  <a:pt x="4512" y="13922"/>
                  <a:pt x="4440" y="13866"/>
                </a:cubicBezTo>
                <a:cubicBezTo>
                  <a:pt x="4375" y="13815"/>
                  <a:pt x="4363" y="13793"/>
                  <a:pt x="4291" y="13767"/>
                </a:cubicBezTo>
                <a:cubicBezTo>
                  <a:pt x="4230" y="13745"/>
                  <a:pt x="4163" y="13753"/>
                  <a:pt x="4118" y="13816"/>
                </a:cubicBezTo>
                <a:cubicBezTo>
                  <a:pt x="4052" y="13909"/>
                  <a:pt x="4052" y="14030"/>
                  <a:pt x="4068" y="14139"/>
                </a:cubicBezTo>
                <a:cubicBezTo>
                  <a:pt x="4085" y="14258"/>
                  <a:pt x="4164" y="14374"/>
                  <a:pt x="4242" y="14461"/>
                </a:cubicBezTo>
                <a:cubicBezTo>
                  <a:pt x="4295" y="14521"/>
                  <a:pt x="4317" y="14527"/>
                  <a:pt x="4390" y="14536"/>
                </a:cubicBezTo>
              </a:path>
              <a:path w="6103" h="2755">
                <a:moveTo>
                  <a:pt x="4762" y="14015"/>
                </a:moveTo>
                <a:cubicBezTo>
                  <a:pt x="4762" y="13998"/>
                  <a:pt x="4762" y="13982"/>
                  <a:pt x="4762" y="13965"/>
                </a:cubicBezTo>
                <a:cubicBezTo>
                  <a:pt x="4698" y="14030"/>
                  <a:pt x="4685" y="14057"/>
                  <a:pt x="4663" y="14139"/>
                </a:cubicBezTo>
                <a:cubicBezTo>
                  <a:pt x="4635" y="14245"/>
                  <a:pt x="4670" y="14312"/>
                  <a:pt x="4713" y="14412"/>
                </a:cubicBezTo>
                <a:cubicBezTo>
                  <a:pt x="4738" y="14469"/>
                  <a:pt x="4801" y="14567"/>
                  <a:pt x="4862" y="14585"/>
                </a:cubicBezTo>
                <a:cubicBezTo>
                  <a:pt x="4934" y="14606"/>
                  <a:pt x="4955" y="14530"/>
                  <a:pt x="4986" y="14486"/>
                </a:cubicBezTo>
                <a:cubicBezTo>
                  <a:pt x="5074" y="14361"/>
                  <a:pt x="5085" y="14311"/>
                  <a:pt x="5085" y="14163"/>
                </a:cubicBezTo>
                <a:cubicBezTo>
                  <a:pt x="5085" y="14087"/>
                  <a:pt x="5060" y="14002"/>
                  <a:pt x="5011" y="13940"/>
                </a:cubicBezTo>
                <a:cubicBezTo>
                  <a:pt x="4962" y="13878"/>
                  <a:pt x="4894" y="13837"/>
                  <a:pt x="4812" y="13866"/>
                </a:cubicBezTo>
                <a:cubicBezTo>
                  <a:pt x="4724" y="13897"/>
                  <a:pt x="4756" y="14006"/>
                  <a:pt x="4762" y="14064"/>
                </a:cubicBezTo>
                <a:cubicBezTo>
                  <a:pt x="4762" y="14081"/>
                  <a:pt x="4762" y="14097"/>
                  <a:pt x="4762" y="14114"/>
                </a:cubicBezTo>
              </a:path>
              <a:path w="6103" h="2755">
                <a:moveTo>
                  <a:pt x="5333" y="13965"/>
                </a:moveTo>
                <a:cubicBezTo>
                  <a:pt x="5316" y="13940"/>
                  <a:pt x="5300" y="13916"/>
                  <a:pt x="5283" y="13891"/>
                </a:cubicBezTo>
                <a:cubicBezTo>
                  <a:pt x="5236" y="14021"/>
                  <a:pt x="5303" y="14074"/>
                  <a:pt x="5358" y="14213"/>
                </a:cubicBezTo>
                <a:cubicBezTo>
                  <a:pt x="5393" y="14302"/>
                  <a:pt x="5462" y="14391"/>
                  <a:pt x="5482" y="14486"/>
                </a:cubicBezTo>
                <a:cubicBezTo>
                  <a:pt x="5496" y="14554"/>
                  <a:pt x="5449" y="14592"/>
                  <a:pt x="5407" y="14635"/>
                </a:cubicBezTo>
                <a:cubicBezTo>
                  <a:pt x="5360" y="14683"/>
                  <a:pt x="5275" y="14663"/>
                  <a:pt x="5234" y="14610"/>
                </a:cubicBezTo>
                <a:cubicBezTo>
                  <a:pt x="5210" y="14562"/>
                  <a:pt x="5202" y="14548"/>
                  <a:pt x="5209" y="14511"/>
                </a:cubicBezTo>
              </a:path>
              <a:path w="6103" h="2755">
                <a:moveTo>
                  <a:pt x="5507" y="13717"/>
                </a:moveTo>
                <a:cubicBezTo>
                  <a:pt x="5623" y="13678"/>
                  <a:pt x="5668" y="13630"/>
                  <a:pt x="5755" y="13717"/>
                </a:cubicBezTo>
                <a:cubicBezTo>
                  <a:pt x="5731" y="13732"/>
                  <a:pt x="5603" y="13803"/>
                  <a:pt x="5606" y="13841"/>
                </a:cubicBezTo>
                <a:cubicBezTo>
                  <a:pt x="5612" y="13918"/>
                  <a:pt x="5679" y="13952"/>
                  <a:pt x="5730" y="13990"/>
                </a:cubicBezTo>
                <a:cubicBezTo>
                  <a:pt x="5773" y="14033"/>
                  <a:pt x="5804" y="14030"/>
                  <a:pt x="5854" y="13965"/>
                </a:cubicBezTo>
              </a:path>
              <a:path w="6103" h="2755">
                <a:moveTo>
                  <a:pt x="5953" y="13295"/>
                </a:moveTo>
                <a:cubicBezTo>
                  <a:pt x="5914" y="13360"/>
                  <a:pt x="5901" y="13358"/>
                  <a:pt x="5978" y="13345"/>
                </a:cubicBezTo>
              </a:path>
              <a:path w="6103" h="2755">
                <a:moveTo>
                  <a:pt x="6648" y="12353"/>
                </a:moveTo>
                <a:cubicBezTo>
                  <a:pt x="6691" y="12408"/>
                  <a:pt x="6684" y="12409"/>
                  <a:pt x="6747" y="12427"/>
                </a:cubicBezTo>
                <a:cubicBezTo>
                  <a:pt x="6784" y="12365"/>
                  <a:pt x="6773" y="12353"/>
                  <a:pt x="6722" y="12303"/>
                </a:cubicBezTo>
                <a:cubicBezTo>
                  <a:pt x="6642" y="12225"/>
                  <a:pt x="6617" y="12263"/>
                  <a:pt x="6524" y="12278"/>
                </a:cubicBezTo>
                <a:cubicBezTo>
                  <a:pt x="6455" y="12289"/>
                  <a:pt x="6417" y="12340"/>
                  <a:pt x="6375" y="12402"/>
                </a:cubicBezTo>
                <a:cubicBezTo>
                  <a:pt x="6318" y="12486"/>
                  <a:pt x="6307" y="12597"/>
                  <a:pt x="6325" y="12700"/>
                </a:cubicBezTo>
                <a:cubicBezTo>
                  <a:pt x="6344" y="12807"/>
                  <a:pt x="6406" y="12916"/>
                  <a:pt x="6474" y="12998"/>
                </a:cubicBezTo>
                <a:cubicBezTo>
                  <a:pt x="6523" y="13057"/>
                  <a:pt x="6574" y="13107"/>
                  <a:pt x="6648" y="13122"/>
                </a:cubicBezTo>
              </a:path>
              <a:path w="6103" h="2755">
                <a:moveTo>
                  <a:pt x="7020" y="12551"/>
                </a:moveTo>
                <a:cubicBezTo>
                  <a:pt x="6953" y="12618"/>
                  <a:pt x="6949" y="12641"/>
                  <a:pt x="6921" y="12725"/>
                </a:cubicBezTo>
                <a:cubicBezTo>
                  <a:pt x="6896" y="12801"/>
                  <a:pt x="6925" y="12872"/>
                  <a:pt x="6970" y="12948"/>
                </a:cubicBezTo>
                <a:cubicBezTo>
                  <a:pt x="7009" y="13014"/>
                  <a:pt x="7059" y="13128"/>
                  <a:pt x="7144" y="13146"/>
                </a:cubicBezTo>
                <a:cubicBezTo>
                  <a:pt x="7241" y="13167"/>
                  <a:pt x="7303" y="13103"/>
                  <a:pt x="7342" y="13022"/>
                </a:cubicBezTo>
                <a:cubicBezTo>
                  <a:pt x="7389" y="12924"/>
                  <a:pt x="7405" y="12854"/>
                  <a:pt x="7367" y="12750"/>
                </a:cubicBezTo>
                <a:cubicBezTo>
                  <a:pt x="7332" y="12655"/>
                  <a:pt x="7276" y="12562"/>
                  <a:pt x="7193" y="12502"/>
                </a:cubicBezTo>
                <a:cubicBezTo>
                  <a:pt x="7142" y="12465"/>
                  <a:pt x="7100" y="12431"/>
                  <a:pt x="7069" y="12477"/>
                </a:cubicBezTo>
              </a:path>
              <a:path w="6103" h="2755">
                <a:moveTo>
                  <a:pt x="7491" y="12477"/>
                </a:moveTo>
                <a:cubicBezTo>
                  <a:pt x="7471" y="12416"/>
                  <a:pt x="7473" y="12401"/>
                  <a:pt x="7441" y="12378"/>
                </a:cubicBezTo>
                <a:cubicBezTo>
                  <a:pt x="7365" y="12454"/>
                  <a:pt x="7392" y="12473"/>
                  <a:pt x="7441" y="12576"/>
                </a:cubicBezTo>
                <a:cubicBezTo>
                  <a:pt x="7503" y="12708"/>
                  <a:pt x="7613" y="12795"/>
                  <a:pt x="7640" y="12948"/>
                </a:cubicBezTo>
                <a:cubicBezTo>
                  <a:pt x="7653" y="13021"/>
                  <a:pt x="7637" y="13081"/>
                  <a:pt x="7615" y="13146"/>
                </a:cubicBezTo>
                <a:cubicBezTo>
                  <a:pt x="7558" y="13146"/>
                  <a:pt x="7455" y="13157"/>
                  <a:pt x="7417" y="13097"/>
                </a:cubicBezTo>
                <a:cubicBezTo>
                  <a:pt x="7378" y="13035"/>
                  <a:pt x="7373" y="12966"/>
                  <a:pt x="7367" y="12898"/>
                </a:cubicBezTo>
              </a:path>
              <a:path w="6103" h="2755">
                <a:moveTo>
                  <a:pt x="7813" y="12080"/>
                </a:moveTo>
                <a:cubicBezTo>
                  <a:pt x="7980" y="12072"/>
                  <a:pt x="8024" y="12094"/>
                  <a:pt x="8161" y="12179"/>
                </a:cubicBezTo>
                <a:cubicBezTo>
                  <a:pt x="8137" y="12275"/>
                  <a:pt x="8077" y="12301"/>
                  <a:pt x="7987" y="12353"/>
                </a:cubicBezTo>
                <a:cubicBezTo>
                  <a:pt x="7916" y="12394"/>
                  <a:pt x="7923" y="12492"/>
                  <a:pt x="7987" y="12551"/>
                </a:cubicBezTo>
                <a:cubicBezTo>
                  <a:pt x="8004" y="12559"/>
                  <a:pt x="8020" y="12568"/>
                  <a:pt x="8037" y="12576"/>
                </a:cubicBezTo>
              </a:path>
              <a:path w="6103" h="2755">
                <a:moveTo>
                  <a:pt x="8235" y="12700"/>
                </a:moveTo>
                <a:cubicBezTo>
                  <a:pt x="8315" y="12830"/>
                  <a:pt x="8348" y="12958"/>
                  <a:pt x="8409" y="13097"/>
                </a:cubicBezTo>
                <a:cubicBezTo>
                  <a:pt x="8457" y="13195"/>
                  <a:pt x="8473" y="13227"/>
                  <a:pt x="8533" y="13271"/>
                </a:cubicBezTo>
              </a:path>
              <a:path w="6103" h="2755">
                <a:moveTo>
                  <a:pt x="8582" y="12774"/>
                </a:moveTo>
                <a:cubicBezTo>
                  <a:pt x="8460" y="12872"/>
                  <a:pt x="8391" y="12942"/>
                  <a:pt x="8310" y="13072"/>
                </a:cubicBezTo>
                <a:cubicBezTo>
                  <a:pt x="8249" y="13170"/>
                  <a:pt x="8244" y="13254"/>
                  <a:pt x="8235" y="13370"/>
                </a:cubicBezTo>
              </a:path>
              <a:path w="6103" h="2755">
                <a:moveTo>
                  <a:pt x="3944" y="14387"/>
                </a:moveTo>
                <a:cubicBezTo>
                  <a:pt x="4022" y="14345"/>
                  <a:pt x="4108" y="14294"/>
                  <a:pt x="4192" y="14263"/>
                </a:cubicBezTo>
                <a:cubicBezTo>
                  <a:pt x="4375" y="14196"/>
                  <a:pt x="4577" y="14176"/>
                  <a:pt x="4762" y="14114"/>
                </a:cubicBezTo>
                <a:cubicBezTo>
                  <a:pt x="4924" y="14060"/>
                  <a:pt x="5080" y="14015"/>
                  <a:pt x="5234" y="13940"/>
                </a:cubicBezTo>
                <a:cubicBezTo>
                  <a:pt x="5355" y="13881"/>
                  <a:pt x="5447" y="13842"/>
                  <a:pt x="5556" y="13767"/>
                </a:cubicBezTo>
                <a:cubicBezTo>
                  <a:pt x="5613" y="13728"/>
                  <a:pt x="5655" y="13692"/>
                  <a:pt x="5705" y="13643"/>
                </a:cubicBezTo>
              </a:path>
              <a:path w="6103" h="2755">
                <a:moveTo>
                  <a:pt x="6300" y="12948"/>
                </a:moveTo>
                <a:cubicBezTo>
                  <a:pt x="6514" y="12898"/>
                  <a:pt x="6729" y="12868"/>
                  <a:pt x="6945" y="12824"/>
                </a:cubicBezTo>
                <a:cubicBezTo>
                  <a:pt x="7118" y="12789"/>
                  <a:pt x="7295" y="12803"/>
                  <a:pt x="7466" y="12750"/>
                </a:cubicBezTo>
                <a:cubicBezTo>
                  <a:pt x="7605" y="12707"/>
                  <a:pt x="7755" y="12657"/>
                  <a:pt x="7888" y="12601"/>
                </a:cubicBezTo>
                <a:cubicBezTo>
                  <a:pt x="7981" y="12562"/>
                  <a:pt x="8107" y="12514"/>
                  <a:pt x="8186" y="12452"/>
                </a:cubicBezTo>
                <a:cubicBezTo>
                  <a:pt x="8249" y="12403"/>
                  <a:pt x="8286" y="12380"/>
                  <a:pt x="8359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Ink 41"/>
          <p:cNvSpPr/>
          <p:nvPr/>
        </p:nvSpPr>
        <p:spPr>
          <a:xfrm>
            <a:off x="3438360" y="4724280"/>
            <a:ext cx="125640" cy="11592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9550" y="13122"/>
                </a:moveTo>
                <a:cubicBezTo>
                  <a:pt x="9670" y="13134"/>
                  <a:pt x="9759" y="13146"/>
                  <a:pt x="9872" y="13146"/>
                </a:cubicBezTo>
              </a:path>
              <a:path w="348" h="323">
                <a:moveTo>
                  <a:pt x="9550" y="13221"/>
                </a:moveTo>
                <a:cubicBezTo>
                  <a:pt x="9644" y="13325"/>
                  <a:pt x="9763" y="13381"/>
                  <a:pt x="9897" y="134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Ink 42"/>
          <p:cNvSpPr/>
          <p:nvPr/>
        </p:nvSpPr>
        <p:spPr>
          <a:xfrm>
            <a:off x="3990960" y="4537080"/>
            <a:ext cx="322200" cy="384120"/>
          </a:xfrm>
          <a:custGeom>
            <a:avLst/>
            <a:gdLst/>
            <a:ahLst/>
            <a:rect l="l" t="t" r="r" b="b"/>
            <a:pathLst>
              <a:path w="894" h="1067">
                <a:moveTo>
                  <a:pt x="11088" y="12700"/>
                </a:moveTo>
                <a:cubicBezTo>
                  <a:pt x="11206" y="12647"/>
                  <a:pt x="11352" y="12547"/>
                  <a:pt x="11485" y="12626"/>
                </a:cubicBezTo>
                <a:cubicBezTo>
                  <a:pt x="11571" y="12676"/>
                  <a:pt x="11661" y="12763"/>
                  <a:pt x="11658" y="12874"/>
                </a:cubicBezTo>
                <a:cubicBezTo>
                  <a:pt x="11652" y="13056"/>
                  <a:pt x="11552" y="13214"/>
                  <a:pt x="11435" y="13345"/>
                </a:cubicBezTo>
                <a:cubicBezTo>
                  <a:pt x="11387" y="13399"/>
                  <a:pt x="11289" y="13501"/>
                  <a:pt x="11212" y="13519"/>
                </a:cubicBezTo>
                <a:cubicBezTo>
                  <a:pt x="11162" y="13519"/>
                  <a:pt x="11145" y="13519"/>
                  <a:pt x="11112" y="13519"/>
                </a:cubicBezTo>
                <a:cubicBezTo>
                  <a:pt x="11149" y="13408"/>
                  <a:pt x="11205" y="13354"/>
                  <a:pt x="11336" y="13370"/>
                </a:cubicBezTo>
                <a:cubicBezTo>
                  <a:pt x="11458" y="13385"/>
                  <a:pt x="11678" y="13452"/>
                  <a:pt x="11782" y="13519"/>
                </a:cubicBezTo>
                <a:cubicBezTo>
                  <a:pt x="11853" y="13565"/>
                  <a:pt x="11904" y="13625"/>
                  <a:pt x="11981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9"/>
          <p:cNvGraphicFramePr/>
          <p:nvPr/>
        </p:nvGraphicFramePr>
        <p:xfrm>
          <a:off x="380880" y="685800"/>
          <a:ext cx="78868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886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Ink 30"/>
          <p:cNvSpPr/>
          <p:nvPr/>
        </p:nvSpPr>
        <p:spPr>
          <a:xfrm>
            <a:off x="465120" y="1562040"/>
            <a:ext cx="401760" cy="876240"/>
          </a:xfrm>
          <a:custGeom>
            <a:avLst/>
            <a:gdLst/>
            <a:ahLst/>
            <a:rect l="l" t="t" r="r" b="b"/>
            <a:pathLst>
              <a:path w="1117" h="2432">
                <a:moveTo>
                  <a:pt x="1910" y="4341"/>
                </a:moveTo>
                <a:cubicBezTo>
                  <a:pt x="1843" y="4383"/>
                  <a:pt x="1829" y="4399"/>
                  <a:pt x="1786" y="4465"/>
                </a:cubicBezTo>
                <a:cubicBezTo>
                  <a:pt x="1719" y="4568"/>
                  <a:pt x="1635" y="4653"/>
                  <a:pt x="1588" y="4762"/>
                </a:cubicBezTo>
                <a:cubicBezTo>
                  <a:pt x="1513" y="4935"/>
                  <a:pt x="1451" y="5082"/>
                  <a:pt x="1389" y="5259"/>
                </a:cubicBezTo>
                <a:cubicBezTo>
                  <a:pt x="1332" y="5421"/>
                  <a:pt x="1294" y="5554"/>
                  <a:pt x="1290" y="5730"/>
                </a:cubicBezTo>
                <a:cubicBezTo>
                  <a:pt x="1286" y="5913"/>
                  <a:pt x="1295" y="6048"/>
                  <a:pt x="1339" y="6226"/>
                </a:cubicBezTo>
                <a:cubicBezTo>
                  <a:pt x="1361" y="6313"/>
                  <a:pt x="1382" y="6425"/>
                  <a:pt x="1439" y="6499"/>
                </a:cubicBezTo>
                <a:cubicBezTo>
                  <a:pt x="1491" y="6566"/>
                  <a:pt x="1505" y="6584"/>
                  <a:pt x="1538" y="6648"/>
                </a:cubicBezTo>
                <a:cubicBezTo>
                  <a:pt x="1562" y="6693"/>
                  <a:pt x="1612" y="6743"/>
                  <a:pt x="1637" y="6772"/>
                </a:cubicBezTo>
              </a:path>
              <a:path w="1117" h="2432">
                <a:moveTo>
                  <a:pt x="1984" y="5209"/>
                </a:moveTo>
                <a:cubicBezTo>
                  <a:pt x="1984" y="5086"/>
                  <a:pt x="1969" y="5296"/>
                  <a:pt x="1960" y="5135"/>
                </a:cubicBezTo>
                <a:cubicBezTo>
                  <a:pt x="1957" y="5080"/>
                  <a:pt x="1962" y="5006"/>
                  <a:pt x="1984" y="4961"/>
                </a:cubicBezTo>
                <a:cubicBezTo>
                  <a:pt x="2005" y="4920"/>
                  <a:pt x="2062" y="4849"/>
                  <a:pt x="2108" y="4837"/>
                </a:cubicBezTo>
                <a:cubicBezTo>
                  <a:pt x="2164" y="4822"/>
                  <a:pt x="2207" y="4797"/>
                  <a:pt x="2257" y="4837"/>
                </a:cubicBezTo>
                <a:cubicBezTo>
                  <a:pt x="2342" y="4905"/>
                  <a:pt x="2329" y="4922"/>
                  <a:pt x="2356" y="5011"/>
                </a:cubicBezTo>
                <a:cubicBezTo>
                  <a:pt x="2378" y="5085"/>
                  <a:pt x="2414" y="5230"/>
                  <a:pt x="2406" y="5308"/>
                </a:cubicBezTo>
                <a:cubicBezTo>
                  <a:pt x="2385" y="5517"/>
                  <a:pt x="2334" y="5651"/>
                  <a:pt x="2257" y="5829"/>
                </a:cubicBezTo>
                <a:cubicBezTo>
                  <a:pt x="2220" y="5915"/>
                  <a:pt x="2186" y="6017"/>
                  <a:pt x="2108" y="6077"/>
                </a:cubicBezTo>
                <a:cubicBezTo>
                  <a:pt x="2045" y="6126"/>
                  <a:pt x="1979" y="6154"/>
                  <a:pt x="1910" y="6127"/>
                </a:cubicBezTo>
                <a:cubicBezTo>
                  <a:pt x="1848" y="6103"/>
                  <a:pt x="1801" y="6044"/>
                  <a:pt x="1786" y="5978"/>
                </a:cubicBezTo>
                <a:cubicBezTo>
                  <a:pt x="1771" y="5910"/>
                  <a:pt x="1790" y="5840"/>
                  <a:pt x="1811" y="5779"/>
                </a:cubicBezTo>
                <a:cubicBezTo>
                  <a:pt x="1831" y="5723"/>
                  <a:pt x="1926" y="5635"/>
                  <a:pt x="1984" y="5730"/>
                </a:cubicBezTo>
                <a:cubicBezTo>
                  <a:pt x="2020" y="5790"/>
                  <a:pt x="2107" y="5861"/>
                  <a:pt x="2133" y="5928"/>
                </a:cubicBezTo>
                <a:cubicBezTo>
                  <a:pt x="2152" y="5977"/>
                  <a:pt x="2180" y="6050"/>
                  <a:pt x="2183" y="6102"/>
                </a:cubicBezTo>
                <a:cubicBezTo>
                  <a:pt x="2187" y="6178"/>
                  <a:pt x="2245" y="6230"/>
                  <a:pt x="2282" y="6300"/>
                </a:cubicBezTo>
                <a:cubicBezTo>
                  <a:pt x="2302" y="6341"/>
                  <a:pt x="2311" y="6347"/>
                  <a:pt x="2307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Ink 31"/>
          <p:cNvSpPr/>
          <p:nvPr/>
        </p:nvSpPr>
        <p:spPr>
          <a:xfrm>
            <a:off x="1670040" y="1509840"/>
            <a:ext cx="1928880" cy="982440"/>
          </a:xfrm>
          <a:custGeom>
            <a:avLst/>
            <a:gdLst/>
            <a:ahLst/>
            <a:rect l="l" t="t" r="r" b="b"/>
            <a:pathLst>
              <a:path w="5359" h="2730">
                <a:moveTo>
                  <a:pt x="7069" y="4192"/>
                </a:moveTo>
                <a:cubicBezTo>
                  <a:pt x="7129" y="4304"/>
                  <a:pt x="7187" y="4407"/>
                  <a:pt x="7243" y="4514"/>
                </a:cubicBezTo>
                <a:cubicBezTo>
                  <a:pt x="7371" y="4761"/>
                  <a:pt x="7558" y="4996"/>
                  <a:pt x="7590" y="5283"/>
                </a:cubicBezTo>
                <a:cubicBezTo>
                  <a:pt x="7607" y="5440"/>
                  <a:pt x="7548" y="5590"/>
                  <a:pt x="7491" y="5730"/>
                </a:cubicBezTo>
                <a:cubicBezTo>
                  <a:pt x="7420" y="5905"/>
                  <a:pt x="7342" y="6081"/>
                  <a:pt x="7218" y="6226"/>
                </a:cubicBezTo>
                <a:cubicBezTo>
                  <a:pt x="7136" y="6322"/>
                  <a:pt x="7038" y="6393"/>
                  <a:pt x="6945" y="6474"/>
                </a:cubicBezTo>
                <a:cubicBezTo>
                  <a:pt x="6896" y="6517"/>
                  <a:pt x="6908" y="6567"/>
                  <a:pt x="6846" y="6548"/>
                </a:cubicBezTo>
                <a:cubicBezTo>
                  <a:pt x="6846" y="6540"/>
                  <a:pt x="6846" y="6532"/>
                  <a:pt x="6846" y="6524"/>
                </a:cubicBezTo>
              </a:path>
              <a:path w="5359" h="2730">
                <a:moveTo>
                  <a:pt x="8186" y="4341"/>
                </a:moveTo>
                <a:cubicBezTo>
                  <a:pt x="8137" y="4437"/>
                  <a:pt x="8090" y="4521"/>
                  <a:pt x="8037" y="4614"/>
                </a:cubicBezTo>
                <a:cubicBezTo>
                  <a:pt x="7919" y="4821"/>
                  <a:pt x="7819" y="5052"/>
                  <a:pt x="7764" y="5283"/>
                </a:cubicBezTo>
                <a:cubicBezTo>
                  <a:pt x="7713" y="5494"/>
                  <a:pt x="7694" y="5712"/>
                  <a:pt x="7689" y="5928"/>
                </a:cubicBezTo>
                <a:cubicBezTo>
                  <a:pt x="7686" y="6075"/>
                  <a:pt x="7745" y="6188"/>
                  <a:pt x="7789" y="6325"/>
                </a:cubicBezTo>
                <a:cubicBezTo>
                  <a:pt x="7819" y="6421"/>
                  <a:pt x="7851" y="6518"/>
                  <a:pt x="7913" y="6598"/>
                </a:cubicBezTo>
                <a:cubicBezTo>
                  <a:pt x="7955" y="6651"/>
                  <a:pt x="7988" y="6726"/>
                  <a:pt x="8037" y="6772"/>
                </a:cubicBezTo>
                <a:cubicBezTo>
                  <a:pt x="8073" y="6806"/>
                  <a:pt x="8122" y="6834"/>
                  <a:pt x="8161" y="6871"/>
                </a:cubicBezTo>
                <a:cubicBezTo>
                  <a:pt x="8212" y="6920"/>
                  <a:pt x="8218" y="6909"/>
                  <a:pt x="8285" y="6921"/>
                </a:cubicBezTo>
              </a:path>
              <a:path w="5359" h="2730">
                <a:moveTo>
                  <a:pt x="8458" y="4812"/>
                </a:moveTo>
                <a:cubicBezTo>
                  <a:pt x="8479" y="4874"/>
                  <a:pt x="8458" y="4976"/>
                  <a:pt x="8458" y="5060"/>
                </a:cubicBezTo>
                <a:cubicBezTo>
                  <a:pt x="8458" y="5440"/>
                  <a:pt x="8474" y="5827"/>
                  <a:pt x="8434" y="6201"/>
                </a:cubicBezTo>
                <a:cubicBezTo>
                  <a:pt x="8428" y="6257"/>
                  <a:pt x="8434" y="6319"/>
                  <a:pt x="8434" y="6375"/>
                </a:cubicBezTo>
              </a:path>
              <a:path w="5359" h="2730">
                <a:moveTo>
                  <a:pt x="4762" y="5085"/>
                </a:moveTo>
                <a:cubicBezTo>
                  <a:pt x="4788" y="5040"/>
                  <a:pt x="4819" y="4967"/>
                  <a:pt x="4862" y="4936"/>
                </a:cubicBezTo>
                <a:cubicBezTo>
                  <a:pt x="4927" y="4889"/>
                  <a:pt x="5020" y="4864"/>
                  <a:pt x="5085" y="4911"/>
                </a:cubicBezTo>
                <a:cubicBezTo>
                  <a:pt x="5145" y="4954"/>
                  <a:pt x="5110" y="5080"/>
                  <a:pt x="5085" y="5135"/>
                </a:cubicBezTo>
                <a:cubicBezTo>
                  <a:pt x="5039" y="5238"/>
                  <a:pt x="4964" y="5326"/>
                  <a:pt x="4887" y="5407"/>
                </a:cubicBezTo>
                <a:cubicBezTo>
                  <a:pt x="4831" y="5466"/>
                  <a:pt x="4771" y="5523"/>
                  <a:pt x="4713" y="5581"/>
                </a:cubicBezTo>
                <a:cubicBezTo>
                  <a:pt x="4792" y="5528"/>
                  <a:pt x="4901" y="5515"/>
                  <a:pt x="4986" y="5581"/>
                </a:cubicBezTo>
                <a:cubicBezTo>
                  <a:pt x="5047" y="5629"/>
                  <a:pt x="5098" y="5721"/>
                  <a:pt x="5110" y="5804"/>
                </a:cubicBezTo>
                <a:cubicBezTo>
                  <a:pt x="5125" y="5904"/>
                  <a:pt x="5098" y="5975"/>
                  <a:pt x="5035" y="6052"/>
                </a:cubicBezTo>
                <a:cubicBezTo>
                  <a:pt x="4993" y="6103"/>
                  <a:pt x="4899" y="6118"/>
                  <a:pt x="4837" y="6127"/>
                </a:cubicBezTo>
                <a:cubicBezTo>
                  <a:pt x="4766" y="6137"/>
                  <a:pt x="4716" y="6124"/>
                  <a:pt x="4663" y="6077"/>
                </a:cubicBezTo>
                <a:cubicBezTo>
                  <a:pt x="4655" y="6069"/>
                  <a:pt x="4646" y="6060"/>
                  <a:pt x="4638" y="6052"/>
                </a:cubicBezTo>
              </a:path>
              <a:path w="5359" h="2730">
                <a:moveTo>
                  <a:pt x="5358" y="5680"/>
                </a:moveTo>
                <a:cubicBezTo>
                  <a:pt x="5358" y="5697"/>
                  <a:pt x="5358" y="5713"/>
                  <a:pt x="5358" y="5730"/>
                </a:cubicBezTo>
                <a:cubicBezTo>
                  <a:pt x="5373" y="5693"/>
                  <a:pt x="5365" y="5581"/>
                  <a:pt x="5283" y="5581"/>
                </a:cubicBezTo>
                <a:cubicBezTo>
                  <a:pt x="5260" y="5581"/>
                  <a:pt x="5175" y="5655"/>
                  <a:pt x="5159" y="5680"/>
                </a:cubicBezTo>
                <a:cubicBezTo>
                  <a:pt x="5119" y="5743"/>
                  <a:pt x="5088" y="5831"/>
                  <a:pt x="5085" y="5904"/>
                </a:cubicBezTo>
                <a:cubicBezTo>
                  <a:pt x="5081" y="5989"/>
                  <a:pt x="5113" y="6011"/>
                  <a:pt x="5159" y="6077"/>
                </a:cubicBezTo>
                <a:cubicBezTo>
                  <a:pt x="5218" y="6162"/>
                  <a:pt x="5266" y="6201"/>
                  <a:pt x="5358" y="6152"/>
                </a:cubicBezTo>
                <a:cubicBezTo>
                  <a:pt x="5407" y="6127"/>
                  <a:pt x="5424" y="6118"/>
                  <a:pt x="5432" y="6077"/>
                </a:cubicBezTo>
              </a:path>
              <a:path w="5359" h="2730">
                <a:moveTo>
                  <a:pt x="5606" y="5655"/>
                </a:moveTo>
                <a:cubicBezTo>
                  <a:pt x="5660" y="5603"/>
                  <a:pt x="5587" y="5774"/>
                  <a:pt x="5581" y="5829"/>
                </a:cubicBezTo>
                <a:cubicBezTo>
                  <a:pt x="5572" y="5916"/>
                  <a:pt x="5533" y="6028"/>
                  <a:pt x="5606" y="6102"/>
                </a:cubicBezTo>
                <a:cubicBezTo>
                  <a:pt x="5622" y="6110"/>
                  <a:pt x="5639" y="6119"/>
                  <a:pt x="5655" y="6127"/>
                </a:cubicBezTo>
                <a:cubicBezTo>
                  <a:pt x="5699" y="6102"/>
                  <a:pt x="5768" y="6058"/>
                  <a:pt x="5779" y="6003"/>
                </a:cubicBezTo>
                <a:cubicBezTo>
                  <a:pt x="5798" y="5907"/>
                  <a:pt x="5794" y="5844"/>
                  <a:pt x="5779" y="5755"/>
                </a:cubicBezTo>
                <a:cubicBezTo>
                  <a:pt x="5768" y="5692"/>
                  <a:pt x="5745" y="5627"/>
                  <a:pt x="5655" y="5631"/>
                </a:cubicBezTo>
                <a:cubicBezTo>
                  <a:pt x="5639" y="5639"/>
                  <a:pt x="5622" y="5647"/>
                  <a:pt x="5606" y="5655"/>
                </a:cubicBezTo>
              </a:path>
              <a:path w="5359" h="2730">
                <a:moveTo>
                  <a:pt x="6028" y="5556"/>
                </a:moveTo>
                <a:cubicBezTo>
                  <a:pt x="6014" y="5566"/>
                  <a:pt x="5808" y="5668"/>
                  <a:pt x="5854" y="5730"/>
                </a:cubicBezTo>
                <a:cubicBezTo>
                  <a:pt x="5874" y="5757"/>
                  <a:pt x="6001" y="5840"/>
                  <a:pt x="6028" y="5854"/>
                </a:cubicBezTo>
                <a:cubicBezTo>
                  <a:pt x="6125" y="5905"/>
                  <a:pt x="6167" y="5933"/>
                  <a:pt x="6127" y="6052"/>
                </a:cubicBezTo>
                <a:cubicBezTo>
                  <a:pt x="6107" y="6110"/>
                  <a:pt x="6039" y="6157"/>
                  <a:pt x="5978" y="6152"/>
                </a:cubicBezTo>
                <a:cubicBezTo>
                  <a:pt x="5918" y="6132"/>
                  <a:pt x="5903" y="6133"/>
                  <a:pt x="5879" y="6102"/>
                </a:cubicBezTo>
              </a:path>
              <a:path w="5359" h="2730">
                <a:moveTo>
                  <a:pt x="6152" y="5259"/>
                </a:moveTo>
                <a:cubicBezTo>
                  <a:pt x="6179" y="5189"/>
                  <a:pt x="6202" y="5114"/>
                  <a:pt x="6300" y="5135"/>
                </a:cubicBezTo>
                <a:cubicBezTo>
                  <a:pt x="6387" y="5154"/>
                  <a:pt x="6351" y="5235"/>
                  <a:pt x="6325" y="5283"/>
                </a:cubicBezTo>
                <a:cubicBezTo>
                  <a:pt x="6282" y="5362"/>
                  <a:pt x="6223" y="5407"/>
                  <a:pt x="6152" y="5457"/>
                </a:cubicBezTo>
                <a:cubicBezTo>
                  <a:pt x="6162" y="5533"/>
                  <a:pt x="6181" y="5543"/>
                  <a:pt x="6251" y="5581"/>
                </a:cubicBezTo>
                <a:cubicBezTo>
                  <a:pt x="6300" y="5606"/>
                  <a:pt x="6317" y="5615"/>
                  <a:pt x="6350" y="5631"/>
                </a:cubicBezTo>
              </a:path>
              <a:path w="5359" h="2730">
                <a:moveTo>
                  <a:pt x="6548" y="5631"/>
                </a:moveTo>
                <a:cubicBezTo>
                  <a:pt x="6548" y="5732"/>
                  <a:pt x="6545" y="5814"/>
                  <a:pt x="6598" y="5904"/>
                </a:cubicBezTo>
                <a:cubicBezTo>
                  <a:pt x="6644" y="5982"/>
                  <a:pt x="6731" y="6056"/>
                  <a:pt x="6821" y="6077"/>
                </a:cubicBezTo>
                <a:cubicBezTo>
                  <a:pt x="6871" y="6077"/>
                  <a:pt x="6888" y="6077"/>
                  <a:pt x="6921" y="6077"/>
                </a:cubicBezTo>
              </a:path>
              <a:path w="5359" h="2730">
                <a:moveTo>
                  <a:pt x="6896" y="5631"/>
                </a:moveTo>
                <a:cubicBezTo>
                  <a:pt x="6736" y="5774"/>
                  <a:pt x="6547" y="5921"/>
                  <a:pt x="6400" y="6077"/>
                </a:cubicBezTo>
                <a:cubicBezTo>
                  <a:pt x="6336" y="6145"/>
                  <a:pt x="6295" y="6197"/>
                  <a:pt x="6276" y="6276"/>
                </a:cubicBezTo>
              </a:path>
              <a:path w="5359" h="2730">
                <a:moveTo>
                  <a:pt x="9203" y="5953"/>
                </a:moveTo>
                <a:cubicBezTo>
                  <a:pt x="9295" y="5965"/>
                  <a:pt x="9378" y="5999"/>
                  <a:pt x="9475" y="6003"/>
                </a:cubicBezTo>
                <a:cubicBezTo>
                  <a:pt x="9563" y="6007"/>
                  <a:pt x="9641" y="6015"/>
                  <a:pt x="9723" y="6028"/>
                </a:cubicBezTo>
                <a:cubicBezTo>
                  <a:pt x="9809" y="6042"/>
                  <a:pt x="9908" y="6028"/>
                  <a:pt x="9996" y="60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Ink 32"/>
          <p:cNvSpPr/>
          <p:nvPr/>
        </p:nvSpPr>
        <p:spPr>
          <a:xfrm>
            <a:off x="4106880" y="1419120"/>
            <a:ext cx="1581120" cy="1090800"/>
          </a:xfrm>
          <a:custGeom>
            <a:avLst/>
            <a:gdLst/>
            <a:ahLst/>
            <a:rect l="l" t="t" r="r" b="b"/>
            <a:pathLst>
              <a:path w="4392" h="3027">
                <a:moveTo>
                  <a:pt x="13667" y="3944"/>
                </a:moveTo>
                <a:cubicBezTo>
                  <a:pt x="13798" y="4215"/>
                  <a:pt x="13938" y="4480"/>
                  <a:pt x="14039" y="4762"/>
                </a:cubicBezTo>
                <a:cubicBezTo>
                  <a:pt x="14138" y="5037"/>
                  <a:pt x="14217" y="5294"/>
                  <a:pt x="14263" y="5581"/>
                </a:cubicBezTo>
                <a:cubicBezTo>
                  <a:pt x="14293" y="5771"/>
                  <a:pt x="14308" y="5983"/>
                  <a:pt x="14288" y="6176"/>
                </a:cubicBezTo>
                <a:cubicBezTo>
                  <a:pt x="14266" y="6390"/>
                  <a:pt x="14171" y="6598"/>
                  <a:pt x="14015" y="6747"/>
                </a:cubicBezTo>
                <a:cubicBezTo>
                  <a:pt x="13940" y="6818"/>
                  <a:pt x="13831" y="6878"/>
                  <a:pt x="13742" y="6921"/>
                </a:cubicBezTo>
                <a:cubicBezTo>
                  <a:pt x="13666" y="6958"/>
                  <a:pt x="13630" y="6949"/>
                  <a:pt x="13593" y="6945"/>
                </a:cubicBezTo>
              </a:path>
              <a:path w="4392" h="3027">
                <a:moveTo>
                  <a:pt x="15131" y="5631"/>
                </a:moveTo>
                <a:cubicBezTo>
                  <a:pt x="15332" y="5631"/>
                  <a:pt x="15530" y="5635"/>
                  <a:pt x="15726" y="5655"/>
                </a:cubicBezTo>
                <a:cubicBezTo>
                  <a:pt x="15751" y="5655"/>
                  <a:pt x="15776" y="5655"/>
                  <a:pt x="15801" y="5655"/>
                </a:cubicBezTo>
              </a:path>
              <a:path w="4392" h="3027">
                <a:moveTo>
                  <a:pt x="15205" y="5904"/>
                </a:moveTo>
                <a:cubicBezTo>
                  <a:pt x="15315" y="5904"/>
                  <a:pt x="15421" y="5895"/>
                  <a:pt x="15528" y="5879"/>
                </a:cubicBezTo>
                <a:cubicBezTo>
                  <a:pt x="15644" y="5856"/>
                  <a:pt x="15677" y="5849"/>
                  <a:pt x="15751" y="5829"/>
                </a:cubicBezTo>
              </a:path>
              <a:path w="4392" h="3027">
                <a:moveTo>
                  <a:pt x="11782" y="5779"/>
                </a:moveTo>
                <a:cubicBezTo>
                  <a:pt x="11743" y="5740"/>
                  <a:pt x="11697" y="5685"/>
                  <a:pt x="11633" y="5705"/>
                </a:cubicBezTo>
                <a:cubicBezTo>
                  <a:pt x="11617" y="5710"/>
                  <a:pt x="11504" y="5877"/>
                  <a:pt x="11485" y="5904"/>
                </a:cubicBezTo>
                <a:cubicBezTo>
                  <a:pt x="11435" y="5976"/>
                  <a:pt x="11372" y="6104"/>
                  <a:pt x="11410" y="6201"/>
                </a:cubicBezTo>
                <a:cubicBezTo>
                  <a:pt x="11426" y="6241"/>
                  <a:pt x="11574" y="6302"/>
                  <a:pt x="11609" y="6300"/>
                </a:cubicBezTo>
                <a:cubicBezTo>
                  <a:pt x="11665" y="6272"/>
                  <a:pt x="11689" y="6262"/>
                  <a:pt x="11733" y="6251"/>
                </a:cubicBezTo>
              </a:path>
              <a:path w="4392" h="3027">
                <a:moveTo>
                  <a:pt x="11981" y="5755"/>
                </a:moveTo>
                <a:cubicBezTo>
                  <a:pt x="11930" y="5842"/>
                  <a:pt x="11851" y="5951"/>
                  <a:pt x="11832" y="6052"/>
                </a:cubicBezTo>
                <a:cubicBezTo>
                  <a:pt x="11815" y="6146"/>
                  <a:pt x="11857" y="6234"/>
                  <a:pt x="11956" y="6251"/>
                </a:cubicBezTo>
                <a:cubicBezTo>
                  <a:pt x="12029" y="6264"/>
                  <a:pt x="12153" y="6244"/>
                  <a:pt x="12179" y="6176"/>
                </a:cubicBezTo>
                <a:cubicBezTo>
                  <a:pt x="12218" y="6075"/>
                  <a:pt x="12243" y="6006"/>
                  <a:pt x="12204" y="5904"/>
                </a:cubicBezTo>
                <a:cubicBezTo>
                  <a:pt x="12175" y="5828"/>
                  <a:pt x="12125" y="5753"/>
                  <a:pt x="12030" y="5755"/>
                </a:cubicBezTo>
                <a:cubicBezTo>
                  <a:pt x="11947" y="5757"/>
                  <a:pt x="11902" y="5790"/>
                  <a:pt x="11832" y="5804"/>
                </a:cubicBezTo>
              </a:path>
              <a:path w="4392" h="3027">
                <a:moveTo>
                  <a:pt x="12526" y="5705"/>
                </a:moveTo>
                <a:cubicBezTo>
                  <a:pt x="12437" y="5712"/>
                  <a:pt x="12354" y="5726"/>
                  <a:pt x="12278" y="5779"/>
                </a:cubicBezTo>
                <a:cubicBezTo>
                  <a:pt x="12204" y="5831"/>
                  <a:pt x="12292" y="5892"/>
                  <a:pt x="12328" y="5928"/>
                </a:cubicBezTo>
                <a:cubicBezTo>
                  <a:pt x="12404" y="6003"/>
                  <a:pt x="12545" y="6066"/>
                  <a:pt x="12576" y="6176"/>
                </a:cubicBezTo>
                <a:cubicBezTo>
                  <a:pt x="12587" y="6216"/>
                  <a:pt x="12550" y="6315"/>
                  <a:pt x="12502" y="6325"/>
                </a:cubicBezTo>
                <a:cubicBezTo>
                  <a:pt x="12423" y="6341"/>
                  <a:pt x="12380" y="6327"/>
                  <a:pt x="12328" y="6276"/>
                </a:cubicBezTo>
                <a:cubicBezTo>
                  <a:pt x="12269" y="6217"/>
                  <a:pt x="12246" y="6188"/>
                  <a:pt x="12229" y="6127"/>
                </a:cubicBezTo>
              </a:path>
              <a:path w="4392" h="3027">
                <a:moveTo>
                  <a:pt x="12650" y="5135"/>
                </a:moveTo>
                <a:cubicBezTo>
                  <a:pt x="12694" y="5148"/>
                  <a:pt x="12893" y="5175"/>
                  <a:pt x="12849" y="5283"/>
                </a:cubicBezTo>
                <a:cubicBezTo>
                  <a:pt x="12810" y="5378"/>
                  <a:pt x="12747" y="5422"/>
                  <a:pt x="12675" y="5482"/>
                </a:cubicBezTo>
                <a:cubicBezTo>
                  <a:pt x="12614" y="5533"/>
                  <a:pt x="12611" y="5538"/>
                  <a:pt x="12601" y="5606"/>
                </a:cubicBezTo>
                <a:cubicBezTo>
                  <a:pt x="12691" y="5651"/>
                  <a:pt x="12770" y="5670"/>
                  <a:pt x="12874" y="5680"/>
                </a:cubicBezTo>
                <a:cubicBezTo>
                  <a:pt x="12940" y="5680"/>
                  <a:pt x="12957" y="5680"/>
                  <a:pt x="12998" y="5680"/>
                </a:cubicBezTo>
              </a:path>
              <a:path w="4392" h="3027">
                <a:moveTo>
                  <a:pt x="13097" y="5680"/>
                </a:moveTo>
                <a:cubicBezTo>
                  <a:pt x="13168" y="6013"/>
                  <a:pt x="13146" y="6038"/>
                  <a:pt x="13395" y="6226"/>
                </a:cubicBezTo>
                <a:cubicBezTo>
                  <a:pt x="13480" y="6291"/>
                  <a:pt x="13526" y="6333"/>
                  <a:pt x="13618" y="6375"/>
                </a:cubicBezTo>
              </a:path>
              <a:path w="4392" h="3027">
                <a:moveTo>
                  <a:pt x="13295" y="5829"/>
                </a:moveTo>
                <a:cubicBezTo>
                  <a:pt x="13101" y="6039"/>
                  <a:pt x="12990" y="6168"/>
                  <a:pt x="12774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Ink 33"/>
          <p:cNvSpPr/>
          <p:nvPr/>
        </p:nvSpPr>
        <p:spPr>
          <a:xfrm>
            <a:off x="6411960" y="1268280"/>
            <a:ext cx="1098360" cy="1633680"/>
          </a:xfrm>
          <a:custGeom>
            <a:avLst/>
            <a:gdLst/>
            <a:ahLst/>
            <a:rect l="l" t="t" r="r" b="b"/>
            <a:pathLst>
              <a:path w="3052" h="4541">
                <a:moveTo>
                  <a:pt x="18182" y="3572"/>
                </a:moveTo>
                <a:cubicBezTo>
                  <a:pt x="18197" y="3652"/>
                  <a:pt x="18217" y="3719"/>
                  <a:pt x="18207" y="3820"/>
                </a:cubicBezTo>
                <a:cubicBezTo>
                  <a:pt x="18196" y="3932"/>
                  <a:pt x="18182" y="4047"/>
                  <a:pt x="18182" y="4167"/>
                </a:cubicBezTo>
                <a:cubicBezTo>
                  <a:pt x="18182" y="4326"/>
                  <a:pt x="18222" y="4480"/>
                  <a:pt x="18231" y="4638"/>
                </a:cubicBezTo>
                <a:cubicBezTo>
                  <a:pt x="18243" y="4848"/>
                  <a:pt x="18275" y="5050"/>
                  <a:pt x="18306" y="5259"/>
                </a:cubicBezTo>
                <a:cubicBezTo>
                  <a:pt x="18350" y="5558"/>
                  <a:pt x="18379" y="5853"/>
                  <a:pt x="18405" y="6152"/>
                </a:cubicBezTo>
                <a:cubicBezTo>
                  <a:pt x="18427" y="6404"/>
                  <a:pt x="18470" y="6668"/>
                  <a:pt x="18455" y="6921"/>
                </a:cubicBezTo>
                <a:cubicBezTo>
                  <a:pt x="18442" y="7137"/>
                  <a:pt x="18442" y="7325"/>
                  <a:pt x="18455" y="7541"/>
                </a:cubicBezTo>
                <a:cubicBezTo>
                  <a:pt x="18463" y="7677"/>
                  <a:pt x="18485" y="7783"/>
                  <a:pt x="18504" y="7913"/>
                </a:cubicBezTo>
                <a:cubicBezTo>
                  <a:pt x="18513" y="7974"/>
                  <a:pt x="18499" y="7979"/>
                  <a:pt x="18479" y="8037"/>
                </a:cubicBezTo>
              </a:path>
              <a:path w="3052" h="4541">
                <a:moveTo>
                  <a:pt x="19348" y="3522"/>
                </a:moveTo>
                <a:cubicBezTo>
                  <a:pt x="18886" y="3553"/>
                  <a:pt x="18440" y="3608"/>
                  <a:pt x="17983" y="3646"/>
                </a:cubicBezTo>
                <a:cubicBezTo>
                  <a:pt x="17891" y="3646"/>
                  <a:pt x="17865" y="3644"/>
                  <a:pt x="17810" y="3671"/>
                </a:cubicBezTo>
                <a:cubicBezTo>
                  <a:pt x="17991" y="3658"/>
                  <a:pt x="18173" y="3659"/>
                  <a:pt x="18355" y="3646"/>
                </a:cubicBezTo>
                <a:cubicBezTo>
                  <a:pt x="18646" y="3624"/>
                  <a:pt x="18932" y="3623"/>
                  <a:pt x="19224" y="3646"/>
                </a:cubicBezTo>
                <a:cubicBezTo>
                  <a:pt x="19618" y="3677"/>
                  <a:pt x="19999" y="3738"/>
                  <a:pt x="20389" y="3795"/>
                </a:cubicBezTo>
                <a:cubicBezTo>
                  <a:pt x="20533" y="3816"/>
                  <a:pt x="20698" y="3805"/>
                  <a:pt x="20836" y="3845"/>
                </a:cubicBezTo>
                <a:cubicBezTo>
                  <a:pt x="20844" y="3853"/>
                  <a:pt x="20853" y="3862"/>
                  <a:pt x="20861" y="3870"/>
                </a:cubicBezTo>
                <a:cubicBezTo>
                  <a:pt x="20627" y="3785"/>
                  <a:pt x="20328" y="3746"/>
                  <a:pt x="20092" y="3696"/>
                </a:cubicBezTo>
                <a:cubicBezTo>
                  <a:pt x="19710" y="3616"/>
                  <a:pt x="19340" y="3621"/>
                  <a:pt x="18951" y="3621"/>
                </a:cubicBezTo>
                <a:cubicBezTo>
                  <a:pt x="18635" y="3621"/>
                  <a:pt x="18323" y="3640"/>
                  <a:pt x="18008" y="3646"/>
                </a:cubicBezTo>
                <a:cubicBezTo>
                  <a:pt x="17917" y="3646"/>
                  <a:pt x="17893" y="3646"/>
                  <a:pt x="17835" y="3646"/>
                </a:cubicBezTo>
                <a:cubicBezTo>
                  <a:pt x="17988" y="3584"/>
                  <a:pt x="18191" y="3568"/>
                  <a:pt x="18355" y="3572"/>
                </a:cubicBezTo>
                <a:cubicBezTo>
                  <a:pt x="18757" y="3582"/>
                  <a:pt x="19158" y="3644"/>
                  <a:pt x="19546" y="3746"/>
                </a:cubicBezTo>
                <a:cubicBezTo>
                  <a:pt x="19708" y="3789"/>
                  <a:pt x="19812" y="3807"/>
                  <a:pt x="19943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Ink 34"/>
          <p:cNvSpPr/>
          <p:nvPr/>
        </p:nvSpPr>
        <p:spPr>
          <a:xfrm>
            <a:off x="633240" y="1901880"/>
            <a:ext cx="1108080" cy="652320"/>
          </a:xfrm>
          <a:custGeom>
            <a:avLst/>
            <a:gdLst/>
            <a:ahLst/>
            <a:rect l="l" t="t" r="r" b="b"/>
            <a:pathLst>
              <a:path w="3077" h="1812">
                <a:moveTo>
                  <a:pt x="3870" y="5283"/>
                </a:moveTo>
                <a:cubicBezTo>
                  <a:pt x="3863" y="5394"/>
                  <a:pt x="3845" y="5493"/>
                  <a:pt x="3845" y="5606"/>
                </a:cubicBezTo>
                <a:cubicBezTo>
                  <a:pt x="3845" y="5698"/>
                  <a:pt x="3870" y="5785"/>
                  <a:pt x="3870" y="5879"/>
                </a:cubicBezTo>
                <a:cubicBezTo>
                  <a:pt x="3870" y="5960"/>
                  <a:pt x="3889" y="6022"/>
                  <a:pt x="3894" y="6102"/>
                </a:cubicBezTo>
                <a:cubicBezTo>
                  <a:pt x="3894" y="6110"/>
                  <a:pt x="3894" y="6119"/>
                  <a:pt x="3894" y="6127"/>
                </a:cubicBezTo>
              </a:path>
              <a:path w="3077" h="1812">
                <a:moveTo>
                  <a:pt x="3497" y="5755"/>
                </a:moveTo>
                <a:cubicBezTo>
                  <a:pt x="3579" y="5755"/>
                  <a:pt x="3646" y="5740"/>
                  <a:pt x="3721" y="5730"/>
                </a:cubicBezTo>
                <a:cubicBezTo>
                  <a:pt x="3808" y="5718"/>
                  <a:pt x="3909" y="5703"/>
                  <a:pt x="3994" y="5680"/>
                </a:cubicBezTo>
                <a:cubicBezTo>
                  <a:pt x="4016" y="5674"/>
                  <a:pt x="4180" y="5640"/>
                  <a:pt x="4167" y="5655"/>
                </a:cubicBezTo>
                <a:cubicBezTo>
                  <a:pt x="4151" y="5663"/>
                  <a:pt x="4134" y="5672"/>
                  <a:pt x="4118" y="5680"/>
                </a:cubicBezTo>
              </a:path>
              <a:path w="3077" h="1812">
                <a:moveTo>
                  <a:pt x="1761" y="6921"/>
                </a:moveTo>
                <a:cubicBezTo>
                  <a:pt x="1858" y="6905"/>
                  <a:pt x="1972" y="6896"/>
                  <a:pt x="2084" y="6896"/>
                </a:cubicBezTo>
                <a:cubicBezTo>
                  <a:pt x="2284" y="6896"/>
                  <a:pt x="2479" y="6873"/>
                  <a:pt x="2679" y="6871"/>
                </a:cubicBezTo>
                <a:cubicBezTo>
                  <a:pt x="3051" y="6868"/>
                  <a:pt x="3425" y="6871"/>
                  <a:pt x="3795" y="6896"/>
                </a:cubicBezTo>
                <a:cubicBezTo>
                  <a:pt x="4065" y="6914"/>
                  <a:pt x="4348" y="6928"/>
                  <a:pt x="4614" y="6970"/>
                </a:cubicBezTo>
                <a:cubicBezTo>
                  <a:pt x="4691" y="6982"/>
                  <a:pt x="4801" y="6974"/>
                  <a:pt x="4837" y="6970"/>
                </a:cubicBezTo>
              </a:path>
              <a:path w="3077" h="1812">
                <a:moveTo>
                  <a:pt x="3125" y="6921"/>
                </a:moveTo>
                <a:cubicBezTo>
                  <a:pt x="2880" y="6966"/>
                  <a:pt x="2393" y="6853"/>
                  <a:pt x="2456" y="7094"/>
                </a:cubicBezTo>
                <a:cubicBezTo>
                  <a:pt x="2674" y="7050"/>
                  <a:pt x="2901" y="7061"/>
                  <a:pt x="3125" y="7045"/>
                </a:cubicBezTo>
                <a:cubicBezTo>
                  <a:pt x="3471" y="7010"/>
                  <a:pt x="3653" y="7002"/>
                  <a:pt x="3919" y="7020"/>
                </a:cubicBezTo>
              </a:path>
              <a:path w="3077" h="1812">
                <a:moveTo>
                  <a:pt x="2828" y="6846"/>
                </a:moveTo>
                <a:lnTo>
                  <a:pt x="2828" y="6846"/>
                </a:lnTo>
              </a:path>
              <a:path w="3077" h="1812">
                <a:moveTo>
                  <a:pt x="3324" y="6772"/>
                </a:moveTo>
                <a:cubicBezTo>
                  <a:pt x="3340" y="6788"/>
                  <a:pt x="3357" y="6805"/>
                  <a:pt x="3373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Ink 35"/>
          <p:cNvSpPr/>
          <p:nvPr/>
        </p:nvSpPr>
        <p:spPr>
          <a:xfrm>
            <a:off x="1071720" y="2768760"/>
            <a:ext cx="2268360" cy="830160"/>
          </a:xfrm>
          <a:custGeom>
            <a:avLst/>
            <a:gdLst/>
            <a:ahLst/>
            <a:rect l="l" t="t" r="r" b="b"/>
            <a:pathLst>
              <a:path w="6301" h="2308">
                <a:moveTo>
                  <a:pt x="3845" y="8310"/>
                </a:moveTo>
                <a:cubicBezTo>
                  <a:pt x="3845" y="8361"/>
                  <a:pt x="3844" y="8380"/>
                  <a:pt x="3820" y="8409"/>
                </a:cubicBezTo>
                <a:cubicBezTo>
                  <a:pt x="3825" y="8358"/>
                  <a:pt x="3826" y="8270"/>
                  <a:pt x="3870" y="8235"/>
                </a:cubicBezTo>
                <a:cubicBezTo>
                  <a:pt x="3922" y="8195"/>
                  <a:pt x="3964" y="8167"/>
                  <a:pt x="4018" y="8210"/>
                </a:cubicBezTo>
                <a:cubicBezTo>
                  <a:pt x="4078" y="8258"/>
                  <a:pt x="4089" y="8315"/>
                  <a:pt x="4118" y="8384"/>
                </a:cubicBezTo>
                <a:cubicBezTo>
                  <a:pt x="4158" y="8478"/>
                  <a:pt x="4157" y="8652"/>
                  <a:pt x="4142" y="8756"/>
                </a:cubicBezTo>
                <a:cubicBezTo>
                  <a:pt x="4126" y="8866"/>
                  <a:pt x="4071" y="8984"/>
                  <a:pt x="4018" y="9079"/>
                </a:cubicBezTo>
                <a:cubicBezTo>
                  <a:pt x="3964" y="9177"/>
                  <a:pt x="3891" y="9226"/>
                  <a:pt x="3795" y="9277"/>
                </a:cubicBezTo>
                <a:cubicBezTo>
                  <a:pt x="3716" y="9319"/>
                  <a:pt x="3640" y="9311"/>
                  <a:pt x="3572" y="9252"/>
                </a:cubicBezTo>
                <a:cubicBezTo>
                  <a:pt x="3491" y="9182"/>
                  <a:pt x="3497" y="9160"/>
                  <a:pt x="3497" y="9054"/>
                </a:cubicBezTo>
                <a:cubicBezTo>
                  <a:pt x="3497" y="8972"/>
                  <a:pt x="3497" y="8910"/>
                  <a:pt x="3572" y="8855"/>
                </a:cubicBezTo>
                <a:cubicBezTo>
                  <a:pt x="3622" y="8818"/>
                  <a:pt x="3681" y="8788"/>
                  <a:pt x="3746" y="8806"/>
                </a:cubicBezTo>
                <a:cubicBezTo>
                  <a:pt x="3800" y="8821"/>
                  <a:pt x="3886" y="8932"/>
                  <a:pt x="3919" y="8979"/>
                </a:cubicBezTo>
                <a:cubicBezTo>
                  <a:pt x="4005" y="9102"/>
                  <a:pt x="3981" y="9203"/>
                  <a:pt x="4043" y="9327"/>
                </a:cubicBezTo>
              </a:path>
              <a:path w="6301" h="2308">
                <a:moveTo>
                  <a:pt x="4713" y="8483"/>
                </a:moveTo>
                <a:cubicBezTo>
                  <a:pt x="4732" y="8641"/>
                  <a:pt x="4719" y="8735"/>
                  <a:pt x="4713" y="8880"/>
                </a:cubicBezTo>
                <a:cubicBezTo>
                  <a:pt x="4708" y="9003"/>
                  <a:pt x="4713" y="9128"/>
                  <a:pt x="4713" y="9252"/>
                </a:cubicBezTo>
              </a:path>
              <a:path w="6301" h="2308">
                <a:moveTo>
                  <a:pt x="4490" y="8880"/>
                </a:moveTo>
                <a:cubicBezTo>
                  <a:pt x="4580" y="8830"/>
                  <a:pt x="4658" y="8820"/>
                  <a:pt x="4762" y="8806"/>
                </a:cubicBezTo>
                <a:cubicBezTo>
                  <a:pt x="4820" y="8806"/>
                  <a:pt x="4845" y="8806"/>
                  <a:pt x="4887" y="8806"/>
                </a:cubicBezTo>
              </a:path>
              <a:path w="6301" h="2308">
                <a:moveTo>
                  <a:pt x="5184" y="8310"/>
                </a:moveTo>
                <a:cubicBezTo>
                  <a:pt x="5320" y="8251"/>
                  <a:pt x="5391" y="8201"/>
                  <a:pt x="5531" y="8260"/>
                </a:cubicBezTo>
                <a:cubicBezTo>
                  <a:pt x="5616" y="8296"/>
                  <a:pt x="5606" y="8325"/>
                  <a:pt x="5606" y="8409"/>
                </a:cubicBezTo>
                <a:cubicBezTo>
                  <a:pt x="5606" y="8501"/>
                  <a:pt x="5559" y="8540"/>
                  <a:pt x="5482" y="8582"/>
                </a:cubicBezTo>
                <a:cubicBezTo>
                  <a:pt x="5410" y="8622"/>
                  <a:pt x="5336" y="8652"/>
                  <a:pt x="5259" y="8682"/>
                </a:cubicBezTo>
                <a:cubicBezTo>
                  <a:pt x="5348" y="8726"/>
                  <a:pt x="5435" y="8762"/>
                  <a:pt x="5507" y="8830"/>
                </a:cubicBezTo>
                <a:cubicBezTo>
                  <a:pt x="5639" y="8955"/>
                  <a:pt x="5610" y="9154"/>
                  <a:pt x="5531" y="9302"/>
                </a:cubicBezTo>
                <a:cubicBezTo>
                  <a:pt x="5490" y="9378"/>
                  <a:pt x="5359" y="9398"/>
                  <a:pt x="5283" y="9401"/>
                </a:cubicBezTo>
                <a:cubicBezTo>
                  <a:pt x="5185" y="9405"/>
                  <a:pt x="5116" y="9388"/>
                  <a:pt x="5060" y="9327"/>
                </a:cubicBezTo>
                <a:cubicBezTo>
                  <a:pt x="5032" y="9299"/>
                  <a:pt x="5023" y="9285"/>
                  <a:pt x="5035" y="9252"/>
                </a:cubicBezTo>
              </a:path>
              <a:path w="6301" h="2308">
                <a:moveTo>
                  <a:pt x="6127" y="8905"/>
                </a:moveTo>
                <a:cubicBezTo>
                  <a:pt x="6116" y="8848"/>
                  <a:pt x="6094" y="8796"/>
                  <a:pt x="6028" y="8781"/>
                </a:cubicBezTo>
                <a:cubicBezTo>
                  <a:pt x="5972" y="8768"/>
                  <a:pt x="5909" y="8809"/>
                  <a:pt x="5879" y="8855"/>
                </a:cubicBezTo>
                <a:cubicBezTo>
                  <a:pt x="5821" y="8945"/>
                  <a:pt x="5807" y="8980"/>
                  <a:pt x="5779" y="9079"/>
                </a:cubicBezTo>
                <a:cubicBezTo>
                  <a:pt x="5749" y="9186"/>
                  <a:pt x="5754" y="9235"/>
                  <a:pt x="5829" y="9327"/>
                </a:cubicBezTo>
                <a:cubicBezTo>
                  <a:pt x="5870" y="9378"/>
                  <a:pt x="5942" y="9398"/>
                  <a:pt x="6003" y="9401"/>
                </a:cubicBezTo>
                <a:cubicBezTo>
                  <a:pt x="6071" y="9401"/>
                  <a:pt x="6090" y="9404"/>
                  <a:pt x="6127" y="9376"/>
                </a:cubicBezTo>
              </a:path>
              <a:path w="6301" h="2308">
                <a:moveTo>
                  <a:pt x="6449" y="8830"/>
                </a:moveTo>
                <a:cubicBezTo>
                  <a:pt x="6355" y="8925"/>
                  <a:pt x="6312" y="8990"/>
                  <a:pt x="6300" y="9128"/>
                </a:cubicBezTo>
                <a:cubicBezTo>
                  <a:pt x="6295" y="9187"/>
                  <a:pt x="6287" y="9258"/>
                  <a:pt x="6325" y="9302"/>
                </a:cubicBezTo>
                <a:cubicBezTo>
                  <a:pt x="6375" y="9359"/>
                  <a:pt x="6449" y="9367"/>
                  <a:pt x="6524" y="9351"/>
                </a:cubicBezTo>
                <a:cubicBezTo>
                  <a:pt x="6643" y="9326"/>
                  <a:pt x="6674" y="9279"/>
                  <a:pt x="6722" y="9178"/>
                </a:cubicBezTo>
                <a:cubicBezTo>
                  <a:pt x="6755" y="9109"/>
                  <a:pt x="6766" y="9022"/>
                  <a:pt x="6722" y="8954"/>
                </a:cubicBezTo>
                <a:cubicBezTo>
                  <a:pt x="6653" y="8847"/>
                  <a:pt x="6597" y="8812"/>
                  <a:pt x="6474" y="8806"/>
                </a:cubicBezTo>
                <a:cubicBezTo>
                  <a:pt x="6407" y="8803"/>
                  <a:pt x="6399" y="8807"/>
                  <a:pt x="6424" y="8756"/>
                </a:cubicBezTo>
              </a:path>
              <a:path w="6301" h="2308">
                <a:moveTo>
                  <a:pt x="7045" y="8731"/>
                </a:moveTo>
                <a:cubicBezTo>
                  <a:pt x="6953" y="8765"/>
                  <a:pt x="6862" y="8795"/>
                  <a:pt x="6772" y="8830"/>
                </a:cubicBezTo>
                <a:cubicBezTo>
                  <a:pt x="6803" y="8923"/>
                  <a:pt x="6871" y="9002"/>
                  <a:pt x="6945" y="9079"/>
                </a:cubicBezTo>
                <a:cubicBezTo>
                  <a:pt x="7009" y="9146"/>
                  <a:pt x="7108" y="9220"/>
                  <a:pt x="7094" y="9327"/>
                </a:cubicBezTo>
                <a:cubicBezTo>
                  <a:pt x="7085" y="9395"/>
                  <a:pt x="6957" y="9376"/>
                  <a:pt x="6921" y="9376"/>
                </a:cubicBezTo>
                <a:cubicBezTo>
                  <a:pt x="6829" y="9376"/>
                  <a:pt x="6769" y="9328"/>
                  <a:pt x="6722" y="9252"/>
                </a:cubicBezTo>
                <a:cubicBezTo>
                  <a:pt x="6714" y="9236"/>
                  <a:pt x="6705" y="9219"/>
                  <a:pt x="6697" y="9203"/>
                </a:cubicBezTo>
              </a:path>
              <a:path w="6301" h="2308">
                <a:moveTo>
                  <a:pt x="7045" y="8285"/>
                </a:moveTo>
                <a:cubicBezTo>
                  <a:pt x="7123" y="8270"/>
                  <a:pt x="7345" y="8186"/>
                  <a:pt x="7392" y="8310"/>
                </a:cubicBezTo>
                <a:cubicBezTo>
                  <a:pt x="7422" y="8391"/>
                  <a:pt x="7366" y="8433"/>
                  <a:pt x="7317" y="8483"/>
                </a:cubicBezTo>
                <a:cubicBezTo>
                  <a:pt x="7260" y="8540"/>
                  <a:pt x="7196" y="8628"/>
                  <a:pt x="7268" y="8706"/>
                </a:cubicBezTo>
                <a:cubicBezTo>
                  <a:pt x="7324" y="8735"/>
                  <a:pt x="7348" y="8746"/>
                  <a:pt x="7392" y="8756"/>
                </a:cubicBezTo>
              </a:path>
              <a:path w="6301" h="2308">
                <a:moveTo>
                  <a:pt x="7789" y="8954"/>
                </a:moveTo>
                <a:cubicBezTo>
                  <a:pt x="7797" y="9169"/>
                  <a:pt x="7778" y="9222"/>
                  <a:pt x="7938" y="9351"/>
                </a:cubicBezTo>
                <a:cubicBezTo>
                  <a:pt x="8068" y="9456"/>
                  <a:pt x="8063" y="9451"/>
                  <a:pt x="8210" y="9451"/>
                </a:cubicBezTo>
              </a:path>
              <a:path w="6301" h="2308">
                <a:moveTo>
                  <a:pt x="8235" y="8880"/>
                </a:moveTo>
                <a:cubicBezTo>
                  <a:pt x="8119" y="8932"/>
                  <a:pt x="7946" y="8999"/>
                  <a:pt x="7863" y="9103"/>
                </a:cubicBezTo>
                <a:cubicBezTo>
                  <a:pt x="7778" y="9209"/>
                  <a:pt x="7700" y="9315"/>
                  <a:pt x="7615" y="9426"/>
                </a:cubicBezTo>
                <a:cubicBezTo>
                  <a:pt x="7583" y="9467"/>
                  <a:pt x="7590" y="9497"/>
                  <a:pt x="7590" y="9550"/>
                </a:cubicBezTo>
              </a:path>
              <a:path w="6301" h="2308">
                <a:moveTo>
                  <a:pt x="8186" y="8086"/>
                </a:moveTo>
                <a:cubicBezTo>
                  <a:pt x="8302" y="8272"/>
                  <a:pt x="8372" y="8419"/>
                  <a:pt x="8434" y="8632"/>
                </a:cubicBezTo>
                <a:cubicBezTo>
                  <a:pt x="8494" y="8840"/>
                  <a:pt x="8540" y="9037"/>
                  <a:pt x="8483" y="9252"/>
                </a:cubicBezTo>
                <a:cubicBezTo>
                  <a:pt x="8425" y="9473"/>
                  <a:pt x="8273" y="9639"/>
                  <a:pt x="8062" y="9723"/>
                </a:cubicBezTo>
                <a:cubicBezTo>
                  <a:pt x="7931" y="9749"/>
                  <a:pt x="7882" y="9758"/>
                  <a:pt x="7789" y="9748"/>
                </a:cubicBezTo>
              </a:path>
              <a:path w="6301" h="2308">
                <a:moveTo>
                  <a:pt x="3448" y="7689"/>
                </a:moveTo>
                <a:cubicBezTo>
                  <a:pt x="3300" y="7896"/>
                  <a:pt x="3190" y="8071"/>
                  <a:pt x="3101" y="8310"/>
                </a:cubicBezTo>
                <a:cubicBezTo>
                  <a:pt x="3029" y="8502"/>
                  <a:pt x="2981" y="8675"/>
                  <a:pt x="2977" y="8880"/>
                </a:cubicBezTo>
                <a:cubicBezTo>
                  <a:pt x="2972" y="9127"/>
                  <a:pt x="3014" y="9227"/>
                  <a:pt x="3125" y="9451"/>
                </a:cubicBezTo>
              </a:path>
              <a:path w="6301" h="2308">
                <a:moveTo>
                  <a:pt x="9277" y="8136"/>
                </a:moveTo>
                <a:cubicBezTo>
                  <a:pt x="9196" y="8257"/>
                  <a:pt x="9128" y="8383"/>
                  <a:pt x="9054" y="8508"/>
                </a:cubicBezTo>
                <a:cubicBezTo>
                  <a:pt x="8936" y="8707"/>
                  <a:pt x="8836" y="8926"/>
                  <a:pt x="8781" y="9153"/>
                </a:cubicBezTo>
                <a:cubicBezTo>
                  <a:pt x="8743" y="9310"/>
                  <a:pt x="8731" y="9518"/>
                  <a:pt x="8781" y="9674"/>
                </a:cubicBezTo>
                <a:cubicBezTo>
                  <a:pt x="8832" y="9831"/>
                  <a:pt x="8947" y="9918"/>
                  <a:pt x="9079" y="99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Ink 36"/>
          <p:cNvSpPr/>
          <p:nvPr/>
        </p:nvSpPr>
        <p:spPr>
          <a:xfrm>
            <a:off x="3473280" y="3017880"/>
            <a:ext cx="1179720" cy="590400"/>
          </a:xfrm>
          <a:custGeom>
            <a:avLst/>
            <a:gdLst/>
            <a:ahLst/>
            <a:rect l="l" t="t" r="r" b="b"/>
            <a:pathLst>
              <a:path w="3275" h="1638">
                <a:moveTo>
                  <a:pt x="10120" y="8830"/>
                </a:moveTo>
                <a:cubicBezTo>
                  <a:pt x="10032" y="8882"/>
                  <a:pt x="9943" y="8918"/>
                  <a:pt x="9847" y="8954"/>
                </a:cubicBezTo>
                <a:cubicBezTo>
                  <a:pt x="9764" y="8985"/>
                  <a:pt x="9650" y="9001"/>
                  <a:pt x="9699" y="9128"/>
                </a:cubicBezTo>
                <a:cubicBezTo>
                  <a:pt x="9731" y="9212"/>
                  <a:pt x="9869" y="9277"/>
                  <a:pt x="9922" y="9351"/>
                </a:cubicBezTo>
                <a:cubicBezTo>
                  <a:pt x="9987" y="9441"/>
                  <a:pt x="10099" y="9460"/>
                  <a:pt x="10071" y="9599"/>
                </a:cubicBezTo>
                <a:cubicBezTo>
                  <a:pt x="10054" y="9681"/>
                  <a:pt x="9945" y="9736"/>
                  <a:pt x="9872" y="9748"/>
                </a:cubicBezTo>
                <a:cubicBezTo>
                  <a:pt x="9802" y="9760"/>
                  <a:pt x="9665" y="9735"/>
                  <a:pt x="9649" y="9649"/>
                </a:cubicBezTo>
                <a:cubicBezTo>
                  <a:pt x="9649" y="9616"/>
                  <a:pt x="9649" y="9583"/>
                  <a:pt x="9649" y="9550"/>
                </a:cubicBezTo>
              </a:path>
              <a:path w="3275" h="1638">
                <a:moveTo>
                  <a:pt x="10468" y="9103"/>
                </a:moveTo>
                <a:cubicBezTo>
                  <a:pt x="10461" y="9257"/>
                  <a:pt x="10445" y="9402"/>
                  <a:pt x="10393" y="9550"/>
                </a:cubicBezTo>
                <a:cubicBezTo>
                  <a:pt x="10371" y="9612"/>
                  <a:pt x="10368" y="9655"/>
                  <a:pt x="10368" y="9723"/>
                </a:cubicBezTo>
                <a:cubicBezTo>
                  <a:pt x="10400" y="9661"/>
                  <a:pt x="10408" y="9630"/>
                  <a:pt x="10393" y="9575"/>
                </a:cubicBezTo>
              </a:path>
              <a:path w="3275" h="1638">
                <a:moveTo>
                  <a:pt x="10393" y="8682"/>
                </a:moveTo>
                <a:cubicBezTo>
                  <a:pt x="10401" y="8682"/>
                  <a:pt x="10410" y="8682"/>
                  <a:pt x="10418" y="8682"/>
                </a:cubicBezTo>
              </a:path>
              <a:path w="3275" h="1638">
                <a:moveTo>
                  <a:pt x="10641" y="9327"/>
                </a:moveTo>
                <a:cubicBezTo>
                  <a:pt x="10635" y="9437"/>
                  <a:pt x="10616" y="9539"/>
                  <a:pt x="10616" y="9649"/>
                </a:cubicBezTo>
                <a:cubicBezTo>
                  <a:pt x="10616" y="9776"/>
                  <a:pt x="10629" y="9560"/>
                  <a:pt x="10641" y="9525"/>
                </a:cubicBezTo>
                <a:cubicBezTo>
                  <a:pt x="10679" y="9416"/>
                  <a:pt x="10681" y="9355"/>
                  <a:pt x="10740" y="9252"/>
                </a:cubicBezTo>
                <a:cubicBezTo>
                  <a:pt x="10773" y="9195"/>
                  <a:pt x="10845" y="9143"/>
                  <a:pt x="10914" y="9128"/>
                </a:cubicBezTo>
                <a:cubicBezTo>
                  <a:pt x="10978" y="9114"/>
                  <a:pt x="11072" y="9220"/>
                  <a:pt x="11088" y="9277"/>
                </a:cubicBezTo>
                <a:cubicBezTo>
                  <a:pt x="11126" y="9410"/>
                  <a:pt x="11100" y="9542"/>
                  <a:pt x="11088" y="9674"/>
                </a:cubicBezTo>
                <a:cubicBezTo>
                  <a:pt x="11087" y="9682"/>
                  <a:pt x="11059" y="9898"/>
                  <a:pt x="11063" y="9897"/>
                </a:cubicBezTo>
                <a:cubicBezTo>
                  <a:pt x="11079" y="9880"/>
                  <a:pt x="11096" y="9864"/>
                  <a:pt x="11112" y="9847"/>
                </a:cubicBezTo>
              </a:path>
              <a:path w="3275" h="1638">
                <a:moveTo>
                  <a:pt x="11261" y="8483"/>
                </a:moveTo>
                <a:cubicBezTo>
                  <a:pt x="11352" y="8524"/>
                  <a:pt x="11443" y="8566"/>
                  <a:pt x="11534" y="8607"/>
                </a:cubicBezTo>
                <a:cubicBezTo>
                  <a:pt x="11498" y="8680"/>
                  <a:pt x="11460" y="8735"/>
                  <a:pt x="11410" y="8806"/>
                </a:cubicBezTo>
                <a:cubicBezTo>
                  <a:pt x="11342" y="8902"/>
                  <a:pt x="11461" y="8929"/>
                  <a:pt x="11534" y="8954"/>
                </a:cubicBezTo>
                <a:cubicBezTo>
                  <a:pt x="11599" y="8976"/>
                  <a:pt x="11614" y="8984"/>
                  <a:pt x="11658" y="8979"/>
                </a:cubicBezTo>
              </a:path>
              <a:path w="3275" h="1638">
                <a:moveTo>
                  <a:pt x="11981" y="9227"/>
                </a:moveTo>
                <a:cubicBezTo>
                  <a:pt x="12072" y="9393"/>
                  <a:pt x="12156" y="9724"/>
                  <a:pt x="12402" y="9773"/>
                </a:cubicBezTo>
                <a:cubicBezTo>
                  <a:pt x="12427" y="9773"/>
                  <a:pt x="12452" y="9773"/>
                  <a:pt x="12477" y="9773"/>
                </a:cubicBezTo>
              </a:path>
              <a:path w="3275" h="1638">
                <a:moveTo>
                  <a:pt x="12229" y="9203"/>
                </a:moveTo>
                <a:cubicBezTo>
                  <a:pt x="12116" y="9316"/>
                  <a:pt x="11939" y="9458"/>
                  <a:pt x="11857" y="9599"/>
                </a:cubicBezTo>
                <a:cubicBezTo>
                  <a:pt x="11852" y="9608"/>
                  <a:pt x="11736" y="9835"/>
                  <a:pt x="11782" y="9872"/>
                </a:cubicBezTo>
                <a:cubicBezTo>
                  <a:pt x="11799" y="9872"/>
                  <a:pt x="11815" y="9872"/>
                  <a:pt x="11832" y="9872"/>
                </a:cubicBezTo>
              </a:path>
              <a:path w="3275" h="1638">
                <a:moveTo>
                  <a:pt x="12551" y="8384"/>
                </a:moveTo>
                <a:cubicBezTo>
                  <a:pt x="12699" y="8592"/>
                  <a:pt x="12847" y="8755"/>
                  <a:pt x="12898" y="9004"/>
                </a:cubicBezTo>
                <a:cubicBezTo>
                  <a:pt x="12945" y="9235"/>
                  <a:pt x="12903" y="9377"/>
                  <a:pt x="12824" y="9599"/>
                </a:cubicBezTo>
                <a:cubicBezTo>
                  <a:pt x="12777" y="9729"/>
                  <a:pt x="12714" y="9867"/>
                  <a:pt x="12601" y="9947"/>
                </a:cubicBezTo>
                <a:cubicBezTo>
                  <a:pt x="12563" y="9974"/>
                  <a:pt x="12510" y="10000"/>
                  <a:pt x="12477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Ink 37"/>
          <p:cNvSpPr/>
          <p:nvPr/>
        </p:nvSpPr>
        <p:spPr>
          <a:xfrm>
            <a:off x="4857840" y="3348000"/>
            <a:ext cx="1872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13494" y="9302"/>
                </a:moveTo>
                <a:cubicBezTo>
                  <a:pt x="13659" y="9306"/>
                  <a:pt x="13765" y="9312"/>
                  <a:pt x="13915" y="9327"/>
                </a:cubicBezTo>
              </a:path>
              <a:path w="522" h="323">
                <a:moveTo>
                  <a:pt x="13667" y="9550"/>
                </a:moveTo>
                <a:cubicBezTo>
                  <a:pt x="13799" y="9594"/>
                  <a:pt x="13886" y="9618"/>
                  <a:pt x="14015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Ink 38"/>
          <p:cNvSpPr/>
          <p:nvPr/>
        </p:nvSpPr>
        <p:spPr>
          <a:xfrm>
            <a:off x="6429240" y="2751120"/>
            <a:ext cx="438120" cy="293760"/>
          </a:xfrm>
          <a:custGeom>
            <a:avLst/>
            <a:gdLst/>
            <a:ahLst/>
            <a:rect l="l" t="t" r="r" b="b"/>
            <a:pathLst>
              <a:path w="1217" h="819">
                <a:moveTo>
                  <a:pt x="17859" y="7640"/>
                </a:moveTo>
                <a:cubicBezTo>
                  <a:pt x="17880" y="7743"/>
                  <a:pt x="17968" y="7837"/>
                  <a:pt x="18033" y="7938"/>
                </a:cubicBezTo>
                <a:cubicBezTo>
                  <a:pt x="18112" y="8060"/>
                  <a:pt x="18179" y="8187"/>
                  <a:pt x="18256" y="8310"/>
                </a:cubicBezTo>
                <a:cubicBezTo>
                  <a:pt x="18271" y="8333"/>
                  <a:pt x="18340" y="8447"/>
                  <a:pt x="18380" y="8458"/>
                </a:cubicBezTo>
                <a:cubicBezTo>
                  <a:pt x="18461" y="8481"/>
                  <a:pt x="18554" y="8336"/>
                  <a:pt x="18604" y="8285"/>
                </a:cubicBezTo>
                <a:cubicBezTo>
                  <a:pt x="18713" y="8176"/>
                  <a:pt x="18826" y="8055"/>
                  <a:pt x="18926" y="7938"/>
                </a:cubicBezTo>
                <a:cubicBezTo>
                  <a:pt x="19004" y="7833"/>
                  <a:pt x="19032" y="7793"/>
                  <a:pt x="19075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11"/>
          <p:cNvGraphicFramePr/>
          <p:nvPr/>
        </p:nvGraphicFramePr>
        <p:xfrm>
          <a:off x="990720" y="609480"/>
          <a:ext cx="764532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645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Ink 12"/>
          <p:cNvSpPr/>
          <p:nvPr/>
        </p:nvSpPr>
        <p:spPr>
          <a:xfrm>
            <a:off x="830160" y="1670040"/>
            <a:ext cx="1492200" cy="901800"/>
          </a:xfrm>
          <a:custGeom>
            <a:avLst/>
            <a:gdLst/>
            <a:ahLst/>
            <a:rect l="l" t="t" r="r" b="b"/>
            <a:pathLst>
              <a:path w="4143" h="2507">
                <a:moveTo>
                  <a:pt x="3200" y="4638"/>
                </a:moveTo>
                <a:cubicBezTo>
                  <a:pt x="3105" y="4734"/>
                  <a:pt x="3009" y="4830"/>
                  <a:pt x="2927" y="4936"/>
                </a:cubicBezTo>
                <a:cubicBezTo>
                  <a:pt x="2824" y="5069"/>
                  <a:pt x="2718" y="5188"/>
                  <a:pt x="2629" y="5333"/>
                </a:cubicBezTo>
                <a:cubicBezTo>
                  <a:pt x="2537" y="5482"/>
                  <a:pt x="2409" y="5663"/>
                  <a:pt x="2356" y="5829"/>
                </a:cubicBezTo>
                <a:cubicBezTo>
                  <a:pt x="2323" y="5932"/>
                  <a:pt x="2275" y="6221"/>
                  <a:pt x="2307" y="6325"/>
                </a:cubicBezTo>
                <a:cubicBezTo>
                  <a:pt x="2393" y="6604"/>
                  <a:pt x="2483" y="6828"/>
                  <a:pt x="2654" y="7045"/>
                </a:cubicBezTo>
                <a:cubicBezTo>
                  <a:pt x="2679" y="7078"/>
                  <a:pt x="2704" y="7111"/>
                  <a:pt x="2729" y="7144"/>
                </a:cubicBezTo>
              </a:path>
              <a:path w="4143" h="2507">
                <a:moveTo>
                  <a:pt x="3274" y="5953"/>
                </a:moveTo>
                <a:cubicBezTo>
                  <a:pt x="3274" y="5998"/>
                  <a:pt x="3271" y="6011"/>
                  <a:pt x="3299" y="6028"/>
                </a:cubicBezTo>
                <a:cubicBezTo>
                  <a:pt x="3290" y="5966"/>
                  <a:pt x="3270" y="5929"/>
                  <a:pt x="3225" y="5879"/>
                </a:cubicBezTo>
                <a:cubicBezTo>
                  <a:pt x="3193" y="5844"/>
                  <a:pt x="3122" y="5794"/>
                  <a:pt x="3076" y="5779"/>
                </a:cubicBezTo>
                <a:cubicBezTo>
                  <a:pt x="3035" y="5765"/>
                  <a:pt x="2954" y="5831"/>
                  <a:pt x="2927" y="5854"/>
                </a:cubicBezTo>
                <a:cubicBezTo>
                  <a:pt x="2868" y="5904"/>
                  <a:pt x="2808" y="6050"/>
                  <a:pt x="2778" y="6127"/>
                </a:cubicBezTo>
                <a:cubicBezTo>
                  <a:pt x="2746" y="6210"/>
                  <a:pt x="2732" y="6312"/>
                  <a:pt x="2729" y="6400"/>
                </a:cubicBezTo>
                <a:cubicBezTo>
                  <a:pt x="2726" y="6490"/>
                  <a:pt x="2725" y="6593"/>
                  <a:pt x="2778" y="6672"/>
                </a:cubicBezTo>
                <a:cubicBezTo>
                  <a:pt x="2815" y="6728"/>
                  <a:pt x="2913" y="6783"/>
                  <a:pt x="2977" y="6796"/>
                </a:cubicBezTo>
                <a:cubicBezTo>
                  <a:pt x="3060" y="6812"/>
                  <a:pt x="3147" y="6793"/>
                  <a:pt x="3225" y="6772"/>
                </a:cubicBezTo>
              </a:path>
              <a:path w="4143" h="2507">
                <a:moveTo>
                  <a:pt x="3646" y="5928"/>
                </a:moveTo>
                <a:cubicBezTo>
                  <a:pt x="3560" y="5974"/>
                  <a:pt x="3470" y="6013"/>
                  <a:pt x="3398" y="6077"/>
                </a:cubicBezTo>
                <a:cubicBezTo>
                  <a:pt x="3324" y="6143"/>
                  <a:pt x="3403" y="6186"/>
                  <a:pt x="3448" y="6226"/>
                </a:cubicBezTo>
                <a:cubicBezTo>
                  <a:pt x="3522" y="6292"/>
                  <a:pt x="3599" y="6356"/>
                  <a:pt x="3671" y="6424"/>
                </a:cubicBezTo>
                <a:cubicBezTo>
                  <a:pt x="3781" y="6527"/>
                  <a:pt x="3752" y="6570"/>
                  <a:pt x="3671" y="6697"/>
                </a:cubicBezTo>
                <a:cubicBezTo>
                  <a:pt x="3637" y="6750"/>
                  <a:pt x="3503" y="6765"/>
                  <a:pt x="3448" y="6772"/>
                </a:cubicBezTo>
                <a:cubicBezTo>
                  <a:pt x="3382" y="6780"/>
                  <a:pt x="3348" y="6776"/>
                  <a:pt x="3299" y="6747"/>
                </a:cubicBezTo>
              </a:path>
              <a:path w="4143" h="2507">
                <a:moveTo>
                  <a:pt x="4093" y="6052"/>
                </a:moveTo>
                <a:cubicBezTo>
                  <a:pt x="4101" y="6069"/>
                  <a:pt x="4110" y="6085"/>
                  <a:pt x="4118" y="6102"/>
                </a:cubicBezTo>
                <a:cubicBezTo>
                  <a:pt x="4109" y="6042"/>
                  <a:pt x="4082" y="6005"/>
                  <a:pt x="4043" y="5953"/>
                </a:cubicBezTo>
                <a:cubicBezTo>
                  <a:pt x="4035" y="5945"/>
                  <a:pt x="4026" y="5936"/>
                  <a:pt x="4018" y="5928"/>
                </a:cubicBezTo>
                <a:cubicBezTo>
                  <a:pt x="3927" y="6003"/>
                  <a:pt x="3916" y="6004"/>
                  <a:pt x="3845" y="6127"/>
                </a:cubicBezTo>
                <a:cubicBezTo>
                  <a:pt x="3797" y="6209"/>
                  <a:pt x="3773" y="6306"/>
                  <a:pt x="3770" y="6400"/>
                </a:cubicBezTo>
                <a:cubicBezTo>
                  <a:pt x="3766" y="6511"/>
                  <a:pt x="3817" y="6623"/>
                  <a:pt x="3870" y="6722"/>
                </a:cubicBezTo>
                <a:cubicBezTo>
                  <a:pt x="3890" y="6759"/>
                  <a:pt x="4007" y="6800"/>
                  <a:pt x="4043" y="6796"/>
                </a:cubicBezTo>
                <a:cubicBezTo>
                  <a:pt x="4122" y="6788"/>
                  <a:pt x="4165" y="6703"/>
                  <a:pt x="4192" y="6648"/>
                </a:cubicBezTo>
              </a:path>
              <a:path w="4143" h="2507">
                <a:moveTo>
                  <a:pt x="4192" y="5531"/>
                </a:moveTo>
                <a:cubicBezTo>
                  <a:pt x="4295" y="5449"/>
                  <a:pt x="4328" y="5381"/>
                  <a:pt x="4440" y="5482"/>
                </a:cubicBezTo>
                <a:cubicBezTo>
                  <a:pt x="4491" y="5528"/>
                  <a:pt x="4464" y="5601"/>
                  <a:pt x="4440" y="5655"/>
                </a:cubicBezTo>
                <a:cubicBezTo>
                  <a:pt x="4406" y="5730"/>
                  <a:pt x="4378" y="5805"/>
                  <a:pt x="4341" y="5879"/>
                </a:cubicBezTo>
                <a:cubicBezTo>
                  <a:pt x="4303" y="5954"/>
                  <a:pt x="4311" y="5973"/>
                  <a:pt x="4366" y="6028"/>
                </a:cubicBezTo>
                <a:cubicBezTo>
                  <a:pt x="4425" y="6087"/>
                  <a:pt x="4461" y="6098"/>
                  <a:pt x="4539" y="6127"/>
                </a:cubicBezTo>
              </a:path>
              <a:path w="4143" h="2507">
                <a:moveTo>
                  <a:pt x="4614" y="6201"/>
                </a:moveTo>
                <a:cubicBezTo>
                  <a:pt x="4621" y="6335"/>
                  <a:pt x="4628" y="6437"/>
                  <a:pt x="4713" y="6548"/>
                </a:cubicBezTo>
                <a:cubicBezTo>
                  <a:pt x="4776" y="6630"/>
                  <a:pt x="4847" y="6679"/>
                  <a:pt x="4936" y="6722"/>
                </a:cubicBezTo>
                <a:cubicBezTo>
                  <a:pt x="4993" y="6749"/>
                  <a:pt x="5023" y="6764"/>
                  <a:pt x="5085" y="6772"/>
                </a:cubicBezTo>
              </a:path>
              <a:path w="4143" h="2507">
                <a:moveTo>
                  <a:pt x="4986" y="6003"/>
                </a:moveTo>
                <a:cubicBezTo>
                  <a:pt x="4824" y="6076"/>
                  <a:pt x="4815" y="6217"/>
                  <a:pt x="4713" y="6375"/>
                </a:cubicBezTo>
                <a:cubicBezTo>
                  <a:pt x="4636" y="6494"/>
                  <a:pt x="4567" y="6609"/>
                  <a:pt x="4490" y="6722"/>
                </a:cubicBezTo>
                <a:cubicBezTo>
                  <a:pt x="4448" y="6783"/>
                  <a:pt x="4424" y="6851"/>
                  <a:pt x="4415" y="6921"/>
                </a:cubicBezTo>
              </a:path>
              <a:path w="4143" h="2507">
                <a:moveTo>
                  <a:pt x="5606" y="6449"/>
                </a:moveTo>
                <a:cubicBezTo>
                  <a:pt x="5714" y="6449"/>
                  <a:pt x="5823" y="6456"/>
                  <a:pt x="5928" y="6474"/>
                </a:cubicBezTo>
                <a:cubicBezTo>
                  <a:pt x="6067" y="6498"/>
                  <a:pt x="6209" y="6520"/>
                  <a:pt x="6350" y="6524"/>
                </a:cubicBezTo>
                <a:cubicBezTo>
                  <a:pt x="6383" y="6524"/>
                  <a:pt x="6416" y="6524"/>
                  <a:pt x="6449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Ink 13"/>
          <p:cNvSpPr/>
          <p:nvPr/>
        </p:nvSpPr>
        <p:spPr>
          <a:xfrm>
            <a:off x="2652840" y="2152800"/>
            <a:ext cx="17280" cy="384120"/>
          </a:xfrm>
          <a:custGeom>
            <a:avLst/>
            <a:gdLst/>
            <a:ahLst/>
            <a:rect l="l" t="t" r="r" b="b"/>
            <a:pathLst>
              <a:path w="51" h="1068">
                <a:moveTo>
                  <a:pt x="7417" y="5978"/>
                </a:moveTo>
                <a:cubicBezTo>
                  <a:pt x="7387" y="6145"/>
                  <a:pt x="7351" y="6328"/>
                  <a:pt x="7367" y="6499"/>
                </a:cubicBezTo>
                <a:cubicBezTo>
                  <a:pt x="7377" y="6604"/>
                  <a:pt x="7405" y="6716"/>
                  <a:pt x="7417" y="6821"/>
                </a:cubicBezTo>
                <a:cubicBezTo>
                  <a:pt x="7426" y="6902"/>
                  <a:pt x="7414" y="6971"/>
                  <a:pt x="7392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Ink 14"/>
          <p:cNvSpPr/>
          <p:nvPr/>
        </p:nvSpPr>
        <p:spPr>
          <a:xfrm>
            <a:off x="3224160" y="1724040"/>
            <a:ext cx="2035080" cy="1000080"/>
          </a:xfrm>
          <a:custGeom>
            <a:avLst/>
            <a:gdLst/>
            <a:ahLst/>
            <a:rect l="l" t="t" r="r" b="b"/>
            <a:pathLst>
              <a:path w="5657" h="2779">
                <a:moveTo>
                  <a:pt x="9302" y="4787"/>
                </a:moveTo>
                <a:cubicBezTo>
                  <a:pt x="9414" y="4875"/>
                  <a:pt x="9498" y="4946"/>
                  <a:pt x="9550" y="5085"/>
                </a:cubicBezTo>
                <a:cubicBezTo>
                  <a:pt x="9606" y="5235"/>
                  <a:pt x="9681" y="5394"/>
                  <a:pt x="9699" y="5556"/>
                </a:cubicBezTo>
                <a:cubicBezTo>
                  <a:pt x="9736" y="5891"/>
                  <a:pt x="9677" y="6217"/>
                  <a:pt x="9550" y="6524"/>
                </a:cubicBezTo>
                <a:cubicBezTo>
                  <a:pt x="9456" y="6751"/>
                  <a:pt x="9320" y="6955"/>
                  <a:pt x="9203" y="7169"/>
                </a:cubicBezTo>
                <a:cubicBezTo>
                  <a:pt x="9127" y="7308"/>
                  <a:pt x="9053" y="7444"/>
                  <a:pt x="8954" y="7565"/>
                </a:cubicBezTo>
              </a:path>
              <a:path w="5657" h="2779">
                <a:moveTo>
                  <a:pt x="10269" y="5060"/>
                </a:moveTo>
                <a:cubicBezTo>
                  <a:pt x="10115" y="5246"/>
                  <a:pt x="9961" y="5420"/>
                  <a:pt x="9847" y="5631"/>
                </a:cubicBezTo>
                <a:cubicBezTo>
                  <a:pt x="9708" y="5889"/>
                  <a:pt x="9613" y="6179"/>
                  <a:pt x="9599" y="6474"/>
                </a:cubicBezTo>
                <a:cubicBezTo>
                  <a:pt x="9584" y="6809"/>
                  <a:pt x="9620" y="6949"/>
                  <a:pt x="9847" y="7169"/>
                </a:cubicBezTo>
                <a:cubicBezTo>
                  <a:pt x="9986" y="7304"/>
                  <a:pt x="10114" y="7344"/>
                  <a:pt x="10294" y="7417"/>
                </a:cubicBezTo>
              </a:path>
              <a:path w="5657" h="2779">
                <a:moveTo>
                  <a:pt x="10542" y="6152"/>
                </a:moveTo>
                <a:cubicBezTo>
                  <a:pt x="10518" y="6241"/>
                  <a:pt x="10497" y="6294"/>
                  <a:pt x="10517" y="6375"/>
                </a:cubicBezTo>
                <a:cubicBezTo>
                  <a:pt x="10543" y="6384"/>
                  <a:pt x="10582" y="6341"/>
                  <a:pt x="10567" y="6276"/>
                </a:cubicBezTo>
                <a:cubicBezTo>
                  <a:pt x="10556" y="6231"/>
                  <a:pt x="10516" y="6142"/>
                  <a:pt x="10492" y="6102"/>
                </a:cubicBezTo>
                <a:cubicBezTo>
                  <a:pt x="10463" y="6053"/>
                  <a:pt x="10371" y="6033"/>
                  <a:pt x="10319" y="6052"/>
                </a:cubicBezTo>
                <a:cubicBezTo>
                  <a:pt x="10207" y="6093"/>
                  <a:pt x="10133" y="6156"/>
                  <a:pt x="10071" y="6251"/>
                </a:cubicBezTo>
                <a:cubicBezTo>
                  <a:pt x="10009" y="6346"/>
                  <a:pt x="9943" y="6407"/>
                  <a:pt x="9922" y="6524"/>
                </a:cubicBezTo>
                <a:cubicBezTo>
                  <a:pt x="9905" y="6617"/>
                  <a:pt x="9921" y="6718"/>
                  <a:pt x="9971" y="6796"/>
                </a:cubicBezTo>
                <a:cubicBezTo>
                  <a:pt x="10021" y="6875"/>
                  <a:pt x="10129" y="6953"/>
                  <a:pt x="10220" y="6970"/>
                </a:cubicBezTo>
                <a:cubicBezTo>
                  <a:pt x="10288" y="6970"/>
                  <a:pt x="10307" y="6973"/>
                  <a:pt x="10344" y="6945"/>
                </a:cubicBezTo>
              </a:path>
              <a:path w="5657" h="2779">
                <a:moveTo>
                  <a:pt x="11013" y="6201"/>
                </a:moveTo>
                <a:cubicBezTo>
                  <a:pt x="10926" y="6209"/>
                  <a:pt x="10867" y="6229"/>
                  <a:pt x="10790" y="6276"/>
                </a:cubicBezTo>
                <a:cubicBezTo>
                  <a:pt x="10661" y="6354"/>
                  <a:pt x="10730" y="6409"/>
                  <a:pt x="10815" y="6499"/>
                </a:cubicBezTo>
                <a:cubicBezTo>
                  <a:pt x="10869" y="6556"/>
                  <a:pt x="10960" y="6648"/>
                  <a:pt x="10988" y="6722"/>
                </a:cubicBezTo>
                <a:cubicBezTo>
                  <a:pt x="11013" y="6789"/>
                  <a:pt x="10954" y="6902"/>
                  <a:pt x="10889" y="6921"/>
                </a:cubicBezTo>
                <a:cubicBezTo>
                  <a:pt x="10826" y="6940"/>
                  <a:pt x="10696" y="6930"/>
                  <a:pt x="10641" y="6896"/>
                </a:cubicBezTo>
                <a:cubicBezTo>
                  <a:pt x="10607" y="6862"/>
                  <a:pt x="10598" y="6840"/>
                  <a:pt x="10616" y="6796"/>
                </a:cubicBezTo>
              </a:path>
              <a:path w="5657" h="2779">
                <a:moveTo>
                  <a:pt x="11361" y="6226"/>
                </a:moveTo>
                <a:cubicBezTo>
                  <a:pt x="11402" y="6285"/>
                  <a:pt x="11441" y="6345"/>
                  <a:pt x="11485" y="6400"/>
                </a:cubicBezTo>
                <a:cubicBezTo>
                  <a:pt x="11458" y="6266"/>
                  <a:pt x="11454" y="6207"/>
                  <a:pt x="11311" y="6251"/>
                </a:cubicBezTo>
                <a:cubicBezTo>
                  <a:pt x="11248" y="6270"/>
                  <a:pt x="11152" y="6378"/>
                  <a:pt x="11112" y="6424"/>
                </a:cubicBezTo>
                <a:cubicBezTo>
                  <a:pt x="11052" y="6494"/>
                  <a:pt x="11016" y="6604"/>
                  <a:pt x="11038" y="6697"/>
                </a:cubicBezTo>
                <a:cubicBezTo>
                  <a:pt x="11061" y="6792"/>
                  <a:pt x="11138" y="6932"/>
                  <a:pt x="11237" y="6970"/>
                </a:cubicBezTo>
                <a:cubicBezTo>
                  <a:pt x="11282" y="6988"/>
                  <a:pt x="11374" y="7016"/>
                  <a:pt x="11410" y="6970"/>
                </a:cubicBezTo>
                <a:cubicBezTo>
                  <a:pt x="11418" y="6954"/>
                  <a:pt x="11427" y="6937"/>
                  <a:pt x="11435" y="6921"/>
                </a:cubicBezTo>
              </a:path>
              <a:path w="5657" h="2779">
                <a:moveTo>
                  <a:pt x="11609" y="5730"/>
                </a:moveTo>
                <a:cubicBezTo>
                  <a:pt x="11700" y="5725"/>
                  <a:pt x="11905" y="5710"/>
                  <a:pt x="11807" y="5879"/>
                </a:cubicBezTo>
                <a:cubicBezTo>
                  <a:pt x="11773" y="5938"/>
                  <a:pt x="11653" y="5973"/>
                  <a:pt x="11633" y="6028"/>
                </a:cubicBezTo>
                <a:cubicBezTo>
                  <a:pt x="11599" y="6123"/>
                  <a:pt x="11704" y="6155"/>
                  <a:pt x="11757" y="6176"/>
                </a:cubicBezTo>
                <a:cubicBezTo>
                  <a:pt x="11805" y="6200"/>
                  <a:pt x="11820" y="6208"/>
                  <a:pt x="11857" y="6201"/>
                </a:cubicBezTo>
              </a:path>
              <a:path w="5657" h="2779">
                <a:moveTo>
                  <a:pt x="12030" y="6375"/>
                </a:moveTo>
                <a:cubicBezTo>
                  <a:pt x="12056" y="6512"/>
                  <a:pt x="12080" y="6659"/>
                  <a:pt x="12204" y="6747"/>
                </a:cubicBezTo>
                <a:cubicBezTo>
                  <a:pt x="12343" y="6846"/>
                  <a:pt x="12412" y="6879"/>
                  <a:pt x="12576" y="6846"/>
                </a:cubicBezTo>
              </a:path>
              <a:path w="5657" h="2779">
                <a:moveTo>
                  <a:pt x="12402" y="6226"/>
                </a:moveTo>
                <a:cubicBezTo>
                  <a:pt x="12300" y="6362"/>
                  <a:pt x="12217" y="6521"/>
                  <a:pt x="12105" y="6648"/>
                </a:cubicBezTo>
                <a:cubicBezTo>
                  <a:pt x="11998" y="6770"/>
                  <a:pt x="11899" y="6886"/>
                  <a:pt x="11782" y="6995"/>
                </a:cubicBezTo>
              </a:path>
              <a:path w="5657" h="2779">
                <a:moveTo>
                  <a:pt x="13146" y="6424"/>
                </a:moveTo>
                <a:cubicBezTo>
                  <a:pt x="13347" y="6430"/>
                  <a:pt x="13540" y="6449"/>
                  <a:pt x="13742" y="6449"/>
                </a:cubicBezTo>
                <a:cubicBezTo>
                  <a:pt x="13851" y="6449"/>
                  <a:pt x="13878" y="6454"/>
                  <a:pt x="13940" y="6424"/>
                </a:cubicBezTo>
              </a:path>
              <a:path w="5657" h="2779">
                <a:moveTo>
                  <a:pt x="14610" y="5631"/>
                </a:moveTo>
                <a:cubicBezTo>
                  <a:pt x="14601" y="5761"/>
                  <a:pt x="14576" y="5902"/>
                  <a:pt x="14536" y="6028"/>
                </a:cubicBezTo>
                <a:cubicBezTo>
                  <a:pt x="14481" y="6201"/>
                  <a:pt x="14478" y="6320"/>
                  <a:pt x="14486" y="6499"/>
                </a:cubicBezTo>
                <a:cubicBezTo>
                  <a:pt x="14493" y="6651"/>
                  <a:pt x="14532" y="6794"/>
                  <a:pt x="14536" y="6945"/>
                </a:cubicBezTo>
                <a:cubicBezTo>
                  <a:pt x="14536" y="7038"/>
                  <a:pt x="14534" y="7064"/>
                  <a:pt x="14560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Ink 15"/>
          <p:cNvSpPr/>
          <p:nvPr/>
        </p:nvSpPr>
        <p:spPr>
          <a:xfrm>
            <a:off x="6000840" y="1490760"/>
            <a:ext cx="830160" cy="1358640"/>
          </a:xfrm>
          <a:custGeom>
            <a:avLst/>
            <a:gdLst/>
            <a:ahLst/>
            <a:rect l="l" t="t" r="r" b="b"/>
            <a:pathLst>
              <a:path w="2308" h="3772">
                <a:moveTo>
                  <a:pt x="16669" y="4142"/>
                </a:moveTo>
                <a:cubicBezTo>
                  <a:pt x="16815" y="4198"/>
                  <a:pt x="16934" y="4247"/>
                  <a:pt x="17016" y="4390"/>
                </a:cubicBezTo>
                <a:cubicBezTo>
                  <a:pt x="17120" y="4572"/>
                  <a:pt x="17193" y="4775"/>
                  <a:pt x="17289" y="4961"/>
                </a:cubicBezTo>
                <a:cubicBezTo>
                  <a:pt x="17456" y="5285"/>
                  <a:pt x="17540" y="5662"/>
                  <a:pt x="17562" y="6028"/>
                </a:cubicBezTo>
                <a:cubicBezTo>
                  <a:pt x="17582" y="6360"/>
                  <a:pt x="17592" y="6690"/>
                  <a:pt x="17537" y="7020"/>
                </a:cubicBezTo>
                <a:cubicBezTo>
                  <a:pt x="17493" y="7282"/>
                  <a:pt x="17434" y="7539"/>
                  <a:pt x="17289" y="7764"/>
                </a:cubicBezTo>
                <a:cubicBezTo>
                  <a:pt x="17217" y="7859"/>
                  <a:pt x="17196" y="7890"/>
                  <a:pt x="17115" y="7913"/>
                </a:cubicBezTo>
              </a:path>
              <a:path w="2308" h="3772">
                <a:moveTo>
                  <a:pt x="18182" y="6127"/>
                </a:moveTo>
                <a:cubicBezTo>
                  <a:pt x="18394" y="6029"/>
                  <a:pt x="18496" y="6028"/>
                  <a:pt x="18728" y="6028"/>
                </a:cubicBezTo>
                <a:cubicBezTo>
                  <a:pt x="18761" y="6028"/>
                  <a:pt x="18794" y="6028"/>
                  <a:pt x="18827" y="6028"/>
                </a:cubicBezTo>
              </a:path>
              <a:path w="2308" h="3772">
                <a:moveTo>
                  <a:pt x="18430" y="6400"/>
                </a:moveTo>
                <a:cubicBezTo>
                  <a:pt x="18684" y="6456"/>
                  <a:pt x="18790" y="6475"/>
                  <a:pt x="18976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Ink 16"/>
          <p:cNvSpPr/>
          <p:nvPr/>
        </p:nvSpPr>
        <p:spPr>
          <a:xfrm>
            <a:off x="1643040" y="2894040"/>
            <a:ext cx="1197000" cy="588960"/>
          </a:xfrm>
          <a:custGeom>
            <a:avLst/>
            <a:gdLst/>
            <a:ahLst/>
            <a:rect l="l" t="t" r="r" b="b"/>
            <a:pathLst>
              <a:path w="3325" h="1638">
                <a:moveTo>
                  <a:pt x="5011" y="8458"/>
                </a:moveTo>
                <a:cubicBezTo>
                  <a:pt x="5011" y="8508"/>
                  <a:pt x="5011" y="8525"/>
                  <a:pt x="5011" y="8558"/>
                </a:cubicBezTo>
                <a:cubicBezTo>
                  <a:pt x="4975" y="8574"/>
                  <a:pt x="5021" y="8489"/>
                  <a:pt x="4961" y="8409"/>
                </a:cubicBezTo>
                <a:cubicBezTo>
                  <a:pt x="4910" y="8342"/>
                  <a:pt x="4852" y="8361"/>
                  <a:pt x="4787" y="8409"/>
                </a:cubicBezTo>
                <a:cubicBezTo>
                  <a:pt x="4710" y="8466"/>
                  <a:pt x="4662" y="8556"/>
                  <a:pt x="4614" y="8632"/>
                </a:cubicBezTo>
                <a:cubicBezTo>
                  <a:pt x="4574" y="8696"/>
                  <a:pt x="4567" y="8806"/>
                  <a:pt x="4564" y="8880"/>
                </a:cubicBezTo>
                <a:cubicBezTo>
                  <a:pt x="4560" y="8991"/>
                  <a:pt x="4566" y="9100"/>
                  <a:pt x="4663" y="9178"/>
                </a:cubicBezTo>
                <a:cubicBezTo>
                  <a:pt x="4728" y="9230"/>
                  <a:pt x="4834" y="9227"/>
                  <a:pt x="4911" y="9227"/>
                </a:cubicBezTo>
                <a:cubicBezTo>
                  <a:pt x="4989" y="9227"/>
                  <a:pt x="5019" y="9195"/>
                  <a:pt x="5085" y="9153"/>
                </a:cubicBezTo>
              </a:path>
              <a:path w="3325" h="1638">
                <a:moveTo>
                  <a:pt x="5358" y="8607"/>
                </a:moveTo>
                <a:cubicBezTo>
                  <a:pt x="5321" y="8690"/>
                  <a:pt x="5266" y="8779"/>
                  <a:pt x="5234" y="8855"/>
                </a:cubicBezTo>
                <a:cubicBezTo>
                  <a:pt x="5187" y="8968"/>
                  <a:pt x="5191" y="9105"/>
                  <a:pt x="5259" y="9203"/>
                </a:cubicBezTo>
                <a:cubicBezTo>
                  <a:pt x="5317" y="9287"/>
                  <a:pt x="5363" y="9277"/>
                  <a:pt x="5457" y="9277"/>
                </a:cubicBezTo>
                <a:cubicBezTo>
                  <a:pt x="5563" y="9277"/>
                  <a:pt x="5690" y="9164"/>
                  <a:pt x="5730" y="9054"/>
                </a:cubicBezTo>
                <a:cubicBezTo>
                  <a:pt x="5753" y="8990"/>
                  <a:pt x="5770" y="8851"/>
                  <a:pt x="5755" y="8781"/>
                </a:cubicBezTo>
                <a:cubicBezTo>
                  <a:pt x="5730" y="8661"/>
                  <a:pt x="5655" y="8615"/>
                  <a:pt x="5556" y="8558"/>
                </a:cubicBezTo>
                <a:cubicBezTo>
                  <a:pt x="5460" y="8503"/>
                  <a:pt x="5369" y="8549"/>
                  <a:pt x="5283" y="8607"/>
                </a:cubicBezTo>
                <a:cubicBezTo>
                  <a:pt x="5245" y="8633"/>
                  <a:pt x="5230" y="8642"/>
                  <a:pt x="5259" y="8657"/>
                </a:cubicBezTo>
              </a:path>
              <a:path w="3325" h="1638">
                <a:moveTo>
                  <a:pt x="6127" y="8186"/>
                </a:moveTo>
                <a:cubicBezTo>
                  <a:pt x="6166" y="8250"/>
                  <a:pt x="6152" y="8329"/>
                  <a:pt x="6152" y="8409"/>
                </a:cubicBezTo>
                <a:cubicBezTo>
                  <a:pt x="6152" y="8566"/>
                  <a:pt x="6148" y="8749"/>
                  <a:pt x="6127" y="8905"/>
                </a:cubicBezTo>
                <a:cubicBezTo>
                  <a:pt x="6112" y="9015"/>
                  <a:pt x="6081" y="9138"/>
                  <a:pt x="6102" y="9252"/>
                </a:cubicBezTo>
                <a:cubicBezTo>
                  <a:pt x="6114" y="9316"/>
                  <a:pt x="6115" y="9385"/>
                  <a:pt x="6176" y="9401"/>
                </a:cubicBezTo>
              </a:path>
              <a:path w="3325" h="1638">
                <a:moveTo>
                  <a:pt x="5928" y="8830"/>
                </a:moveTo>
                <a:cubicBezTo>
                  <a:pt x="5996" y="8864"/>
                  <a:pt x="6071" y="8855"/>
                  <a:pt x="6152" y="8855"/>
                </a:cubicBezTo>
                <a:cubicBezTo>
                  <a:pt x="6220" y="8855"/>
                  <a:pt x="6239" y="8858"/>
                  <a:pt x="6276" y="8830"/>
                </a:cubicBezTo>
              </a:path>
              <a:path w="3325" h="1638">
                <a:moveTo>
                  <a:pt x="6449" y="8136"/>
                </a:moveTo>
                <a:cubicBezTo>
                  <a:pt x="6548" y="8070"/>
                  <a:pt x="6700" y="7946"/>
                  <a:pt x="6821" y="8086"/>
                </a:cubicBezTo>
                <a:cubicBezTo>
                  <a:pt x="6873" y="8146"/>
                  <a:pt x="6838" y="8231"/>
                  <a:pt x="6796" y="8285"/>
                </a:cubicBezTo>
                <a:cubicBezTo>
                  <a:pt x="6727" y="8373"/>
                  <a:pt x="6671" y="8458"/>
                  <a:pt x="6623" y="8558"/>
                </a:cubicBezTo>
                <a:cubicBezTo>
                  <a:pt x="6593" y="8621"/>
                  <a:pt x="6617" y="8748"/>
                  <a:pt x="6697" y="8781"/>
                </a:cubicBezTo>
                <a:cubicBezTo>
                  <a:pt x="6738" y="8789"/>
                  <a:pt x="6780" y="8798"/>
                  <a:pt x="6821" y="8806"/>
                </a:cubicBezTo>
              </a:path>
              <a:path w="3325" h="1638">
                <a:moveTo>
                  <a:pt x="7169" y="8830"/>
                </a:moveTo>
                <a:cubicBezTo>
                  <a:pt x="7219" y="9043"/>
                  <a:pt x="7222" y="9193"/>
                  <a:pt x="7392" y="9327"/>
                </a:cubicBezTo>
                <a:cubicBezTo>
                  <a:pt x="7488" y="9403"/>
                  <a:pt x="7600" y="9438"/>
                  <a:pt x="7714" y="9475"/>
                </a:cubicBezTo>
              </a:path>
              <a:path w="3325" h="1638">
                <a:moveTo>
                  <a:pt x="7888" y="8830"/>
                </a:moveTo>
                <a:cubicBezTo>
                  <a:pt x="7661" y="8806"/>
                  <a:pt x="7616" y="8904"/>
                  <a:pt x="7466" y="9079"/>
                </a:cubicBezTo>
                <a:cubicBezTo>
                  <a:pt x="7365" y="9197"/>
                  <a:pt x="7266" y="9338"/>
                  <a:pt x="7193" y="9475"/>
                </a:cubicBezTo>
                <a:cubicBezTo>
                  <a:pt x="7152" y="9553"/>
                  <a:pt x="7129" y="9594"/>
                  <a:pt x="7119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Ink 17"/>
          <p:cNvSpPr/>
          <p:nvPr/>
        </p:nvSpPr>
        <p:spPr>
          <a:xfrm>
            <a:off x="3160800" y="322416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8806" y="8954"/>
                </a:moveTo>
                <a:cubicBezTo>
                  <a:pt x="8798" y="8962"/>
                  <a:pt x="8789" y="8971"/>
                  <a:pt x="8781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Ink 18"/>
          <p:cNvSpPr/>
          <p:nvPr/>
        </p:nvSpPr>
        <p:spPr>
          <a:xfrm>
            <a:off x="3446640" y="2973240"/>
            <a:ext cx="1304640" cy="608040"/>
          </a:xfrm>
          <a:custGeom>
            <a:avLst/>
            <a:gdLst/>
            <a:ahLst/>
            <a:rect l="l" t="t" r="r" b="b"/>
            <a:pathLst>
              <a:path w="3622" h="1688">
                <a:moveTo>
                  <a:pt x="10096" y="9004"/>
                </a:moveTo>
                <a:cubicBezTo>
                  <a:pt x="10043" y="8965"/>
                  <a:pt x="10037" y="8887"/>
                  <a:pt x="9947" y="8855"/>
                </a:cubicBezTo>
                <a:cubicBezTo>
                  <a:pt x="9877" y="8830"/>
                  <a:pt x="9791" y="8913"/>
                  <a:pt x="9748" y="8954"/>
                </a:cubicBezTo>
                <a:cubicBezTo>
                  <a:pt x="9697" y="9003"/>
                  <a:pt x="9593" y="9180"/>
                  <a:pt x="9575" y="9252"/>
                </a:cubicBezTo>
                <a:cubicBezTo>
                  <a:pt x="9548" y="9360"/>
                  <a:pt x="9571" y="9493"/>
                  <a:pt x="9624" y="9575"/>
                </a:cubicBezTo>
                <a:cubicBezTo>
                  <a:pt x="9729" y="9737"/>
                  <a:pt x="9756" y="9792"/>
                  <a:pt x="9947" y="9798"/>
                </a:cubicBezTo>
                <a:cubicBezTo>
                  <a:pt x="10047" y="9798"/>
                  <a:pt x="10081" y="9798"/>
                  <a:pt x="10145" y="9773"/>
                </a:cubicBezTo>
              </a:path>
              <a:path w="3622" h="1688">
                <a:moveTo>
                  <a:pt x="10641" y="9153"/>
                </a:moveTo>
                <a:cubicBezTo>
                  <a:pt x="10524" y="9226"/>
                  <a:pt x="10447" y="9295"/>
                  <a:pt x="10418" y="9451"/>
                </a:cubicBezTo>
                <a:cubicBezTo>
                  <a:pt x="10403" y="9533"/>
                  <a:pt x="10391" y="9668"/>
                  <a:pt x="10468" y="9723"/>
                </a:cubicBezTo>
                <a:cubicBezTo>
                  <a:pt x="10554" y="9785"/>
                  <a:pt x="10625" y="9773"/>
                  <a:pt x="10716" y="9748"/>
                </a:cubicBezTo>
                <a:cubicBezTo>
                  <a:pt x="10835" y="9715"/>
                  <a:pt x="10872" y="9683"/>
                  <a:pt x="10939" y="9575"/>
                </a:cubicBezTo>
                <a:cubicBezTo>
                  <a:pt x="11001" y="9476"/>
                  <a:pt x="10963" y="9298"/>
                  <a:pt x="10914" y="9203"/>
                </a:cubicBezTo>
                <a:cubicBezTo>
                  <a:pt x="10865" y="9109"/>
                  <a:pt x="10751" y="9088"/>
                  <a:pt x="10666" y="9054"/>
                </a:cubicBezTo>
                <a:cubicBezTo>
                  <a:pt x="10607" y="9031"/>
                  <a:pt x="10581" y="9029"/>
                  <a:pt x="10517" y="9029"/>
                </a:cubicBezTo>
              </a:path>
              <a:path w="3622" h="1688">
                <a:moveTo>
                  <a:pt x="11237" y="8508"/>
                </a:moveTo>
                <a:cubicBezTo>
                  <a:pt x="11266" y="8696"/>
                  <a:pt x="11237" y="8890"/>
                  <a:pt x="11261" y="9079"/>
                </a:cubicBezTo>
                <a:cubicBezTo>
                  <a:pt x="11277" y="9203"/>
                  <a:pt x="11324" y="9328"/>
                  <a:pt x="11336" y="9451"/>
                </a:cubicBezTo>
                <a:cubicBezTo>
                  <a:pt x="11344" y="9539"/>
                  <a:pt x="11361" y="9611"/>
                  <a:pt x="11361" y="9699"/>
                </a:cubicBezTo>
                <a:cubicBezTo>
                  <a:pt x="11361" y="9707"/>
                  <a:pt x="11361" y="9715"/>
                  <a:pt x="11361" y="9723"/>
                </a:cubicBezTo>
              </a:path>
              <a:path w="3622" h="1688">
                <a:moveTo>
                  <a:pt x="10988" y="9227"/>
                </a:moveTo>
                <a:cubicBezTo>
                  <a:pt x="11124" y="9227"/>
                  <a:pt x="11251" y="9215"/>
                  <a:pt x="11385" y="9203"/>
                </a:cubicBezTo>
                <a:cubicBezTo>
                  <a:pt x="11410" y="9203"/>
                  <a:pt x="11435" y="9203"/>
                  <a:pt x="11460" y="9203"/>
                </a:cubicBezTo>
              </a:path>
              <a:path w="3622" h="1688">
                <a:moveTo>
                  <a:pt x="11609" y="8384"/>
                </a:moveTo>
                <a:cubicBezTo>
                  <a:pt x="11745" y="8307"/>
                  <a:pt x="11847" y="8210"/>
                  <a:pt x="12005" y="8285"/>
                </a:cubicBezTo>
                <a:cubicBezTo>
                  <a:pt x="12150" y="8354"/>
                  <a:pt x="12177" y="8375"/>
                  <a:pt x="12105" y="8508"/>
                </a:cubicBezTo>
                <a:cubicBezTo>
                  <a:pt x="12045" y="8620"/>
                  <a:pt x="11950" y="8655"/>
                  <a:pt x="11857" y="8731"/>
                </a:cubicBezTo>
                <a:cubicBezTo>
                  <a:pt x="11769" y="8803"/>
                  <a:pt x="11766" y="8878"/>
                  <a:pt x="11807" y="8979"/>
                </a:cubicBezTo>
                <a:cubicBezTo>
                  <a:pt x="11861" y="9113"/>
                  <a:pt x="11957" y="9136"/>
                  <a:pt x="12080" y="9153"/>
                </a:cubicBezTo>
              </a:path>
              <a:path w="3622" h="1688">
                <a:moveTo>
                  <a:pt x="12551" y="9079"/>
                </a:moveTo>
                <a:cubicBezTo>
                  <a:pt x="12559" y="9279"/>
                  <a:pt x="12567" y="9384"/>
                  <a:pt x="12675" y="9550"/>
                </a:cubicBezTo>
                <a:cubicBezTo>
                  <a:pt x="12755" y="9673"/>
                  <a:pt x="12866" y="9806"/>
                  <a:pt x="12998" y="9872"/>
                </a:cubicBezTo>
                <a:cubicBezTo>
                  <a:pt x="13089" y="9895"/>
                  <a:pt x="13115" y="9901"/>
                  <a:pt x="13171" y="9922"/>
                </a:cubicBezTo>
              </a:path>
              <a:path w="3622" h="1688">
                <a:moveTo>
                  <a:pt x="13196" y="9004"/>
                </a:moveTo>
                <a:cubicBezTo>
                  <a:pt x="12963" y="9129"/>
                  <a:pt x="12905" y="9227"/>
                  <a:pt x="12725" y="9401"/>
                </a:cubicBezTo>
                <a:cubicBezTo>
                  <a:pt x="12600" y="9523"/>
                  <a:pt x="12524" y="9649"/>
                  <a:pt x="12427" y="9798"/>
                </a:cubicBezTo>
                <a:cubicBezTo>
                  <a:pt x="12363" y="9897"/>
                  <a:pt x="12303" y="9919"/>
                  <a:pt x="12427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Ink 19"/>
          <p:cNvSpPr/>
          <p:nvPr/>
        </p:nvSpPr>
        <p:spPr>
          <a:xfrm>
            <a:off x="5045040" y="3367080"/>
            <a:ext cx="169920" cy="125280"/>
          </a:xfrm>
          <a:custGeom>
            <a:avLst/>
            <a:gdLst/>
            <a:ahLst/>
            <a:rect l="l" t="t" r="r" b="b"/>
            <a:pathLst>
              <a:path w="472" h="349">
                <a:moveTo>
                  <a:pt x="14015" y="9376"/>
                </a:moveTo>
                <a:cubicBezTo>
                  <a:pt x="14208" y="9363"/>
                  <a:pt x="14306" y="9383"/>
                  <a:pt x="14486" y="9401"/>
                </a:cubicBezTo>
              </a:path>
              <a:path w="472" h="349">
                <a:moveTo>
                  <a:pt x="14139" y="9550"/>
                </a:moveTo>
                <a:cubicBezTo>
                  <a:pt x="14265" y="9617"/>
                  <a:pt x="14346" y="9652"/>
                  <a:pt x="14486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Ink 20"/>
          <p:cNvSpPr/>
          <p:nvPr/>
        </p:nvSpPr>
        <p:spPr>
          <a:xfrm>
            <a:off x="2803680" y="3902040"/>
            <a:ext cx="1295280" cy="706320"/>
          </a:xfrm>
          <a:custGeom>
            <a:avLst/>
            <a:gdLst/>
            <a:ahLst/>
            <a:rect l="l" t="t" r="r" b="b"/>
            <a:pathLst>
              <a:path w="3597" h="1960">
                <a:moveTo>
                  <a:pt x="8384" y="11782"/>
                </a:moveTo>
                <a:cubicBezTo>
                  <a:pt x="8362" y="11704"/>
                  <a:pt x="8360" y="11634"/>
                  <a:pt x="8334" y="11559"/>
                </a:cubicBezTo>
                <a:cubicBezTo>
                  <a:pt x="8311" y="11487"/>
                  <a:pt x="8304" y="11464"/>
                  <a:pt x="8260" y="11435"/>
                </a:cubicBezTo>
              </a:path>
              <a:path w="3597" h="1960">
                <a:moveTo>
                  <a:pt x="8136" y="11410"/>
                </a:moveTo>
                <a:cubicBezTo>
                  <a:pt x="8015" y="11514"/>
                  <a:pt x="7969" y="11598"/>
                  <a:pt x="7888" y="11733"/>
                </a:cubicBezTo>
                <a:cubicBezTo>
                  <a:pt x="7816" y="11853"/>
                  <a:pt x="7773" y="12010"/>
                  <a:pt x="7789" y="12154"/>
                </a:cubicBezTo>
                <a:cubicBezTo>
                  <a:pt x="7801" y="12263"/>
                  <a:pt x="7906" y="12456"/>
                  <a:pt x="7987" y="12526"/>
                </a:cubicBezTo>
                <a:cubicBezTo>
                  <a:pt x="8064" y="12593"/>
                  <a:pt x="8257" y="12686"/>
                  <a:pt x="8359" y="12675"/>
                </a:cubicBezTo>
                <a:cubicBezTo>
                  <a:pt x="8384" y="12667"/>
                  <a:pt x="8409" y="12658"/>
                  <a:pt x="8434" y="12650"/>
                </a:cubicBezTo>
              </a:path>
              <a:path w="3597" h="1960">
                <a:moveTo>
                  <a:pt x="8731" y="12105"/>
                </a:moveTo>
                <a:cubicBezTo>
                  <a:pt x="8612" y="12296"/>
                  <a:pt x="8511" y="12338"/>
                  <a:pt x="8657" y="12502"/>
                </a:cubicBezTo>
                <a:cubicBezTo>
                  <a:pt x="8711" y="12562"/>
                  <a:pt x="8847" y="12588"/>
                  <a:pt x="8930" y="12576"/>
                </a:cubicBezTo>
                <a:cubicBezTo>
                  <a:pt x="9064" y="12556"/>
                  <a:pt x="9109" y="12498"/>
                  <a:pt x="9153" y="12378"/>
                </a:cubicBezTo>
                <a:cubicBezTo>
                  <a:pt x="9200" y="12251"/>
                  <a:pt x="9221" y="12160"/>
                  <a:pt x="9203" y="12030"/>
                </a:cubicBezTo>
                <a:cubicBezTo>
                  <a:pt x="9179" y="11859"/>
                  <a:pt x="9143" y="11764"/>
                  <a:pt x="9004" y="11658"/>
                </a:cubicBezTo>
                <a:cubicBezTo>
                  <a:pt x="8908" y="11585"/>
                  <a:pt x="8804" y="11612"/>
                  <a:pt x="8706" y="11658"/>
                </a:cubicBezTo>
                <a:cubicBezTo>
                  <a:pt x="8588" y="11713"/>
                  <a:pt x="8514" y="11792"/>
                  <a:pt x="8533" y="11931"/>
                </a:cubicBezTo>
                <a:cubicBezTo>
                  <a:pt x="8547" y="12029"/>
                  <a:pt x="8633" y="12056"/>
                  <a:pt x="8706" y="12105"/>
                </a:cubicBezTo>
              </a:path>
              <a:path w="3597" h="1960">
                <a:moveTo>
                  <a:pt x="9550" y="11584"/>
                </a:moveTo>
                <a:cubicBezTo>
                  <a:pt x="9533" y="11762"/>
                  <a:pt x="9498" y="11973"/>
                  <a:pt x="9525" y="12154"/>
                </a:cubicBezTo>
                <a:cubicBezTo>
                  <a:pt x="9537" y="12237"/>
                  <a:pt x="9562" y="12322"/>
                  <a:pt x="9575" y="12402"/>
                </a:cubicBezTo>
                <a:cubicBezTo>
                  <a:pt x="9575" y="12419"/>
                  <a:pt x="9575" y="12435"/>
                  <a:pt x="9575" y="12452"/>
                </a:cubicBezTo>
              </a:path>
              <a:path w="3597" h="1960">
                <a:moveTo>
                  <a:pt x="9277" y="12005"/>
                </a:moveTo>
                <a:cubicBezTo>
                  <a:pt x="9387" y="12016"/>
                  <a:pt x="9487" y="12030"/>
                  <a:pt x="9599" y="12030"/>
                </a:cubicBezTo>
                <a:cubicBezTo>
                  <a:pt x="9632" y="12030"/>
                  <a:pt x="9666" y="12030"/>
                  <a:pt x="9699" y="12030"/>
                </a:cubicBezTo>
              </a:path>
              <a:path w="3597" h="1960">
                <a:moveTo>
                  <a:pt x="10071" y="11212"/>
                </a:moveTo>
                <a:cubicBezTo>
                  <a:pt x="10063" y="11270"/>
                  <a:pt x="10007" y="11322"/>
                  <a:pt x="10021" y="11385"/>
                </a:cubicBezTo>
                <a:cubicBezTo>
                  <a:pt x="10040" y="11470"/>
                  <a:pt x="10153" y="11435"/>
                  <a:pt x="10220" y="11435"/>
                </a:cubicBezTo>
              </a:path>
              <a:path w="3597" h="1960">
                <a:moveTo>
                  <a:pt x="10319" y="10840"/>
                </a:moveTo>
                <a:cubicBezTo>
                  <a:pt x="10291" y="10945"/>
                  <a:pt x="10255" y="11054"/>
                  <a:pt x="10244" y="11162"/>
                </a:cubicBezTo>
                <a:cubicBezTo>
                  <a:pt x="10224" y="11352"/>
                  <a:pt x="10255" y="11545"/>
                  <a:pt x="10269" y="11733"/>
                </a:cubicBezTo>
                <a:cubicBezTo>
                  <a:pt x="10269" y="11799"/>
                  <a:pt x="10269" y="11816"/>
                  <a:pt x="10269" y="11857"/>
                </a:cubicBezTo>
              </a:path>
              <a:path w="3597" h="1960">
                <a:moveTo>
                  <a:pt x="10716" y="11931"/>
                </a:moveTo>
                <a:cubicBezTo>
                  <a:pt x="10818" y="12130"/>
                  <a:pt x="10895" y="12351"/>
                  <a:pt x="11038" y="12526"/>
                </a:cubicBezTo>
                <a:cubicBezTo>
                  <a:pt x="11124" y="12631"/>
                  <a:pt x="11232" y="12715"/>
                  <a:pt x="11336" y="12799"/>
                </a:cubicBezTo>
              </a:path>
              <a:path w="3597" h="1960">
                <a:moveTo>
                  <a:pt x="11385" y="11906"/>
                </a:moveTo>
                <a:cubicBezTo>
                  <a:pt x="11130" y="12161"/>
                  <a:pt x="10894" y="12399"/>
                  <a:pt x="10666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Ink 21"/>
          <p:cNvSpPr/>
          <p:nvPr/>
        </p:nvSpPr>
        <p:spPr>
          <a:xfrm>
            <a:off x="4303800" y="435780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11956" y="12105"/>
                </a:moveTo>
                <a:cubicBezTo>
                  <a:pt x="12088" y="12105"/>
                  <a:pt x="12221" y="12105"/>
                  <a:pt x="12353" y="12105"/>
                </a:cubicBezTo>
              </a:path>
              <a:path w="472" h="422">
                <a:moveTo>
                  <a:pt x="12105" y="12427"/>
                </a:moveTo>
                <a:cubicBezTo>
                  <a:pt x="12233" y="12513"/>
                  <a:pt x="12277" y="12526"/>
                  <a:pt x="12427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22"/>
          <p:cNvSpPr/>
          <p:nvPr/>
        </p:nvSpPr>
        <p:spPr>
          <a:xfrm>
            <a:off x="4680000" y="4116240"/>
            <a:ext cx="1116000" cy="706680"/>
          </a:xfrm>
          <a:custGeom>
            <a:avLst/>
            <a:gdLst/>
            <a:ahLst/>
            <a:rect l="l" t="t" r="r" b="b"/>
            <a:pathLst>
              <a:path w="3101" h="1961">
                <a:moveTo>
                  <a:pt x="13370" y="12229"/>
                </a:moveTo>
                <a:cubicBezTo>
                  <a:pt x="13418" y="12229"/>
                  <a:pt x="13460" y="12144"/>
                  <a:pt x="13444" y="12055"/>
                </a:cubicBezTo>
                <a:cubicBezTo>
                  <a:pt x="13437" y="12016"/>
                  <a:pt x="13365" y="11929"/>
                  <a:pt x="13320" y="11931"/>
                </a:cubicBezTo>
                <a:cubicBezTo>
                  <a:pt x="13247" y="11934"/>
                  <a:pt x="13141" y="12001"/>
                  <a:pt x="13097" y="12055"/>
                </a:cubicBezTo>
                <a:cubicBezTo>
                  <a:pt x="13027" y="12140"/>
                  <a:pt x="12956" y="12233"/>
                  <a:pt x="12998" y="12353"/>
                </a:cubicBezTo>
                <a:cubicBezTo>
                  <a:pt x="13045" y="12487"/>
                  <a:pt x="13167" y="12613"/>
                  <a:pt x="13295" y="12675"/>
                </a:cubicBezTo>
                <a:cubicBezTo>
                  <a:pt x="13370" y="12700"/>
                  <a:pt x="13394" y="12708"/>
                  <a:pt x="13444" y="12725"/>
                </a:cubicBezTo>
              </a:path>
              <a:path w="3101" h="1961">
                <a:moveTo>
                  <a:pt x="13692" y="12576"/>
                </a:moveTo>
                <a:cubicBezTo>
                  <a:pt x="13743" y="12500"/>
                  <a:pt x="13817" y="12470"/>
                  <a:pt x="13816" y="12378"/>
                </a:cubicBezTo>
                <a:cubicBezTo>
                  <a:pt x="13777" y="12437"/>
                  <a:pt x="13741" y="12525"/>
                  <a:pt x="13767" y="12601"/>
                </a:cubicBezTo>
                <a:cubicBezTo>
                  <a:pt x="13805" y="12712"/>
                  <a:pt x="13912" y="12821"/>
                  <a:pt x="14015" y="12874"/>
                </a:cubicBezTo>
                <a:cubicBezTo>
                  <a:pt x="14082" y="12908"/>
                  <a:pt x="14182" y="12908"/>
                  <a:pt x="14238" y="12849"/>
                </a:cubicBezTo>
                <a:cubicBezTo>
                  <a:pt x="14332" y="12749"/>
                  <a:pt x="14372" y="12583"/>
                  <a:pt x="14362" y="12452"/>
                </a:cubicBezTo>
                <a:cubicBezTo>
                  <a:pt x="14352" y="12318"/>
                  <a:pt x="14291" y="12229"/>
                  <a:pt x="14188" y="12154"/>
                </a:cubicBezTo>
                <a:cubicBezTo>
                  <a:pt x="14117" y="12102"/>
                  <a:pt x="13981" y="12030"/>
                  <a:pt x="13891" y="12080"/>
                </a:cubicBezTo>
                <a:cubicBezTo>
                  <a:pt x="13823" y="12117"/>
                  <a:pt x="13823" y="12250"/>
                  <a:pt x="13841" y="12303"/>
                </a:cubicBezTo>
                <a:cubicBezTo>
                  <a:pt x="13849" y="12320"/>
                  <a:pt x="13858" y="12336"/>
                  <a:pt x="13866" y="12353"/>
                </a:cubicBezTo>
              </a:path>
              <a:path w="3101" h="1961">
                <a:moveTo>
                  <a:pt x="14560" y="12030"/>
                </a:moveTo>
                <a:cubicBezTo>
                  <a:pt x="14528" y="12246"/>
                  <a:pt x="14511" y="12414"/>
                  <a:pt x="14511" y="12626"/>
                </a:cubicBezTo>
                <a:cubicBezTo>
                  <a:pt x="14511" y="12708"/>
                  <a:pt x="14511" y="12725"/>
                  <a:pt x="14511" y="12774"/>
                </a:cubicBezTo>
              </a:path>
              <a:path w="3101" h="1961">
                <a:moveTo>
                  <a:pt x="14288" y="12328"/>
                </a:moveTo>
                <a:cubicBezTo>
                  <a:pt x="14431" y="12338"/>
                  <a:pt x="14565" y="12378"/>
                  <a:pt x="14709" y="12402"/>
                </a:cubicBezTo>
              </a:path>
              <a:path w="3101" h="1961">
                <a:moveTo>
                  <a:pt x="15081" y="11757"/>
                </a:moveTo>
                <a:cubicBezTo>
                  <a:pt x="15055" y="11834"/>
                  <a:pt x="15080" y="11886"/>
                  <a:pt x="15156" y="11931"/>
                </a:cubicBezTo>
                <a:cubicBezTo>
                  <a:pt x="15219" y="11963"/>
                  <a:pt x="15251" y="11968"/>
                  <a:pt x="15304" y="11931"/>
                </a:cubicBezTo>
              </a:path>
              <a:path w="3101" h="1961">
                <a:moveTo>
                  <a:pt x="15453" y="11435"/>
                </a:moveTo>
                <a:cubicBezTo>
                  <a:pt x="15391" y="11516"/>
                  <a:pt x="15317" y="11610"/>
                  <a:pt x="15280" y="11708"/>
                </a:cubicBezTo>
                <a:cubicBezTo>
                  <a:pt x="15234" y="11829"/>
                  <a:pt x="15216" y="12005"/>
                  <a:pt x="15255" y="12129"/>
                </a:cubicBezTo>
                <a:cubicBezTo>
                  <a:pt x="15271" y="12154"/>
                  <a:pt x="15288" y="12179"/>
                  <a:pt x="15304" y="12204"/>
                </a:cubicBezTo>
              </a:path>
              <a:path w="3101" h="1961">
                <a:moveTo>
                  <a:pt x="15627" y="12254"/>
                </a:moveTo>
                <a:cubicBezTo>
                  <a:pt x="15722" y="12506"/>
                  <a:pt x="15821" y="12739"/>
                  <a:pt x="15949" y="12973"/>
                </a:cubicBezTo>
                <a:cubicBezTo>
                  <a:pt x="15996" y="13066"/>
                  <a:pt x="16006" y="13095"/>
                  <a:pt x="16073" y="13122"/>
                </a:cubicBezTo>
              </a:path>
              <a:path w="3101" h="1961">
                <a:moveTo>
                  <a:pt x="16098" y="12402"/>
                </a:moveTo>
                <a:cubicBezTo>
                  <a:pt x="15824" y="12631"/>
                  <a:pt x="15571" y="12817"/>
                  <a:pt x="15354" y="13097"/>
                </a:cubicBezTo>
                <a:cubicBezTo>
                  <a:pt x="15280" y="13196"/>
                  <a:pt x="15205" y="13296"/>
                  <a:pt x="15131" y="133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1219320" y="762120"/>
          <a:ext cx="609588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0958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Ink 7"/>
          <p:cNvSpPr/>
          <p:nvPr/>
        </p:nvSpPr>
        <p:spPr>
          <a:xfrm>
            <a:off x="866880" y="1625760"/>
            <a:ext cx="2990880" cy="973080"/>
          </a:xfrm>
          <a:custGeom>
            <a:avLst/>
            <a:gdLst/>
            <a:ahLst/>
            <a:rect l="l" t="t" r="r" b="b"/>
            <a:pathLst>
              <a:path w="8311" h="2705">
                <a:moveTo>
                  <a:pt x="2927" y="4589"/>
                </a:moveTo>
                <a:cubicBezTo>
                  <a:pt x="2884" y="4683"/>
                  <a:pt x="2824" y="4746"/>
                  <a:pt x="2778" y="4837"/>
                </a:cubicBezTo>
                <a:cubicBezTo>
                  <a:pt x="2725" y="4943"/>
                  <a:pt x="2677" y="5052"/>
                  <a:pt x="2629" y="5159"/>
                </a:cubicBezTo>
                <a:cubicBezTo>
                  <a:pt x="2566" y="5299"/>
                  <a:pt x="2517" y="5432"/>
                  <a:pt x="2480" y="5581"/>
                </a:cubicBezTo>
                <a:cubicBezTo>
                  <a:pt x="2439" y="5747"/>
                  <a:pt x="2410" y="5905"/>
                  <a:pt x="2406" y="6077"/>
                </a:cubicBezTo>
                <a:cubicBezTo>
                  <a:pt x="2403" y="6201"/>
                  <a:pt x="2448" y="6306"/>
                  <a:pt x="2480" y="6424"/>
                </a:cubicBezTo>
                <a:cubicBezTo>
                  <a:pt x="2508" y="6526"/>
                  <a:pt x="2514" y="6623"/>
                  <a:pt x="2555" y="6722"/>
                </a:cubicBezTo>
                <a:cubicBezTo>
                  <a:pt x="2577" y="6776"/>
                  <a:pt x="2618" y="6827"/>
                  <a:pt x="2654" y="6871"/>
                </a:cubicBezTo>
                <a:cubicBezTo>
                  <a:pt x="2679" y="6896"/>
                  <a:pt x="2687" y="6904"/>
                  <a:pt x="2704" y="6921"/>
                </a:cubicBezTo>
              </a:path>
              <a:path w="8311" h="2705">
                <a:moveTo>
                  <a:pt x="7466" y="4514"/>
                </a:moveTo>
                <a:cubicBezTo>
                  <a:pt x="7557" y="4580"/>
                  <a:pt x="7619" y="4650"/>
                  <a:pt x="7689" y="4738"/>
                </a:cubicBezTo>
                <a:cubicBezTo>
                  <a:pt x="7780" y="4852"/>
                  <a:pt x="7835" y="4976"/>
                  <a:pt x="7888" y="5110"/>
                </a:cubicBezTo>
                <a:cubicBezTo>
                  <a:pt x="7965" y="5303"/>
                  <a:pt x="7987" y="5476"/>
                  <a:pt x="7987" y="5680"/>
                </a:cubicBezTo>
                <a:cubicBezTo>
                  <a:pt x="7987" y="5924"/>
                  <a:pt x="7934" y="6098"/>
                  <a:pt x="7838" y="6325"/>
                </a:cubicBezTo>
                <a:cubicBezTo>
                  <a:pt x="7788" y="6442"/>
                  <a:pt x="7677" y="6627"/>
                  <a:pt x="7590" y="6722"/>
                </a:cubicBezTo>
                <a:cubicBezTo>
                  <a:pt x="7545" y="6771"/>
                  <a:pt x="7413" y="6906"/>
                  <a:pt x="7342" y="6896"/>
                </a:cubicBezTo>
                <a:cubicBezTo>
                  <a:pt x="7314" y="6924"/>
                  <a:pt x="7305" y="6928"/>
                  <a:pt x="7317" y="6871"/>
                </a:cubicBezTo>
              </a:path>
              <a:path w="8311" h="2705">
                <a:moveTo>
                  <a:pt x="8731" y="4738"/>
                </a:moveTo>
                <a:cubicBezTo>
                  <a:pt x="8713" y="4876"/>
                  <a:pt x="8641" y="4971"/>
                  <a:pt x="8607" y="5110"/>
                </a:cubicBezTo>
                <a:cubicBezTo>
                  <a:pt x="8546" y="5359"/>
                  <a:pt x="8488" y="5624"/>
                  <a:pt x="8483" y="5879"/>
                </a:cubicBezTo>
                <a:cubicBezTo>
                  <a:pt x="8479" y="6077"/>
                  <a:pt x="8496" y="6255"/>
                  <a:pt x="8533" y="6449"/>
                </a:cubicBezTo>
                <a:cubicBezTo>
                  <a:pt x="8569" y="6638"/>
                  <a:pt x="8629" y="6775"/>
                  <a:pt x="8756" y="6921"/>
                </a:cubicBezTo>
                <a:cubicBezTo>
                  <a:pt x="8910" y="7098"/>
                  <a:pt x="9031" y="7140"/>
                  <a:pt x="9252" y="7218"/>
                </a:cubicBezTo>
              </a:path>
              <a:path w="8311" h="2705">
                <a:moveTo>
                  <a:pt x="3001" y="5755"/>
                </a:moveTo>
                <a:cubicBezTo>
                  <a:pt x="3001" y="5771"/>
                  <a:pt x="3001" y="5788"/>
                  <a:pt x="3001" y="5804"/>
                </a:cubicBezTo>
                <a:cubicBezTo>
                  <a:pt x="3016" y="5775"/>
                  <a:pt x="3021" y="5714"/>
                  <a:pt x="2977" y="5680"/>
                </a:cubicBezTo>
                <a:cubicBezTo>
                  <a:pt x="2919" y="5635"/>
                  <a:pt x="2844" y="5629"/>
                  <a:pt x="2778" y="5655"/>
                </a:cubicBezTo>
                <a:cubicBezTo>
                  <a:pt x="2748" y="5667"/>
                  <a:pt x="2686" y="5754"/>
                  <a:pt x="2679" y="5779"/>
                </a:cubicBezTo>
                <a:cubicBezTo>
                  <a:pt x="2663" y="5840"/>
                  <a:pt x="2727" y="5948"/>
                  <a:pt x="2778" y="5978"/>
                </a:cubicBezTo>
                <a:cubicBezTo>
                  <a:pt x="2862" y="6028"/>
                  <a:pt x="2906" y="6030"/>
                  <a:pt x="2977" y="6102"/>
                </a:cubicBezTo>
                <a:cubicBezTo>
                  <a:pt x="3017" y="6142"/>
                  <a:pt x="3091" y="6213"/>
                  <a:pt x="3076" y="6276"/>
                </a:cubicBezTo>
                <a:cubicBezTo>
                  <a:pt x="3051" y="6381"/>
                  <a:pt x="2938" y="6371"/>
                  <a:pt x="2853" y="6375"/>
                </a:cubicBezTo>
                <a:cubicBezTo>
                  <a:pt x="2784" y="6378"/>
                  <a:pt x="2733" y="6385"/>
                  <a:pt x="2704" y="6325"/>
                </a:cubicBezTo>
              </a:path>
              <a:path w="8311" h="2705">
                <a:moveTo>
                  <a:pt x="3001" y="6152"/>
                </a:moveTo>
                <a:cubicBezTo>
                  <a:pt x="3088" y="6108"/>
                  <a:pt x="3201" y="6069"/>
                  <a:pt x="3274" y="6003"/>
                </a:cubicBezTo>
                <a:cubicBezTo>
                  <a:pt x="3329" y="5954"/>
                  <a:pt x="3344" y="5908"/>
                  <a:pt x="3373" y="5854"/>
                </a:cubicBezTo>
                <a:cubicBezTo>
                  <a:pt x="3407" y="5791"/>
                  <a:pt x="3401" y="5782"/>
                  <a:pt x="3349" y="5730"/>
                </a:cubicBezTo>
                <a:cubicBezTo>
                  <a:pt x="3332" y="5713"/>
                  <a:pt x="3316" y="5697"/>
                  <a:pt x="3299" y="5680"/>
                </a:cubicBezTo>
                <a:cubicBezTo>
                  <a:pt x="3261" y="5718"/>
                  <a:pt x="3227" y="5759"/>
                  <a:pt x="3200" y="5804"/>
                </a:cubicBezTo>
                <a:cubicBezTo>
                  <a:pt x="3158" y="5875"/>
                  <a:pt x="3113" y="5970"/>
                  <a:pt x="3101" y="6052"/>
                </a:cubicBezTo>
                <a:cubicBezTo>
                  <a:pt x="3090" y="6129"/>
                  <a:pt x="3113" y="6189"/>
                  <a:pt x="3125" y="6251"/>
                </a:cubicBezTo>
                <a:cubicBezTo>
                  <a:pt x="3144" y="6351"/>
                  <a:pt x="3145" y="6350"/>
                  <a:pt x="3249" y="6350"/>
                </a:cubicBezTo>
                <a:cubicBezTo>
                  <a:pt x="3324" y="6350"/>
                  <a:pt x="3355" y="6330"/>
                  <a:pt x="3373" y="6251"/>
                </a:cubicBezTo>
              </a:path>
              <a:path w="8311" h="2705">
                <a:moveTo>
                  <a:pt x="3696" y="5705"/>
                </a:moveTo>
                <a:cubicBezTo>
                  <a:pt x="3650" y="5659"/>
                  <a:pt x="3629" y="5634"/>
                  <a:pt x="3572" y="5680"/>
                </a:cubicBezTo>
                <a:cubicBezTo>
                  <a:pt x="3536" y="5709"/>
                  <a:pt x="3488" y="5785"/>
                  <a:pt x="3473" y="5829"/>
                </a:cubicBezTo>
                <a:cubicBezTo>
                  <a:pt x="3446" y="5911"/>
                  <a:pt x="3427" y="6017"/>
                  <a:pt x="3423" y="6102"/>
                </a:cubicBezTo>
                <a:cubicBezTo>
                  <a:pt x="3419" y="6183"/>
                  <a:pt x="3429" y="6255"/>
                  <a:pt x="3473" y="6325"/>
                </a:cubicBezTo>
                <a:cubicBezTo>
                  <a:pt x="3512" y="6387"/>
                  <a:pt x="3561" y="6387"/>
                  <a:pt x="3621" y="6350"/>
                </a:cubicBezTo>
                <a:cubicBezTo>
                  <a:pt x="3629" y="6342"/>
                  <a:pt x="3638" y="6333"/>
                  <a:pt x="3646" y="6325"/>
                </a:cubicBezTo>
              </a:path>
              <a:path w="8311" h="2705">
                <a:moveTo>
                  <a:pt x="3746" y="5283"/>
                </a:moveTo>
                <a:cubicBezTo>
                  <a:pt x="3785" y="5244"/>
                  <a:pt x="3851" y="5143"/>
                  <a:pt x="3919" y="5159"/>
                </a:cubicBezTo>
                <a:cubicBezTo>
                  <a:pt x="4059" y="5192"/>
                  <a:pt x="3956" y="5284"/>
                  <a:pt x="3919" y="5333"/>
                </a:cubicBezTo>
                <a:cubicBezTo>
                  <a:pt x="3893" y="5368"/>
                  <a:pt x="3791" y="5539"/>
                  <a:pt x="3820" y="5581"/>
                </a:cubicBezTo>
                <a:cubicBezTo>
                  <a:pt x="3851" y="5626"/>
                  <a:pt x="3949" y="5606"/>
                  <a:pt x="3994" y="5606"/>
                </a:cubicBezTo>
              </a:path>
              <a:path w="8311" h="2705">
                <a:moveTo>
                  <a:pt x="4093" y="5581"/>
                </a:moveTo>
                <a:cubicBezTo>
                  <a:pt x="4058" y="5700"/>
                  <a:pt x="4065" y="5811"/>
                  <a:pt x="4043" y="5928"/>
                </a:cubicBezTo>
                <a:cubicBezTo>
                  <a:pt x="4026" y="6017"/>
                  <a:pt x="4000" y="6106"/>
                  <a:pt x="4018" y="6201"/>
                </a:cubicBezTo>
                <a:cubicBezTo>
                  <a:pt x="4027" y="6248"/>
                  <a:pt x="4038" y="6380"/>
                  <a:pt x="4118" y="6375"/>
                </a:cubicBezTo>
                <a:cubicBezTo>
                  <a:pt x="4183" y="6371"/>
                  <a:pt x="4241" y="6272"/>
                  <a:pt x="4266" y="6226"/>
                </a:cubicBezTo>
                <a:cubicBezTo>
                  <a:pt x="4328" y="6113"/>
                  <a:pt x="4370" y="6007"/>
                  <a:pt x="4390" y="5879"/>
                </a:cubicBezTo>
                <a:cubicBezTo>
                  <a:pt x="4405" y="5781"/>
                  <a:pt x="4401" y="5648"/>
                  <a:pt x="4366" y="5556"/>
                </a:cubicBezTo>
                <a:cubicBezTo>
                  <a:pt x="4339" y="5484"/>
                  <a:pt x="4301" y="5458"/>
                  <a:pt x="4242" y="5482"/>
                </a:cubicBezTo>
              </a:path>
              <a:path w="8311" h="2705">
                <a:moveTo>
                  <a:pt x="3894" y="5978"/>
                </a:moveTo>
                <a:cubicBezTo>
                  <a:pt x="3949" y="6011"/>
                  <a:pt x="4000" y="6003"/>
                  <a:pt x="4068" y="6003"/>
                </a:cubicBezTo>
                <a:cubicBezTo>
                  <a:pt x="4172" y="6003"/>
                  <a:pt x="4291" y="6002"/>
                  <a:pt x="4390" y="5978"/>
                </a:cubicBezTo>
                <a:cubicBezTo>
                  <a:pt x="4430" y="5968"/>
                  <a:pt x="4602" y="5965"/>
                  <a:pt x="4614" y="5928"/>
                </a:cubicBezTo>
                <a:cubicBezTo>
                  <a:pt x="4606" y="5928"/>
                  <a:pt x="4597" y="5928"/>
                  <a:pt x="4589" y="5928"/>
                </a:cubicBezTo>
              </a:path>
              <a:path w="8311" h="2705">
                <a:moveTo>
                  <a:pt x="9178" y="5804"/>
                </a:moveTo>
                <a:cubicBezTo>
                  <a:pt x="9072" y="5804"/>
                  <a:pt x="8890" y="5784"/>
                  <a:pt x="8806" y="5879"/>
                </a:cubicBezTo>
                <a:cubicBezTo>
                  <a:pt x="8756" y="5936"/>
                  <a:pt x="8912" y="6059"/>
                  <a:pt x="8930" y="6077"/>
                </a:cubicBezTo>
                <a:cubicBezTo>
                  <a:pt x="8970" y="6117"/>
                  <a:pt x="9067" y="6198"/>
                  <a:pt x="9079" y="6251"/>
                </a:cubicBezTo>
                <a:cubicBezTo>
                  <a:pt x="9103" y="6355"/>
                  <a:pt x="9040" y="6370"/>
                  <a:pt x="8979" y="6424"/>
                </a:cubicBezTo>
                <a:cubicBezTo>
                  <a:pt x="8915" y="6480"/>
                  <a:pt x="8861" y="6447"/>
                  <a:pt x="8806" y="6400"/>
                </a:cubicBezTo>
                <a:cubicBezTo>
                  <a:pt x="8798" y="6392"/>
                  <a:pt x="8789" y="6383"/>
                  <a:pt x="8781" y="6375"/>
                </a:cubicBezTo>
              </a:path>
              <a:path w="8311" h="2705">
                <a:moveTo>
                  <a:pt x="8905" y="6251"/>
                </a:moveTo>
                <a:cubicBezTo>
                  <a:pt x="8987" y="6221"/>
                  <a:pt x="9070" y="6189"/>
                  <a:pt x="9153" y="6176"/>
                </a:cubicBezTo>
                <a:cubicBezTo>
                  <a:pt x="9262" y="6159"/>
                  <a:pt x="9277" y="6136"/>
                  <a:pt x="9351" y="6077"/>
                </a:cubicBezTo>
                <a:cubicBezTo>
                  <a:pt x="9388" y="6047"/>
                  <a:pt x="9485" y="6007"/>
                  <a:pt x="9500" y="5953"/>
                </a:cubicBezTo>
                <a:cubicBezTo>
                  <a:pt x="9500" y="5904"/>
                  <a:pt x="9500" y="5887"/>
                  <a:pt x="9500" y="5854"/>
                </a:cubicBezTo>
                <a:cubicBezTo>
                  <a:pt x="9360" y="5868"/>
                  <a:pt x="9373" y="5905"/>
                  <a:pt x="9277" y="5978"/>
                </a:cubicBezTo>
                <a:cubicBezTo>
                  <a:pt x="9196" y="6040"/>
                  <a:pt x="9166" y="6076"/>
                  <a:pt x="9128" y="6176"/>
                </a:cubicBezTo>
                <a:cubicBezTo>
                  <a:pt x="9101" y="6249"/>
                  <a:pt x="9105" y="6341"/>
                  <a:pt x="9153" y="6400"/>
                </a:cubicBezTo>
                <a:cubicBezTo>
                  <a:pt x="9194" y="6450"/>
                  <a:pt x="9277" y="6391"/>
                  <a:pt x="9327" y="6375"/>
                </a:cubicBezTo>
              </a:path>
              <a:path w="8311" h="2705">
                <a:moveTo>
                  <a:pt x="9748" y="5854"/>
                </a:moveTo>
                <a:cubicBezTo>
                  <a:pt x="9677" y="5864"/>
                  <a:pt x="9653" y="5905"/>
                  <a:pt x="9599" y="5953"/>
                </a:cubicBezTo>
                <a:cubicBezTo>
                  <a:pt x="9533" y="6012"/>
                  <a:pt x="9491" y="6099"/>
                  <a:pt x="9451" y="6176"/>
                </a:cubicBezTo>
                <a:cubicBezTo>
                  <a:pt x="9404" y="6266"/>
                  <a:pt x="9435" y="6323"/>
                  <a:pt x="9500" y="6400"/>
                </a:cubicBezTo>
                <a:cubicBezTo>
                  <a:pt x="9530" y="6435"/>
                  <a:pt x="9604" y="6479"/>
                  <a:pt x="9649" y="6474"/>
                </a:cubicBezTo>
                <a:cubicBezTo>
                  <a:pt x="9699" y="6449"/>
                  <a:pt x="9715" y="6441"/>
                  <a:pt x="9748" y="6424"/>
                </a:cubicBezTo>
              </a:path>
              <a:path w="8311" h="2705">
                <a:moveTo>
                  <a:pt x="9823" y="5655"/>
                </a:moveTo>
                <a:cubicBezTo>
                  <a:pt x="9867" y="5604"/>
                  <a:pt x="9900" y="5527"/>
                  <a:pt x="9971" y="5507"/>
                </a:cubicBezTo>
                <a:cubicBezTo>
                  <a:pt x="10070" y="5487"/>
                  <a:pt x="10086" y="5479"/>
                  <a:pt x="10145" y="5482"/>
                </a:cubicBezTo>
                <a:cubicBezTo>
                  <a:pt x="10098" y="5600"/>
                  <a:pt x="10068" y="5586"/>
                  <a:pt x="9971" y="5655"/>
                </a:cubicBezTo>
                <a:cubicBezTo>
                  <a:pt x="9916" y="5694"/>
                  <a:pt x="9880" y="5772"/>
                  <a:pt x="9847" y="5829"/>
                </a:cubicBezTo>
                <a:cubicBezTo>
                  <a:pt x="9891" y="5873"/>
                  <a:pt x="9928" y="5898"/>
                  <a:pt x="9996" y="5879"/>
                </a:cubicBezTo>
                <a:cubicBezTo>
                  <a:pt x="10079" y="5856"/>
                  <a:pt x="10158" y="5777"/>
                  <a:pt x="10220" y="5730"/>
                </a:cubicBezTo>
              </a:path>
              <a:path w="8311" h="2705">
                <a:moveTo>
                  <a:pt x="10393" y="5631"/>
                </a:moveTo>
                <a:cubicBezTo>
                  <a:pt x="10336" y="5738"/>
                  <a:pt x="10281" y="5849"/>
                  <a:pt x="10220" y="5953"/>
                </a:cubicBezTo>
                <a:cubicBezTo>
                  <a:pt x="10158" y="6058"/>
                  <a:pt x="10066" y="6173"/>
                  <a:pt x="10071" y="6300"/>
                </a:cubicBezTo>
                <a:cubicBezTo>
                  <a:pt x="10075" y="6392"/>
                  <a:pt x="10090" y="6457"/>
                  <a:pt x="10170" y="6499"/>
                </a:cubicBezTo>
                <a:cubicBezTo>
                  <a:pt x="10236" y="6534"/>
                  <a:pt x="10328" y="6544"/>
                  <a:pt x="10393" y="6499"/>
                </a:cubicBezTo>
                <a:cubicBezTo>
                  <a:pt x="10488" y="6434"/>
                  <a:pt x="10553" y="6269"/>
                  <a:pt x="10592" y="6176"/>
                </a:cubicBezTo>
                <a:cubicBezTo>
                  <a:pt x="10635" y="6074"/>
                  <a:pt x="10623" y="5978"/>
                  <a:pt x="10616" y="5879"/>
                </a:cubicBezTo>
                <a:cubicBezTo>
                  <a:pt x="10608" y="5775"/>
                  <a:pt x="10591" y="5754"/>
                  <a:pt x="10517" y="5680"/>
                </a:cubicBezTo>
                <a:cubicBezTo>
                  <a:pt x="10484" y="5647"/>
                  <a:pt x="10463" y="5655"/>
                  <a:pt x="10418" y="5655"/>
                </a:cubicBezTo>
              </a:path>
              <a:path w="8311" h="2705">
                <a:moveTo>
                  <a:pt x="10046" y="6201"/>
                </a:moveTo>
                <a:cubicBezTo>
                  <a:pt x="10120" y="6190"/>
                  <a:pt x="10188" y="6163"/>
                  <a:pt x="10269" y="6152"/>
                </a:cubicBezTo>
                <a:cubicBezTo>
                  <a:pt x="10365" y="6139"/>
                  <a:pt x="10451" y="6166"/>
                  <a:pt x="10542" y="6176"/>
                </a:cubicBezTo>
                <a:cubicBezTo>
                  <a:pt x="10598" y="6182"/>
                  <a:pt x="10660" y="6176"/>
                  <a:pt x="10716" y="6176"/>
                </a:cubicBezTo>
              </a:path>
              <a:path w="8311" h="2705">
                <a:moveTo>
                  <a:pt x="5904" y="5259"/>
                </a:moveTo>
                <a:cubicBezTo>
                  <a:pt x="5904" y="5378"/>
                  <a:pt x="5884" y="5466"/>
                  <a:pt x="5854" y="5581"/>
                </a:cubicBezTo>
                <a:cubicBezTo>
                  <a:pt x="5818" y="5720"/>
                  <a:pt x="5829" y="5860"/>
                  <a:pt x="5829" y="6003"/>
                </a:cubicBezTo>
                <a:cubicBezTo>
                  <a:pt x="5829" y="6090"/>
                  <a:pt x="5900" y="6250"/>
                  <a:pt x="5829" y="6226"/>
                </a:cubicBezTo>
              </a:path>
              <a:path w="8311" h="2705">
                <a:moveTo>
                  <a:pt x="5556" y="5854"/>
                </a:moveTo>
                <a:cubicBezTo>
                  <a:pt x="5656" y="5829"/>
                  <a:pt x="5754" y="5823"/>
                  <a:pt x="5854" y="5804"/>
                </a:cubicBezTo>
                <a:cubicBezTo>
                  <a:pt x="5956" y="5785"/>
                  <a:pt x="6059" y="5750"/>
                  <a:pt x="6152" y="5705"/>
                </a:cubicBezTo>
                <a:cubicBezTo>
                  <a:pt x="6168" y="5697"/>
                  <a:pt x="6185" y="5688"/>
                  <a:pt x="6201" y="5680"/>
                </a:cubicBezTo>
                <a:cubicBezTo>
                  <a:pt x="6146" y="5790"/>
                  <a:pt x="6085" y="5895"/>
                  <a:pt x="6028" y="6003"/>
                </a:cubicBezTo>
                <a:cubicBezTo>
                  <a:pt x="5987" y="6081"/>
                  <a:pt x="6022" y="6121"/>
                  <a:pt x="6077" y="6176"/>
                </a:cubicBezTo>
                <a:cubicBezTo>
                  <a:pt x="6085" y="6184"/>
                  <a:pt x="6094" y="6193"/>
                  <a:pt x="6102" y="6201"/>
                </a:cubicBezTo>
                <a:cubicBezTo>
                  <a:pt x="6166" y="6146"/>
                  <a:pt x="6198" y="6096"/>
                  <a:pt x="6226" y="6028"/>
                </a:cubicBezTo>
                <a:cubicBezTo>
                  <a:pt x="6242" y="5989"/>
                  <a:pt x="6282" y="5762"/>
                  <a:pt x="6251" y="5879"/>
                </a:cubicBezTo>
                <a:cubicBezTo>
                  <a:pt x="6233" y="5947"/>
                  <a:pt x="6233" y="6052"/>
                  <a:pt x="6251" y="6127"/>
                </a:cubicBezTo>
                <a:cubicBezTo>
                  <a:pt x="6271" y="6211"/>
                  <a:pt x="6314" y="6218"/>
                  <a:pt x="6375" y="6201"/>
                </a:cubicBezTo>
              </a:path>
              <a:path w="8311" h="2705">
                <a:moveTo>
                  <a:pt x="6449" y="5879"/>
                </a:moveTo>
                <a:cubicBezTo>
                  <a:pt x="6464" y="6004"/>
                  <a:pt x="6449" y="6096"/>
                  <a:pt x="6449" y="6226"/>
                </a:cubicBezTo>
                <a:cubicBezTo>
                  <a:pt x="6449" y="6276"/>
                  <a:pt x="6449" y="6292"/>
                  <a:pt x="6449" y="6325"/>
                </a:cubicBezTo>
                <a:cubicBezTo>
                  <a:pt x="6485" y="6266"/>
                  <a:pt x="6496" y="6201"/>
                  <a:pt x="6499" y="6127"/>
                </a:cubicBezTo>
                <a:cubicBezTo>
                  <a:pt x="6503" y="6030"/>
                  <a:pt x="6511" y="5948"/>
                  <a:pt x="6524" y="5854"/>
                </a:cubicBezTo>
                <a:cubicBezTo>
                  <a:pt x="6533" y="5789"/>
                  <a:pt x="6550" y="5744"/>
                  <a:pt x="6573" y="5680"/>
                </a:cubicBezTo>
                <a:cubicBezTo>
                  <a:pt x="6662" y="5755"/>
                  <a:pt x="6668" y="5832"/>
                  <a:pt x="6672" y="5953"/>
                </a:cubicBezTo>
                <a:cubicBezTo>
                  <a:pt x="6675" y="6035"/>
                  <a:pt x="6652" y="6128"/>
                  <a:pt x="6697" y="6201"/>
                </a:cubicBezTo>
                <a:cubicBezTo>
                  <a:pt x="6727" y="6231"/>
                  <a:pt x="6738" y="6233"/>
                  <a:pt x="6747" y="6176"/>
                </a:cubicBezTo>
              </a:path>
              <a:path w="8311" h="2705">
                <a:moveTo>
                  <a:pt x="6722" y="5308"/>
                </a:moveTo>
                <a:cubicBezTo>
                  <a:pt x="6768" y="5247"/>
                  <a:pt x="6829" y="5173"/>
                  <a:pt x="6921" y="5209"/>
                </a:cubicBezTo>
                <a:cubicBezTo>
                  <a:pt x="7000" y="5240"/>
                  <a:pt x="6968" y="5329"/>
                  <a:pt x="6945" y="5383"/>
                </a:cubicBezTo>
                <a:cubicBezTo>
                  <a:pt x="6929" y="5421"/>
                  <a:pt x="6847" y="5527"/>
                  <a:pt x="6921" y="5556"/>
                </a:cubicBezTo>
                <a:cubicBezTo>
                  <a:pt x="6970" y="5556"/>
                  <a:pt x="6987" y="5556"/>
                  <a:pt x="7020" y="5556"/>
                </a:cubicBezTo>
              </a:path>
              <a:path w="8311" h="2705">
                <a:moveTo>
                  <a:pt x="7268" y="5333"/>
                </a:moveTo>
                <a:cubicBezTo>
                  <a:pt x="7183" y="5565"/>
                  <a:pt x="7073" y="5754"/>
                  <a:pt x="7045" y="6003"/>
                </a:cubicBezTo>
                <a:cubicBezTo>
                  <a:pt x="7037" y="6071"/>
                  <a:pt x="7035" y="6195"/>
                  <a:pt x="7119" y="6226"/>
                </a:cubicBezTo>
                <a:cubicBezTo>
                  <a:pt x="7192" y="6253"/>
                  <a:pt x="7338" y="6221"/>
                  <a:pt x="7392" y="6176"/>
                </a:cubicBezTo>
                <a:cubicBezTo>
                  <a:pt x="7472" y="6109"/>
                  <a:pt x="7471" y="6019"/>
                  <a:pt x="7491" y="5928"/>
                </a:cubicBezTo>
                <a:cubicBezTo>
                  <a:pt x="7517" y="5810"/>
                  <a:pt x="7522" y="5721"/>
                  <a:pt x="7491" y="5606"/>
                </a:cubicBezTo>
                <a:cubicBezTo>
                  <a:pt x="7468" y="5521"/>
                  <a:pt x="7431" y="5374"/>
                  <a:pt x="7317" y="5358"/>
                </a:cubicBezTo>
                <a:cubicBezTo>
                  <a:pt x="7301" y="5366"/>
                  <a:pt x="7284" y="5375"/>
                  <a:pt x="7268" y="5383"/>
                </a:cubicBezTo>
              </a:path>
              <a:path w="8311" h="2705">
                <a:moveTo>
                  <a:pt x="7045" y="5829"/>
                </a:moveTo>
                <a:cubicBezTo>
                  <a:pt x="7176" y="5870"/>
                  <a:pt x="7301" y="5897"/>
                  <a:pt x="7441" y="5879"/>
                </a:cubicBezTo>
                <a:cubicBezTo>
                  <a:pt x="7607" y="5858"/>
                  <a:pt x="7756" y="5840"/>
                  <a:pt x="7913" y="5779"/>
                </a:cubicBezTo>
              </a:path>
              <a:path w="8311" h="2705">
                <a:moveTo>
                  <a:pt x="5135" y="5556"/>
                </a:moveTo>
                <a:cubicBezTo>
                  <a:pt x="5161" y="5674"/>
                  <a:pt x="5143" y="5785"/>
                  <a:pt x="5159" y="5904"/>
                </a:cubicBezTo>
                <a:cubicBezTo>
                  <a:pt x="5172" y="6000"/>
                  <a:pt x="5184" y="6080"/>
                  <a:pt x="5184" y="6176"/>
                </a:cubicBezTo>
              </a:path>
              <a:path w="8311" h="2705">
                <a:moveTo>
                  <a:pt x="4961" y="5804"/>
                </a:moveTo>
                <a:cubicBezTo>
                  <a:pt x="4917" y="5782"/>
                  <a:pt x="4896" y="5769"/>
                  <a:pt x="4936" y="5804"/>
                </a:cubicBezTo>
                <a:cubicBezTo>
                  <a:pt x="5033" y="5818"/>
                  <a:pt x="5095" y="5807"/>
                  <a:pt x="5209" y="5804"/>
                </a:cubicBezTo>
                <a:cubicBezTo>
                  <a:pt x="5291" y="5801"/>
                  <a:pt x="5401" y="5750"/>
                  <a:pt x="5482" y="5779"/>
                </a:cubicBezTo>
                <a:cubicBezTo>
                  <a:pt x="5510" y="5807"/>
                  <a:pt x="5523" y="5816"/>
                  <a:pt x="5556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643280" y="1500120"/>
            <a:ext cx="285840" cy="1063800"/>
          </a:xfrm>
          <a:custGeom>
            <a:avLst/>
            <a:gdLst/>
            <a:ahLst/>
            <a:rect l="l" t="t" r="r" b="b"/>
            <a:pathLst>
              <a:path w="795" h="2953">
                <a:moveTo>
                  <a:pt x="12923" y="4167"/>
                </a:moveTo>
                <a:cubicBezTo>
                  <a:pt x="13040" y="4216"/>
                  <a:pt x="13091" y="4269"/>
                  <a:pt x="13171" y="4366"/>
                </a:cubicBezTo>
                <a:cubicBezTo>
                  <a:pt x="13300" y="4522"/>
                  <a:pt x="13417" y="4699"/>
                  <a:pt x="13494" y="4887"/>
                </a:cubicBezTo>
                <a:cubicBezTo>
                  <a:pt x="13578" y="5094"/>
                  <a:pt x="13697" y="5373"/>
                  <a:pt x="13692" y="5606"/>
                </a:cubicBezTo>
                <a:cubicBezTo>
                  <a:pt x="13688" y="5812"/>
                  <a:pt x="13650" y="6011"/>
                  <a:pt x="13568" y="6201"/>
                </a:cubicBezTo>
                <a:cubicBezTo>
                  <a:pt x="13497" y="6366"/>
                  <a:pt x="13402" y="6612"/>
                  <a:pt x="13295" y="6747"/>
                </a:cubicBezTo>
                <a:cubicBezTo>
                  <a:pt x="13214" y="6849"/>
                  <a:pt x="13095" y="6958"/>
                  <a:pt x="12998" y="7045"/>
                </a:cubicBezTo>
                <a:cubicBezTo>
                  <a:pt x="12951" y="7091"/>
                  <a:pt x="12939" y="7105"/>
                  <a:pt x="12898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9"/>
          <p:cNvSpPr/>
          <p:nvPr/>
        </p:nvSpPr>
        <p:spPr>
          <a:xfrm>
            <a:off x="5276880" y="2081160"/>
            <a:ext cx="189000" cy="88920"/>
          </a:xfrm>
          <a:custGeom>
            <a:avLst/>
            <a:gdLst/>
            <a:ahLst/>
            <a:rect l="l" t="t" r="r" b="b"/>
            <a:pathLst>
              <a:path w="521" h="250">
                <a:moveTo>
                  <a:pt x="14660" y="5779"/>
                </a:moveTo>
                <a:cubicBezTo>
                  <a:pt x="14778" y="5789"/>
                  <a:pt x="14862" y="5783"/>
                  <a:pt x="14982" y="5779"/>
                </a:cubicBezTo>
                <a:cubicBezTo>
                  <a:pt x="15056" y="5779"/>
                  <a:pt x="15081" y="5779"/>
                  <a:pt x="15131" y="5779"/>
                </a:cubicBezTo>
              </a:path>
              <a:path w="521" h="250">
                <a:moveTo>
                  <a:pt x="14734" y="6028"/>
                </a:moveTo>
                <a:cubicBezTo>
                  <a:pt x="14888" y="6022"/>
                  <a:pt x="15027" y="6003"/>
                  <a:pt x="15180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677880" y="3205080"/>
            <a:ext cx="2465280" cy="822240"/>
          </a:xfrm>
          <a:custGeom>
            <a:avLst/>
            <a:gdLst/>
            <a:ahLst/>
            <a:rect l="l" t="t" r="r" b="b"/>
            <a:pathLst>
              <a:path w="6847" h="2283">
                <a:moveTo>
                  <a:pt x="5705" y="8905"/>
                </a:moveTo>
                <a:cubicBezTo>
                  <a:pt x="5787" y="8943"/>
                  <a:pt x="5856" y="8978"/>
                  <a:pt x="5928" y="9029"/>
                </a:cubicBezTo>
                <a:cubicBezTo>
                  <a:pt x="6076" y="9134"/>
                  <a:pt x="6262" y="9246"/>
                  <a:pt x="6424" y="9327"/>
                </a:cubicBezTo>
                <a:cubicBezTo>
                  <a:pt x="6671" y="9451"/>
                  <a:pt x="6909" y="9576"/>
                  <a:pt x="7144" y="9723"/>
                </a:cubicBezTo>
                <a:cubicBezTo>
                  <a:pt x="7355" y="9855"/>
                  <a:pt x="7589" y="9952"/>
                  <a:pt x="7789" y="10096"/>
                </a:cubicBezTo>
                <a:cubicBezTo>
                  <a:pt x="8684" y="10741"/>
                  <a:pt x="8096" y="10424"/>
                  <a:pt x="8409" y="10443"/>
                </a:cubicBezTo>
                <a:cubicBezTo>
                  <a:pt x="8409" y="10426"/>
                  <a:pt x="8409" y="10410"/>
                  <a:pt x="8409" y="10393"/>
                </a:cubicBezTo>
              </a:path>
              <a:path w="6847" h="2283">
                <a:moveTo>
                  <a:pt x="8310" y="9996"/>
                </a:moveTo>
                <a:cubicBezTo>
                  <a:pt x="8318" y="10066"/>
                  <a:pt x="8349" y="10132"/>
                  <a:pt x="8384" y="10195"/>
                </a:cubicBezTo>
                <a:cubicBezTo>
                  <a:pt x="8460" y="10330"/>
                  <a:pt x="8554" y="10458"/>
                  <a:pt x="8632" y="10592"/>
                </a:cubicBezTo>
                <a:cubicBezTo>
                  <a:pt x="8684" y="10682"/>
                  <a:pt x="8725" y="10758"/>
                  <a:pt x="8731" y="10864"/>
                </a:cubicBezTo>
                <a:cubicBezTo>
                  <a:pt x="8731" y="10881"/>
                  <a:pt x="8731" y="10897"/>
                  <a:pt x="8731" y="10914"/>
                </a:cubicBezTo>
                <a:cubicBezTo>
                  <a:pt x="8651" y="10914"/>
                  <a:pt x="8603" y="10906"/>
                  <a:pt x="8533" y="10864"/>
                </a:cubicBezTo>
                <a:cubicBezTo>
                  <a:pt x="8425" y="10799"/>
                  <a:pt x="8346" y="10740"/>
                  <a:pt x="8235" y="10691"/>
                </a:cubicBezTo>
                <a:cubicBezTo>
                  <a:pt x="8146" y="10646"/>
                  <a:pt x="8123" y="10633"/>
                  <a:pt x="8062" y="10616"/>
                </a:cubicBezTo>
              </a:path>
              <a:path w="6847" h="2283">
                <a:moveTo>
                  <a:pt x="1885" y="10641"/>
                </a:moveTo>
                <a:cubicBezTo>
                  <a:pt x="1917" y="10587"/>
                  <a:pt x="1933" y="10532"/>
                  <a:pt x="1984" y="10492"/>
                </a:cubicBezTo>
                <a:cubicBezTo>
                  <a:pt x="2018" y="10465"/>
                  <a:pt x="2092" y="10407"/>
                  <a:pt x="2133" y="10393"/>
                </a:cubicBezTo>
                <a:cubicBezTo>
                  <a:pt x="2210" y="10366"/>
                  <a:pt x="2324" y="10330"/>
                  <a:pt x="2406" y="10319"/>
                </a:cubicBezTo>
                <a:cubicBezTo>
                  <a:pt x="2648" y="10286"/>
                  <a:pt x="2891" y="10352"/>
                  <a:pt x="3101" y="10418"/>
                </a:cubicBezTo>
                <a:cubicBezTo>
                  <a:pt x="3215" y="10454"/>
                  <a:pt x="3333" y="10486"/>
                  <a:pt x="3448" y="10517"/>
                </a:cubicBezTo>
                <a:cubicBezTo>
                  <a:pt x="3552" y="10545"/>
                  <a:pt x="3669" y="10550"/>
                  <a:pt x="3770" y="10517"/>
                </a:cubicBezTo>
                <a:cubicBezTo>
                  <a:pt x="3871" y="10484"/>
                  <a:pt x="3895" y="10450"/>
                  <a:pt x="3944" y="10368"/>
                </a:cubicBezTo>
                <a:cubicBezTo>
                  <a:pt x="3986" y="10296"/>
                  <a:pt x="3969" y="10267"/>
                  <a:pt x="3994" y="10195"/>
                </a:cubicBezTo>
                <a:cubicBezTo>
                  <a:pt x="4002" y="10187"/>
                  <a:pt x="4010" y="10178"/>
                  <a:pt x="4018" y="10170"/>
                </a:cubicBezTo>
                <a:cubicBezTo>
                  <a:pt x="4095" y="10186"/>
                  <a:pt x="4187" y="10212"/>
                  <a:pt x="4266" y="10220"/>
                </a:cubicBezTo>
                <a:cubicBezTo>
                  <a:pt x="4392" y="10233"/>
                  <a:pt x="4510" y="10244"/>
                  <a:pt x="4638" y="10244"/>
                </a:cubicBezTo>
                <a:cubicBezTo>
                  <a:pt x="4779" y="10244"/>
                  <a:pt x="4895" y="10256"/>
                  <a:pt x="5035" y="10244"/>
                </a:cubicBezTo>
                <a:cubicBezTo>
                  <a:pt x="5159" y="10234"/>
                  <a:pt x="5261" y="10216"/>
                  <a:pt x="5383" y="10195"/>
                </a:cubicBezTo>
                <a:cubicBezTo>
                  <a:pt x="5554" y="10165"/>
                  <a:pt x="5647" y="10167"/>
                  <a:pt x="5804" y="10220"/>
                </a:cubicBezTo>
                <a:cubicBezTo>
                  <a:pt x="5963" y="10274"/>
                  <a:pt x="6085" y="10361"/>
                  <a:pt x="6226" y="10443"/>
                </a:cubicBezTo>
                <a:cubicBezTo>
                  <a:pt x="6356" y="10519"/>
                  <a:pt x="6463" y="10585"/>
                  <a:pt x="6573" y="10691"/>
                </a:cubicBezTo>
                <a:cubicBezTo>
                  <a:pt x="6657" y="10771"/>
                  <a:pt x="6772" y="10855"/>
                  <a:pt x="6846" y="10939"/>
                </a:cubicBezTo>
                <a:cubicBezTo>
                  <a:pt x="6882" y="10980"/>
                  <a:pt x="6906" y="11065"/>
                  <a:pt x="6921" y="11112"/>
                </a:cubicBezTo>
                <a:cubicBezTo>
                  <a:pt x="6921" y="11154"/>
                  <a:pt x="6921" y="11162"/>
                  <a:pt x="6921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902040" y="1955880"/>
            <a:ext cx="938160" cy="401400"/>
          </a:xfrm>
          <a:custGeom>
            <a:avLst/>
            <a:gdLst/>
            <a:ahLst/>
            <a:rect l="l" t="t" r="r" b="b"/>
            <a:pathLst>
              <a:path w="2605" h="1117">
                <a:moveTo>
                  <a:pt x="11584" y="5581"/>
                </a:moveTo>
                <a:cubicBezTo>
                  <a:pt x="11658" y="5681"/>
                  <a:pt x="11612" y="5751"/>
                  <a:pt x="11609" y="5879"/>
                </a:cubicBezTo>
                <a:cubicBezTo>
                  <a:pt x="11604" y="6055"/>
                  <a:pt x="11573" y="6285"/>
                  <a:pt x="11633" y="6449"/>
                </a:cubicBezTo>
              </a:path>
              <a:path w="2605" h="1117">
                <a:moveTo>
                  <a:pt x="11385" y="6052"/>
                </a:moveTo>
                <a:cubicBezTo>
                  <a:pt x="11479" y="6052"/>
                  <a:pt x="11565" y="6031"/>
                  <a:pt x="11658" y="6028"/>
                </a:cubicBezTo>
                <a:cubicBezTo>
                  <a:pt x="11776" y="6025"/>
                  <a:pt x="11888" y="6013"/>
                  <a:pt x="12005" y="6003"/>
                </a:cubicBezTo>
                <a:cubicBezTo>
                  <a:pt x="11961" y="6111"/>
                  <a:pt x="11883" y="6174"/>
                  <a:pt x="11832" y="6276"/>
                </a:cubicBezTo>
                <a:cubicBezTo>
                  <a:pt x="11787" y="6366"/>
                  <a:pt x="11795" y="6391"/>
                  <a:pt x="11807" y="6474"/>
                </a:cubicBezTo>
                <a:cubicBezTo>
                  <a:pt x="11881" y="6519"/>
                  <a:pt x="11915" y="6505"/>
                  <a:pt x="11981" y="6449"/>
                </a:cubicBezTo>
                <a:cubicBezTo>
                  <a:pt x="12007" y="6427"/>
                  <a:pt x="12047" y="6314"/>
                  <a:pt x="12055" y="6276"/>
                </a:cubicBezTo>
                <a:cubicBezTo>
                  <a:pt x="12069" y="6211"/>
                  <a:pt x="12043" y="6137"/>
                  <a:pt x="12030" y="6077"/>
                </a:cubicBezTo>
                <a:cubicBezTo>
                  <a:pt x="12011" y="6166"/>
                  <a:pt x="11984" y="6282"/>
                  <a:pt x="12005" y="6375"/>
                </a:cubicBezTo>
                <a:cubicBezTo>
                  <a:pt x="12017" y="6427"/>
                  <a:pt x="12061" y="6463"/>
                  <a:pt x="12105" y="6474"/>
                </a:cubicBezTo>
              </a:path>
              <a:path w="2605" h="1117">
                <a:moveTo>
                  <a:pt x="12179" y="6176"/>
                </a:moveTo>
                <a:cubicBezTo>
                  <a:pt x="12179" y="6293"/>
                  <a:pt x="12190" y="6386"/>
                  <a:pt x="12204" y="6499"/>
                </a:cubicBezTo>
                <a:cubicBezTo>
                  <a:pt x="12204" y="6515"/>
                  <a:pt x="12204" y="6532"/>
                  <a:pt x="12204" y="6548"/>
                </a:cubicBezTo>
                <a:cubicBezTo>
                  <a:pt x="12229" y="6482"/>
                  <a:pt x="12246" y="6396"/>
                  <a:pt x="12254" y="6325"/>
                </a:cubicBezTo>
                <a:cubicBezTo>
                  <a:pt x="12265" y="6228"/>
                  <a:pt x="12241" y="6145"/>
                  <a:pt x="12278" y="6052"/>
                </a:cubicBezTo>
                <a:cubicBezTo>
                  <a:pt x="12308" y="5993"/>
                  <a:pt x="12323" y="5966"/>
                  <a:pt x="12353" y="5928"/>
                </a:cubicBezTo>
                <a:cubicBezTo>
                  <a:pt x="12452" y="5953"/>
                  <a:pt x="12495" y="5995"/>
                  <a:pt x="12502" y="6102"/>
                </a:cubicBezTo>
                <a:cubicBezTo>
                  <a:pt x="12509" y="6210"/>
                  <a:pt x="12518" y="6272"/>
                  <a:pt x="12502" y="6375"/>
                </a:cubicBezTo>
                <a:cubicBezTo>
                  <a:pt x="12502" y="6416"/>
                  <a:pt x="12502" y="6440"/>
                  <a:pt x="12502" y="6400"/>
                </a:cubicBezTo>
              </a:path>
              <a:path w="2605" h="1117">
                <a:moveTo>
                  <a:pt x="12477" y="5507"/>
                </a:moveTo>
                <a:cubicBezTo>
                  <a:pt x="12552" y="5476"/>
                  <a:pt x="12661" y="5407"/>
                  <a:pt x="12750" y="5432"/>
                </a:cubicBezTo>
                <a:cubicBezTo>
                  <a:pt x="12867" y="5465"/>
                  <a:pt x="12767" y="5578"/>
                  <a:pt x="12725" y="5631"/>
                </a:cubicBezTo>
                <a:cubicBezTo>
                  <a:pt x="12684" y="5680"/>
                  <a:pt x="12642" y="5730"/>
                  <a:pt x="12601" y="5779"/>
                </a:cubicBezTo>
                <a:cubicBezTo>
                  <a:pt x="12635" y="5813"/>
                  <a:pt x="12668" y="5873"/>
                  <a:pt x="12725" y="5854"/>
                </a:cubicBezTo>
                <a:cubicBezTo>
                  <a:pt x="12733" y="5846"/>
                  <a:pt x="12742" y="5837"/>
                  <a:pt x="12750" y="5829"/>
                </a:cubicBezTo>
              </a:path>
              <a:path w="2605" h="1117">
                <a:moveTo>
                  <a:pt x="13097" y="5531"/>
                </a:moveTo>
                <a:cubicBezTo>
                  <a:pt x="13027" y="5705"/>
                  <a:pt x="12952" y="5891"/>
                  <a:pt x="12923" y="6077"/>
                </a:cubicBezTo>
                <a:cubicBezTo>
                  <a:pt x="12910" y="6163"/>
                  <a:pt x="12948" y="6241"/>
                  <a:pt x="12998" y="6300"/>
                </a:cubicBezTo>
                <a:cubicBezTo>
                  <a:pt x="13042" y="6352"/>
                  <a:pt x="13096" y="6404"/>
                  <a:pt x="13171" y="6375"/>
                </a:cubicBezTo>
                <a:cubicBezTo>
                  <a:pt x="13239" y="6349"/>
                  <a:pt x="13281" y="6258"/>
                  <a:pt x="13295" y="6201"/>
                </a:cubicBezTo>
                <a:cubicBezTo>
                  <a:pt x="13331" y="6058"/>
                  <a:pt x="13343" y="5915"/>
                  <a:pt x="13271" y="5779"/>
                </a:cubicBezTo>
                <a:cubicBezTo>
                  <a:pt x="13259" y="5756"/>
                  <a:pt x="13146" y="5615"/>
                  <a:pt x="13122" y="5606"/>
                </a:cubicBezTo>
                <a:cubicBezTo>
                  <a:pt x="13063" y="5585"/>
                  <a:pt x="13027" y="5592"/>
                  <a:pt x="12973" y="5606"/>
                </a:cubicBezTo>
              </a:path>
              <a:path w="2605" h="1117">
                <a:moveTo>
                  <a:pt x="12750" y="5928"/>
                </a:moveTo>
                <a:cubicBezTo>
                  <a:pt x="12910" y="5975"/>
                  <a:pt x="13052" y="6026"/>
                  <a:pt x="13221" y="6003"/>
                </a:cubicBezTo>
                <a:cubicBezTo>
                  <a:pt x="13334" y="5975"/>
                  <a:pt x="13379" y="5959"/>
                  <a:pt x="13444" y="5904"/>
                </a:cubicBezTo>
              </a:path>
              <a:path w="2605" h="1117">
                <a:moveTo>
                  <a:pt x="10840" y="6276"/>
                </a:moveTo>
                <a:cubicBezTo>
                  <a:pt x="10948" y="6235"/>
                  <a:pt x="11025" y="6264"/>
                  <a:pt x="11137" y="6276"/>
                </a:cubicBezTo>
                <a:cubicBezTo>
                  <a:pt x="11221" y="6285"/>
                  <a:pt x="11302" y="6291"/>
                  <a:pt x="11385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633240" y="2732040"/>
            <a:ext cx="2197440" cy="723960"/>
          </a:xfrm>
          <a:custGeom>
            <a:avLst/>
            <a:gdLst/>
            <a:ahLst/>
            <a:rect l="l" t="t" r="r" b="b"/>
            <a:pathLst>
              <a:path w="6103" h="2010">
                <a:moveTo>
                  <a:pt x="3026" y="8086"/>
                </a:moveTo>
                <a:cubicBezTo>
                  <a:pt x="2962" y="8023"/>
                  <a:pt x="2900" y="8032"/>
                  <a:pt x="2803" y="8062"/>
                </a:cubicBezTo>
                <a:cubicBezTo>
                  <a:pt x="2704" y="8092"/>
                  <a:pt x="2555" y="8166"/>
                  <a:pt x="2480" y="8235"/>
                </a:cubicBezTo>
                <a:cubicBezTo>
                  <a:pt x="2434" y="8277"/>
                  <a:pt x="2422" y="8309"/>
                  <a:pt x="2480" y="8359"/>
                </a:cubicBezTo>
                <a:cubicBezTo>
                  <a:pt x="2574" y="8439"/>
                  <a:pt x="2671" y="8467"/>
                  <a:pt x="2753" y="8558"/>
                </a:cubicBezTo>
                <a:cubicBezTo>
                  <a:pt x="2797" y="8607"/>
                  <a:pt x="2918" y="8666"/>
                  <a:pt x="2853" y="8756"/>
                </a:cubicBezTo>
                <a:cubicBezTo>
                  <a:pt x="2812" y="8813"/>
                  <a:pt x="2616" y="8870"/>
                  <a:pt x="2555" y="8880"/>
                </a:cubicBezTo>
                <a:cubicBezTo>
                  <a:pt x="2464" y="8895"/>
                  <a:pt x="2382" y="8892"/>
                  <a:pt x="2332" y="8830"/>
                </a:cubicBezTo>
              </a:path>
              <a:path w="6103" h="2010">
                <a:moveTo>
                  <a:pt x="2828" y="8533"/>
                </a:moveTo>
                <a:cubicBezTo>
                  <a:pt x="2890" y="8509"/>
                  <a:pt x="2943" y="8504"/>
                  <a:pt x="3001" y="8483"/>
                </a:cubicBezTo>
                <a:cubicBezTo>
                  <a:pt x="3063" y="8461"/>
                  <a:pt x="3105" y="8404"/>
                  <a:pt x="3150" y="8359"/>
                </a:cubicBezTo>
                <a:cubicBezTo>
                  <a:pt x="3210" y="8298"/>
                  <a:pt x="3219" y="8259"/>
                  <a:pt x="3200" y="8186"/>
                </a:cubicBezTo>
                <a:cubicBezTo>
                  <a:pt x="3150" y="8205"/>
                  <a:pt x="3063" y="8242"/>
                  <a:pt x="3026" y="8285"/>
                </a:cubicBezTo>
                <a:cubicBezTo>
                  <a:pt x="2986" y="8331"/>
                  <a:pt x="2936" y="8449"/>
                  <a:pt x="2927" y="8508"/>
                </a:cubicBezTo>
                <a:cubicBezTo>
                  <a:pt x="2915" y="8586"/>
                  <a:pt x="2924" y="8649"/>
                  <a:pt x="2977" y="8706"/>
                </a:cubicBezTo>
                <a:cubicBezTo>
                  <a:pt x="3058" y="8794"/>
                  <a:pt x="3041" y="8792"/>
                  <a:pt x="3150" y="8781"/>
                </a:cubicBezTo>
                <a:cubicBezTo>
                  <a:pt x="3225" y="8781"/>
                  <a:pt x="3256" y="8761"/>
                  <a:pt x="3274" y="8682"/>
                </a:cubicBezTo>
              </a:path>
              <a:path w="6103" h="2010">
                <a:moveTo>
                  <a:pt x="3497" y="8210"/>
                </a:moveTo>
                <a:cubicBezTo>
                  <a:pt x="3458" y="8250"/>
                  <a:pt x="3432" y="8292"/>
                  <a:pt x="3398" y="8334"/>
                </a:cubicBezTo>
                <a:cubicBezTo>
                  <a:pt x="3345" y="8399"/>
                  <a:pt x="3292" y="8472"/>
                  <a:pt x="3274" y="8558"/>
                </a:cubicBezTo>
                <a:cubicBezTo>
                  <a:pt x="3260" y="8625"/>
                  <a:pt x="3266" y="8723"/>
                  <a:pt x="3299" y="8781"/>
                </a:cubicBezTo>
                <a:cubicBezTo>
                  <a:pt x="3329" y="8834"/>
                  <a:pt x="3415" y="8872"/>
                  <a:pt x="3473" y="8855"/>
                </a:cubicBezTo>
                <a:cubicBezTo>
                  <a:pt x="3505" y="8846"/>
                  <a:pt x="3563" y="8798"/>
                  <a:pt x="3597" y="8781"/>
                </a:cubicBezTo>
              </a:path>
              <a:path w="6103" h="2010">
                <a:moveTo>
                  <a:pt x="3547" y="7714"/>
                </a:moveTo>
                <a:cubicBezTo>
                  <a:pt x="3600" y="7699"/>
                  <a:pt x="3708" y="7664"/>
                  <a:pt x="3746" y="7739"/>
                </a:cubicBezTo>
                <a:cubicBezTo>
                  <a:pt x="3770" y="7787"/>
                  <a:pt x="3697" y="7878"/>
                  <a:pt x="3671" y="7913"/>
                </a:cubicBezTo>
                <a:cubicBezTo>
                  <a:pt x="3622" y="7979"/>
                  <a:pt x="3565" y="8040"/>
                  <a:pt x="3621" y="8111"/>
                </a:cubicBezTo>
                <a:cubicBezTo>
                  <a:pt x="3676" y="8180"/>
                  <a:pt x="3737" y="8161"/>
                  <a:pt x="3820" y="8161"/>
                </a:cubicBezTo>
                <a:cubicBezTo>
                  <a:pt x="3837" y="8161"/>
                  <a:pt x="3853" y="8161"/>
                  <a:pt x="3870" y="8161"/>
                </a:cubicBezTo>
              </a:path>
              <a:path w="6103" h="2010">
                <a:moveTo>
                  <a:pt x="4118" y="8086"/>
                </a:moveTo>
                <a:cubicBezTo>
                  <a:pt x="4122" y="8238"/>
                  <a:pt x="4113" y="8454"/>
                  <a:pt x="4167" y="8607"/>
                </a:cubicBezTo>
                <a:cubicBezTo>
                  <a:pt x="4186" y="8661"/>
                  <a:pt x="4208" y="8696"/>
                  <a:pt x="4217" y="8756"/>
                </a:cubicBezTo>
              </a:path>
              <a:path w="6103" h="2010">
                <a:moveTo>
                  <a:pt x="3944" y="8458"/>
                </a:moveTo>
                <a:cubicBezTo>
                  <a:pt x="4068" y="8458"/>
                  <a:pt x="4192" y="8458"/>
                  <a:pt x="4316" y="8458"/>
                </a:cubicBezTo>
              </a:path>
              <a:path w="6103" h="2010">
                <a:moveTo>
                  <a:pt x="4787" y="7863"/>
                </a:moveTo>
                <a:cubicBezTo>
                  <a:pt x="4787" y="8042"/>
                  <a:pt x="4793" y="8211"/>
                  <a:pt x="4812" y="8384"/>
                </a:cubicBezTo>
                <a:cubicBezTo>
                  <a:pt x="4822" y="8477"/>
                  <a:pt x="4814" y="8567"/>
                  <a:pt x="4837" y="8657"/>
                </a:cubicBezTo>
                <a:cubicBezTo>
                  <a:pt x="4856" y="8714"/>
                  <a:pt x="4865" y="8721"/>
                  <a:pt x="4862" y="8756"/>
                </a:cubicBezTo>
              </a:path>
              <a:path w="6103" h="2010">
                <a:moveTo>
                  <a:pt x="4564" y="8359"/>
                </a:moveTo>
                <a:cubicBezTo>
                  <a:pt x="4654" y="8329"/>
                  <a:pt x="4742" y="8321"/>
                  <a:pt x="4837" y="8310"/>
                </a:cubicBezTo>
                <a:cubicBezTo>
                  <a:pt x="4980" y="8293"/>
                  <a:pt x="5120" y="8280"/>
                  <a:pt x="5259" y="8260"/>
                </a:cubicBezTo>
                <a:cubicBezTo>
                  <a:pt x="5275" y="8260"/>
                  <a:pt x="5292" y="8260"/>
                  <a:pt x="5308" y="8260"/>
                </a:cubicBezTo>
                <a:cubicBezTo>
                  <a:pt x="5335" y="8341"/>
                  <a:pt x="5297" y="8391"/>
                  <a:pt x="5234" y="8458"/>
                </a:cubicBezTo>
                <a:cubicBezTo>
                  <a:pt x="5175" y="8521"/>
                  <a:pt x="5140" y="8570"/>
                  <a:pt x="5135" y="8657"/>
                </a:cubicBezTo>
                <a:cubicBezTo>
                  <a:pt x="5131" y="8735"/>
                  <a:pt x="5187" y="8751"/>
                  <a:pt x="5259" y="8731"/>
                </a:cubicBezTo>
                <a:cubicBezTo>
                  <a:pt x="5344" y="8707"/>
                  <a:pt x="5369" y="8610"/>
                  <a:pt x="5383" y="8533"/>
                </a:cubicBezTo>
                <a:cubicBezTo>
                  <a:pt x="5396" y="8463"/>
                  <a:pt x="5381" y="8396"/>
                  <a:pt x="5358" y="8334"/>
                </a:cubicBezTo>
                <a:cubicBezTo>
                  <a:pt x="5369" y="8454"/>
                  <a:pt x="5410" y="8527"/>
                  <a:pt x="5482" y="8632"/>
                </a:cubicBezTo>
                <a:cubicBezTo>
                  <a:pt x="5523" y="8692"/>
                  <a:pt x="5531" y="8727"/>
                  <a:pt x="5606" y="8731"/>
                </a:cubicBezTo>
                <a:cubicBezTo>
                  <a:pt x="5622" y="8731"/>
                  <a:pt x="5639" y="8731"/>
                  <a:pt x="5655" y="8731"/>
                </a:cubicBezTo>
              </a:path>
              <a:path w="6103" h="2010">
                <a:moveTo>
                  <a:pt x="5655" y="8334"/>
                </a:moveTo>
                <a:cubicBezTo>
                  <a:pt x="5663" y="8417"/>
                  <a:pt x="5692" y="8480"/>
                  <a:pt x="5705" y="8558"/>
                </a:cubicBezTo>
                <a:cubicBezTo>
                  <a:pt x="5705" y="8609"/>
                  <a:pt x="5706" y="8628"/>
                  <a:pt x="5730" y="8657"/>
                </a:cubicBezTo>
                <a:cubicBezTo>
                  <a:pt x="5711" y="8588"/>
                  <a:pt x="5689" y="8508"/>
                  <a:pt x="5705" y="8434"/>
                </a:cubicBezTo>
                <a:cubicBezTo>
                  <a:pt x="5723" y="8353"/>
                  <a:pt x="5750" y="8269"/>
                  <a:pt x="5829" y="8260"/>
                </a:cubicBezTo>
                <a:cubicBezTo>
                  <a:pt x="5945" y="8246"/>
                  <a:pt x="5965" y="8378"/>
                  <a:pt x="6003" y="8458"/>
                </a:cubicBezTo>
                <a:cubicBezTo>
                  <a:pt x="6039" y="8534"/>
                  <a:pt x="6025" y="8613"/>
                  <a:pt x="6052" y="8682"/>
                </a:cubicBezTo>
                <a:cubicBezTo>
                  <a:pt x="6080" y="8709"/>
                  <a:pt x="6089" y="8713"/>
                  <a:pt x="6077" y="8657"/>
                </a:cubicBezTo>
              </a:path>
              <a:path w="6103" h="2010">
                <a:moveTo>
                  <a:pt x="6077" y="7764"/>
                </a:moveTo>
                <a:cubicBezTo>
                  <a:pt x="6118" y="7691"/>
                  <a:pt x="6149" y="7660"/>
                  <a:pt x="6251" y="7689"/>
                </a:cubicBezTo>
                <a:cubicBezTo>
                  <a:pt x="6330" y="7711"/>
                  <a:pt x="6328" y="7781"/>
                  <a:pt x="6300" y="7838"/>
                </a:cubicBezTo>
                <a:cubicBezTo>
                  <a:pt x="6271" y="7897"/>
                  <a:pt x="6216" y="7938"/>
                  <a:pt x="6176" y="7987"/>
                </a:cubicBezTo>
                <a:cubicBezTo>
                  <a:pt x="6087" y="8094"/>
                  <a:pt x="6184" y="8091"/>
                  <a:pt x="6251" y="8111"/>
                </a:cubicBezTo>
                <a:cubicBezTo>
                  <a:pt x="6320" y="8132"/>
                  <a:pt x="6347" y="8136"/>
                  <a:pt x="6424" y="8136"/>
                </a:cubicBezTo>
              </a:path>
              <a:path w="6103" h="2010">
                <a:moveTo>
                  <a:pt x="6821" y="8111"/>
                </a:moveTo>
                <a:cubicBezTo>
                  <a:pt x="6748" y="8266"/>
                  <a:pt x="6598" y="8453"/>
                  <a:pt x="6672" y="8632"/>
                </a:cubicBezTo>
                <a:cubicBezTo>
                  <a:pt x="6699" y="8697"/>
                  <a:pt x="6732" y="8748"/>
                  <a:pt x="6796" y="8756"/>
                </a:cubicBezTo>
                <a:cubicBezTo>
                  <a:pt x="6881" y="8766"/>
                  <a:pt x="6931" y="8735"/>
                  <a:pt x="6995" y="8682"/>
                </a:cubicBezTo>
                <a:cubicBezTo>
                  <a:pt x="7067" y="8622"/>
                  <a:pt x="7090" y="8524"/>
                  <a:pt x="7094" y="8434"/>
                </a:cubicBezTo>
                <a:cubicBezTo>
                  <a:pt x="7098" y="8331"/>
                  <a:pt x="7060" y="8241"/>
                  <a:pt x="6995" y="8161"/>
                </a:cubicBezTo>
                <a:cubicBezTo>
                  <a:pt x="6911" y="8058"/>
                  <a:pt x="6827" y="8040"/>
                  <a:pt x="6722" y="7987"/>
                </a:cubicBezTo>
                <a:cubicBezTo>
                  <a:pt x="6714" y="7979"/>
                  <a:pt x="6705" y="7970"/>
                  <a:pt x="6697" y="7962"/>
                </a:cubicBezTo>
              </a:path>
              <a:path w="6103" h="2010">
                <a:moveTo>
                  <a:pt x="6499" y="8310"/>
                </a:moveTo>
                <a:cubicBezTo>
                  <a:pt x="6620" y="8349"/>
                  <a:pt x="6692" y="8359"/>
                  <a:pt x="6821" y="8359"/>
                </a:cubicBezTo>
                <a:cubicBezTo>
                  <a:pt x="6911" y="8359"/>
                  <a:pt x="6982" y="8354"/>
                  <a:pt x="7069" y="8334"/>
                </a:cubicBezTo>
              </a:path>
              <a:path w="6103" h="2010">
                <a:moveTo>
                  <a:pt x="7665" y="7590"/>
                </a:moveTo>
                <a:cubicBezTo>
                  <a:pt x="7795" y="7802"/>
                  <a:pt x="7840" y="7956"/>
                  <a:pt x="7863" y="8210"/>
                </a:cubicBezTo>
                <a:cubicBezTo>
                  <a:pt x="7878" y="8381"/>
                  <a:pt x="7846" y="8539"/>
                  <a:pt x="7813" y="8706"/>
                </a:cubicBezTo>
                <a:cubicBezTo>
                  <a:pt x="7783" y="8858"/>
                  <a:pt x="7700" y="8949"/>
                  <a:pt x="7565" y="9029"/>
                </a:cubicBezTo>
                <a:cubicBezTo>
                  <a:pt x="7532" y="9046"/>
                  <a:pt x="7499" y="9062"/>
                  <a:pt x="7466" y="9079"/>
                </a:cubicBezTo>
              </a:path>
              <a:path w="6103" h="2010">
                <a:moveTo>
                  <a:pt x="2034" y="7863"/>
                </a:moveTo>
                <a:cubicBezTo>
                  <a:pt x="1942" y="8065"/>
                  <a:pt x="1860" y="8244"/>
                  <a:pt x="1811" y="8458"/>
                </a:cubicBezTo>
                <a:cubicBezTo>
                  <a:pt x="1772" y="8629"/>
                  <a:pt x="1751" y="8756"/>
                  <a:pt x="1786" y="8930"/>
                </a:cubicBezTo>
                <a:cubicBezTo>
                  <a:pt x="1818" y="9088"/>
                  <a:pt x="1866" y="9329"/>
                  <a:pt x="1984" y="9451"/>
                </a:cubicBezTo>
                <a:cubicBezTo>
                  <a:pt x="2079" y="9521"/>
                  <a:pt x="2107" y="9541"/>
                  <a:pt x="215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813120" y="2813040"/>
            <a:ext cx="27000" cy="465120"/>
          </a:xfrm>
          <a:custGeom>
            <a:avLst/>
            <a:gdLst/>
            <a:ahLst/>
            <a:rect l="l" t="t" r="r" b="b"/>
            <a:pathLst>
              <a:path w="75" h="1291">
                <a:moveTo>
                  <a:pt x="10666" y="7813"/>
                </a:moveTo>
                <a:cubicBezTo>
                  <a:pt x="10666" y="7944"/>
                  <a:pt x="10654" y="8056"/>
                  <a:pt x="10641" y="8186"/>
                </a:cubicBezTo>
                <a:cubicBezTo>
                  <a:pt x="10617" y="8424"/>
                  <a:pt x="10627" y="8701"/>
                  <a:pt x="10666" y="8930"/>
                </a:cubicBezTo>
                <a:cubicBezTo>
                  <a:pt x="10673" y="8969"/>
                  <a:pt x="10649" y="9082"/>
                  <a:pt x="10616" y="9103"/>
                </a:cubicBezTo>
                <a:cubicBezTo>
                  <a:pt x="10608" y="9103"/>
                  <a:pt x="10600" y="9103"/>
                  <a:pt x="10592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4473720" y="3017880"/>
            <a:ext cx="161640" cy="9828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12427" y="8384"/>
                </a:moveTo>
                <a:cubicBezTo>
                  <a:pt x="12529" y="8384"/>
                  <a:pt x="12623" y="8405"/>
                  <a:pt x="12725" y="8409"/>
                </a:cubicBezTo>
                <a:cubicBezTo>
                  <a:pt x="12791" y="8409"/>
                  <a:pt x="12824" y="8409"/>
                  <a:pt x="12874" y="8409"/>
                </a:cubicBezTo>
              </a:path>
              <a:path w="448" h="274">
                <a:moveTo>
                  <a:pt x="12526" y="8632"/>
                </a:moveTo>
                <a:cubicBezTo>
                  <a:pt x="12699" y="8657"/>
                  <a:pt x="12757" y="8665"/>
                  <a:pt x="12874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1009800" y="3303720"/>
            <a:ext cx="241200" cy="482400"/>
          </a:xfrm>
          <a:custGeom>
            <a:avLst/>
            <a:gdLst/>
            <a:ahLst/>
            <a:rect l="l" t="t" r="r" b="b"/>
            <a:pathLst>
              <a:path w="671" h="1340">
                <a:moveTo>
                  <a:pt x="3076" y="9178"/>
                </a:moveTo>
                <a:cubicBezTo>
                  <a:pt x="3076" y="9396"/>
                  <a:pt x="3081" y="9611"/>
                  <a:pt x="3101" y="9823"/>
                </a:cubicBezTo>
                <a:cubicBezTo>
                  <a:pt x="3110" y="9914"/>
                  <a:pt x="3097" y="10008"/>
                  <a:pt x="3125" y="10096"/>
                </a:cubicBezTo>
                <a:cubicBezTo>
                  <a:pt x="3144" y="10158"/>
                  <a:pt x="3179" y="10200"/>
                  <a:pt x="3101" y="10220"/>
                </a:cubicBezTo>
              </a:path>
              <a:path w="671" h="1340">
                <a:moveTo>
                  <a:pt x="2828" y="9996"/>
                </a:moveTo>
                <a:cubicBezTo>
                  <a:pt x="2797" y="10048"/>
                  <a:pt x="2807" y="10087"/>
                  <a:pt x="2828" y="10145"/>
                </a:cubicBezTo>
                <a:cubicBezTo>
                  <a:pt x="2853" y="10215"/>
                  <a:pt x="2881" y="10308"/>
                  <a:pt x="2927" y="10368"/>
                </a:cubicBezTo>
                <a:cubicBezTo>
                  <a:pt x="2962" y="10414"/>
                  <a:pt x="3082" y="10611"/>
                  <a:pt x="3150" y="10468"/>
                </a:cubicBezTo>
                <a:cubicBezTo>
                  <a:pt x="3183" y="10398"/>
                  <a:pt x="3200" y="10307"/>
                  <a:pt x="3249" y="10244"/>
                </a:cubicBezTo>
                <a:cubicBezTo>
                  <a:pt x="3303" y="10174"/>
                  <a:pt x="3369" y="10154"/>
                  <a:pt x="3423" y="10096"/>
                </a:cubicBezTo>
                <a:cubicBezTo>
                  <a:pt x="3443" y="10055"/>
                  <a:pt x="3441" y="10039"/>
                  <a:pt x="3473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704880" y="3894120"/>
            <a:ext cx="1430280" cy="428760"/>
          </a:xfrm>
          <a:custGeom>
            <a:avLst/>
            <a:gdLst/>
            <a:ahLst/>
            <a:rect l="l" t="t" r="r" b="b"/>
            <a:pathLst>
              <a:path w="3969" h="1191">
                <a:moveTo>
                  <a:pt x="2307" y="10840"/>
                </a:moveTo>
                <a:cubicBezTo>
                  <a:pt x="2307" y="10987"/>
                  <a:pt x="2286" y="11118"/>
                  <a:pt x="2282" y="11261"/>
                </a:cubicBezTo>
                <a:cubicBezTo>
                  <a:pt x="2278" y="11380"/>
                  <a:pt x="2262" y="11491"/>
                  <a:pt x="2257" y="11609"/>
                </a:cubicBezTo>
                <a:cubicBezTo>
                  <a:pt x="2254" y="11678"/>
                  <a:pt x="2238" y="11803"/>
                  <a:pt x="2282" y="11832"/>
                </a:cubicBezTo>
              </a:path>
              <a:path w="3969" h="1191">
                <a:moveTo>
                  <a:pt x="1960" y="11237"/>
                </a:moveTo>
                <a:cubicBezTo>
                  <a:pt x="2065" y="11246"/>
                  <a:pt x="2181" y="11263"/>
                  <a:pt x="2282" y="11286"/>
                </a:cubicBezTo>
                <a:cubicBezTo>
                  <a:pt x="2355" y="11311"/>
                  <a:pt x="2379" y="11319"/>
                  <a:pt x="2431" y="11311"/>
                </a:cubicBezTo>
              </a:path>
              <a:path w="3969" h="1191">
                <a:moveTo>
                  <a:pt x="2927" y="11435"/>
                </a:moveTo>
                <a:cubicBezTo>
                  <a:pt x="2881" y="11450"/>
                  <a:pt x="2899" y="11397"/>
                  <a:pt x="2853" y="11336"/>
                </a:cubicBezTo>
                <a:cubicBezTo>
                  <a:pt x="2803" y="11270"/>
                  <a:pt x="2759" y="11269"/>
                  <a:pt x="2704" y="11336"/>
                </a:cubicBezTo>
                <a:cubicBezTo>
                  <a:pt x="2657" y="11394"/>
                  <a:pt x="2608" y="11462"/>
                  <a:pt x="2580" y="11534"/>
                </a:cubicBezTo>
                <a:cubicBezTo>
                  <a:pt x="2546" y="11621"/>
                  <a:pt x="2543" y="11683"/>
                  <a:pt x="2604" y="11757"/>
                </a:cubicBezTo>
                <a:cubicBezTo>
                  <a:pt x="2656" y="11821"/>
                  <a:pt x="2771" y="11769"/>
                  <a:pt x="2828" y="11733"/>
                </a:cubicBezTo>
                <a:cubicBezTo>
                  <a:pt x="2867" y="11708"/>
                  <a:pt x="2895" y="11619"/>
                  <a:pt x="2902" y="11584"/>
                </a:cubicBezTo>
                <a:cubicBezTo>
                  <a:pt x="2927" y="11457"/>
                  <a:pt x="2880" y="11494"/>
                  <a:pt x="2902" y="11609"/>
                </a:cubicBezTo>
                <a:cubicBezTo>
                  <a:pt x="2915" y="11676"/>
                  <a:pt x="2915" y="11787"/>
                  <a:pt x="2977" y="11832"/>
                </a:cubicBezTo>
                <a:cubicBezTo>
                  <a:pt x="3038" y="11876"/>
                  <a:pt x="3080" y="11900"/>
                  <a:pt x="3150" y="11857"/>
                </a:cubicBezTo>
                <a:cubicBezTo>
                  <a:pt x="3158" y="11849"/>
                  <a:pt x="3167" y="11840"/>
                  <a:pt x="3175" y="11832"/>
                </a:cubicBezTo>
              </a:path>
              <a:path w="3969" h="1191">
                <a:moveTo>
                  <a:pt x="3249" y="11435"/>
                </a:moveTo>
                <a:cubicBezTo>
                  <a:pt x="3225" y="11500"/>
                  <a:pt x="3204" y="11564"/>
                  <a:pt x="3200" y="11633"/>
                </a:cubicBezTo>
                <a:cubicBezTo>
                  <a:pt x="3196" y="11699"/>
                  <a:pt x="3205" y="11772"/>
                  <a:pt x="3225" y="11832"/>
                </a:cubicBezTo>
                <a:cubicBezTo>
                  <a:pt x="3233" y="11848"/>
                  <a:pt x="3241" y="11865"/>
                  <a:pt x="3249" y="11881"/>
                </a:cubicBezTo>
                <a:cubicBezTo>
                  <a:pt x="3249" y="11783"/>
                  <a:pt x="3260" y="11699"/>
                  <a:pt x="3274" y="11609"/>
                </a:cubicBezTo>
                <a:cubicBezTo>
                  <a:pt x="3286" y="11531"/>
                  <a:pt x="3274" y="11482"/>
                  <a:pt x="3324" y="11410"/>
                </a:cubicBezTo>
                <a:cubicBezTo>
                  <a:pt x="3348" y="11375"/>
                  <a:pt x="3430" y="11321"/>
                  <a:pt x="3473" y="11336"/>
                </a:cubicBezTo>
                <a:cubicBezTo>
                  <a:pt x="3527" y="11354"/>
                  <a:pt x="3587" y="11427"/>
                  <a:pt x="3597" y="11485"/>
                </a:cubicBezTo>
                <a:cubicBezTo>
                  <a:pt x="3614" y="11582"/>
                  <a:pt x="3621" y="11682"/>
                  <a:pt x="3621" y="11782"/>
                </a:cubicBezTo>
                <a:cubicBezTo>
                  <a:pt x="3621" y="11799"/>
                  <a:pt x="3621" y="11815"/>
                  <a:pt x="3621" y="11832"/>
                </a:cubicBezTo>
              </a:path>
              <a:path w="3969" h="1191">
                <a:moveTo>
                  <a:pt x="3721" y="10840"/>
                </a:moveTo>
                <a:cubicBezTo>
                  <a:pt x="3817" y="10813"/>
                  <a:pt x="3878" y="10806"/>
                  <a:pt x="3969" y="10864"/>
                </a:cubicBezTo>
                <a:cubicBezTo>
                  <a:pt x="4022" y="10898"/>
                  <a:pt x="4002" y="11046"/>
                  <a:pt x="3969" y="11088"/>
                </a:cubicBezTo>
                <a:cubicBezTo>
                  <a:pt x="3944" y="11120"/>
                  <a:pt x="3859" y="11137"/>
                  <a:pt x="3845" y="11187"/>
                </a:cubicBezTo>
                <a:cubicBezTo>
                  <a:pt x="3817" y="11288"/>
                  <a:pt x="4023" y="11243"/>
                  <a:pt x="4068" y="11237"/>
                </a:cubicBezTo>
              </a:path>
              <a:path w="3969" h="1191">
                <a:moveTo>
                  <a:pt x="4564" y="11013"/>
                </a:moveTo>
                <a:cubicBezTo>
                  <a:pt x="4513" y="11095"/>
                  <a:pt x="4455" y="11171"/>
                  <a:pt x="4415" y="11261"/>
                </a:cubicBezTo>
                <a:cubicBezTo>
                  <a:pt x="4367" y="11368"/>
                  <a:pt x="4313" y="11495"/>
                  <a:pt x="4291" y="11609"/>
                </a:cubicBezTo>
                <a:cubicBezTo>
                  <a:pt x="4275" y="11692"/>
                  <a:pt x="4293" y="11809"/>
                  <a:pt x="4341" y="11881"/>
                </a:cubicBezTo>
                <a:cubicBezTo>
                  <a:pt x="4390" y="11955"/>
                  <a:pt x="4441" y="12018"/>
                  <a:pt x="4539" y="12005"/>
                </a:cubicBezTo>
                <a:cubicBezTo>
                  <a:pt x="4682" y="11986"/>
                  <a:pt x="4729" y="11953"/>
                  <a:pt x="4787" y="11832"/>
                </a:cubicBezTo>
                <a:cubicBezTo>
                  <a:pt x="4844" y="11713"/>
                  <a:pt x="4883" y="11641"/>
                  <a:pt x="4887" y="11509"/>
                </a:cubicBezTo>
                <a:cubicBezTo>
                  <a:pt x="4891" y="11398"/>
                  <a:pt x="4890" y="11289"/>
                  <a:pt x="4837" y="11187"/>
                </a:cubicBezTo>
                <a:cubicBezTo>
                  <a:pt x="4803" y="11122"/>
                  <a:pt x="4751" y="11032"/>
                  <a:pt x="4688" y="10988"/>
                </a:cubicBezTo>
                <a:cubicBezTo>
                  <a:pt x="4638" y="10953"/>
                  <a:pt x="4619" y="10947"/>
                  <a:pt x="4564" y="10939"/>
                </a:cubicBezTo>
              </a:path>
              <a:path w="3969" h="1191">
                <a:moveTo>
                  <a:pt x="4142" y="11509"/>
                </a:moveTo>
                <a:cubicBezTo>
                  <a:pt x="4298" y="11593"/>
                  <a:pt x="4409" y="11579"/>
                  <a:pt x="4589" y="11609"/>
                </a:cubicBezTo>
                <a:cubicBezTo>
                  <a:pt x="4727" y="11632"/>
                  <a:pt x="4826" y="11623"/>
                  <a:pt x="4961" y="11609"/>
                </a:cubicBezTo>
                <a:cubicBezTo>
                  <a:pt x="5037" y="11609"/>
                  <a:pt x="5063" y="11608"/>
                  <a:pt x="5110" y="11584"/>
                </a:cubicBezTo>
              </a:path>
              <a:path w="3969" h="1191">
                <a:moveTo>
                  <a:pt x="5631" y="11361"/>
                </a:moveTo>
                <a:cubicBezTo>
                  <a:pt x="5631" y="11466"/>
                  <a:pt x="5610" y="11557"/>
                  <a:pt x="5606" y="11658"/>
                </a:cubicBezTo>
                <a:cubicBezTo>
                  <a:pt x="5603" y="11728"/>
                  <a:pt x="5613" y="11838"/>
                  <a:pt x="5631" y="11906"/>
                </a:cubicBezTo>
                <a:cubicBezTo>
                  <a:pt x="5651" y="11947"/>
                  <a:pt x="5659" y="11953"/>
                  <a:pt x="5655" y="11981"/>
                </a:cubicBezTo>
              </a:path>
              <a:path w="3969" h="1191">
                <a:moveTo>
                  <a:pt x="5432" y="11609"/>
                </a:moveTo>
                <a:cubicBezTo>
                  <a:pt x="5597" y="11609"/>
                  <a:pt x="5763" y="11609"/>
                  <a:pt x="5928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2320920" y="3983040"/>
            <a:ext cx="36360" cy="384120"/>
          </a:xfrm>
          <a:custGeom>
            <a:avLst/>
            <a:gdLst/>
            <a:ahLst/>
            <a:rect l="l" t="t" r="r" b="b"/>
            <a:pathLst>
              <a:path w="100" h="1067">
                <a:moveTo>
                  <a:pt x="6548" y="11063"/>
                </a:moveTo>
                <a:cubicBezTo>
                  <a:pt x="6505" y="11188"/>
                  <a:pt x="6461" y="11305"/>
                  <a:pt x="6449" y="11435"/>
                </a:cubicBezTo>
                <a:cubicBezTo>
                  <a:pt x="6434" y="11595"/>
                  <a:pt x="6389" y="11991"/>
                  <a:pt x="6474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2670120" y="3938760"/>
            <a:ext cx="1374840" cy="482400"/>
          </a:xfrm>
          <a:custGeom>
            <a:avLst/>
            <a:gdLst/>
            <a:ahLst/>
            <a:rect l="l" t="t" r="r" b="b"/>
            <a:pathLst>
              <a:path w="3821" h="1340">
                <a:moveTo>
                  <a:pt x="7665" y="11137"/>
                </a:moveTo>
                <a:cubicBezTo>
                  <a:pt x="7658" y="11242"/>
                  <a:pt x="7640" y="11328"/>
                  <a:pt x="7640" y="11435"/>
                </a:cubicBezTo>
                <a:cubicBezTo>
                  <a:pt x="7640" y="11566"/>
                  <a:pt x="7669" y="11655"/>
                  <a:pt x="7689" y="11782"/>
                </a:cubicBezTo>
                <a:cubicBezTo>
                  <a:pt x="7700" y="11851"/>
                  <a:pt x="7726" y="11914"/>
                  <a:pt x="7739" y="11981"/>
                </a:cubicBezTo>
              </a:path>
              <a:path w="3821" h="1340">
                <a:moveTo>
                  <a:pt x="7417" y="11609"/>
                </a:moveTo>
                <a:cubicBezTo>
                  <a:pt x="7544" y="11627"/>
                  <a:pt x="7710" y="11673"/>
                  <a:pt x="7838" y="11658"/>
                </a:cubicBezTo>
                <a:cubicBezTo>
                  <a:pt x="7871" y="11650"/>
                  <a:pt x="7905" y="11641"/>
                  <a:pt x="7938" y="11633"/>
                </a:cubicBezTo>
              </a:path>
              <a:path w="3821" h="1340">
                <a:moveTo>
                  <a:pt x="8508" y="11162"/>
                </a:moveTo>
                <a:cubicBezTo>
                  <a:pt x="8508" y="11303"/>
                  <a:pt x="8468" y="11443"/>
                  <a:pt x="8483" y="11584"/>
                </a:cubicBezTo>
                <a:cubicBezTo>
                  <a:pt x="8495" y="11689"/>
                  <a:pt x="8521" y="11801"/>
                  <a:pt x="8533" y="11906"/>
                </a:cubicBezTo>
                <a:cubicBezTo>
                  <a:pt x="8541" y="11981"/>
                  <a:pt x="8546" y="12043"/>
                  <a:pt x="8582" y="12105"/>
                </a:cubicBezTo>
              </a:path>
              <a:path w="3821" h="1340">
                <a:moveTo>
                  <a:pt x="8310" y="11633"/>
                </a:moveTo>
                <a:cubicBezTo>
                  <a:pt x="8277" y="11608"/>
                  <a:pt x="8243" y="11584"/>
                  <a:pt x="8210" y="11559"/>
                </a:cubicBezTo>
                <a:cubicBezTo>
                  <a:pt x="8311" y="11539"/>
                  <a:pt x="8425" y="11557"/>
                  <a:pt x="8533" y="11584"/>
                </a:cubicBezTo>
                <a:cubicBezTo>
                  <a:pt x="8654" y="11615"/>
                  <a:pt x="8781" y="11647"/>
                  <a:pt x="8905" y="11658"/>
                </a:cubicBezTo>
                <a:cubicBezTo>
                  <a:pt x="8988" y="11658"/>
                  <a:pt x="9004" y="11658"/>
                  <a:pt x="9054" y="11658"/>
                </a:cubicBezTo>
                <a:cubicBezTo>
                  <a:pt x="8961" y="11692"/>
                  <a:pt x="8910" y="11729"/>
                  <a:pt x="8830" y="11782"/>
                </a:cubicBezTo>
                <a:cubicBezTo>
                  <a:pt x="8769" y="11823"/>
                  <a:pt x="8729" y="11906"/>
                  <a:pt x="8781" y="11981"/>
                </a:cubicBezTo>
                <a:cubicBezTo>
                  <a:pt x="8831" y="12054"/>
                  <a:pt x="9033" y="12166"/>
                  <a:pt x="9103" y="12055"/>
                </a:cubicBezTo>
                <a:cubicBezTo>
                  <a:pt x="9143" y="11992"/>
                  <a:pt x="9128" y="11903"/>
                  <a:pt x="9128" y="11832"/>
                </a:cubicBezTo>
                <a:cubicBezTo>
                  <a:pt x="9128" y="11798"/>
                  <a:pt x="9065" y="11651"/>
                  <a:pt x="9103" y="11757"/>
                </a:cubicBezTo>
                <a:cubicBezTo>
                  <a:pt x="9134" y="11844"/>
                  <a:pt x="9153" y="11902"/>
                  <a:pt x="9203" y="11981"/>
                </a:cubicBezTo>
                <a:cubicBezTo>
                  <a:pt x="9240" y="12040"/>
                  <a:pt x="9272" y="12052"/>
                  <a:pt x="9327" y="12080"/>
                </a:cubicBezTo>
              </a:path>
              <a:path w="3821" h="1340">
                <a:moveTo>
                  <a:pt x="9351" y="11683"/>
                </a:moveTo>
                <a:cubicBezTo>
                  <a:pt x="9360" y="11780"/>
                  <a:pt x="9388" y="11892"/>
                  <a:pt x="9426" y="11981"/>
                </a:cubicBezTo>
                <a:cubicBezTo>
                  <a:pt x="9464" y="12071"/>
                  <a:pt x="9441" y="11926"/>
                  <a:pt x="9451" y="11857"/>
                </a:cubicBezTo>
                <a:cubicBezTo>
                  <a:pt x="9462" y="11779"/>
                  <a:pt x="9451" y="11729"/>
                  <a:pt x="9500" y="11658"/>
                </a:cubicBezTo>
                <a:cubicBezTo>
                  <a:pt x="9529" y="11616"/>
                  <a:pt x="9572" y="11576"/>
                  <a:pt x="9624" y="11584"/>
                </a:cubicBezTo>
                <a:cubicBezTo>
                  <a:pt x="9737" y="11601"/>
                  <a:pt x="9777" y="11645"/>
                  <a:pt x="9798" y="11757"/>
                </a:cubicBezTo>
                <a:cubicBezTo>
                  <a:pt x="9816" y="11849"/>
                  <a:pt x="9819" y="11942"/>
                  <a:pt x="9847" y="12030"/>
                </a:cubicBezTo>
                <a:cubicBezTo>
                  <a:pt x="9866" y="12090"/>
                  <a:pt x="9868" y="12131"/>
                  <a:pt x="9897" y="12179"/>
                </a:cubicBezTo>
              </a:path>
              <a:path w="3821" h="1340">
                <a:moveTo>
                  <a:pt x="9773" y="11038"/>
                </a:moveTo>
                <a:cubicBezTo>
                  <a:pt x="9822" y="10989"/>
                  <a:pt x="9867" y="10925"/>
                  <a:pt x="9947" y="10939"/>
                </a:cubicBezTo>
                <a:cubicBezTo>
                  <a:pt x="9993" y="10947"/>
                  <a:pt x="10168" y="10991"/>
                  <a:pt x="10195" y="11038"/>
                </a:cubicBezTo>
                <a:cubicBezTo>
                  <a:pt x="10229" y="11097"/>
                  <a:pt x="10126" y="11162"/>
                  <a:pt x="10096" y="11187"/>
                </a:cubicBezTo>
                <a:cubicBezTo>
                  <a:pt x="10036" y="11237"/>
                  <a:pt x="10046" y="11254"/>
                  <a:pt x="10096" y="11311"/>
                </a:cubicBezTo>
                <a:cubicBezTo>
                  <a:pt x="10151" y="11373"/>
                  <a:pt x="10243" y="11336"/>
                  <a:pt x="10319" y="11336"/>
                </a:cubicBezTo>
              </a:path>
              <a:path w="3821" h="1340">
                <a:moveTo>
                  <a:pt x="10790" y="11212"/>
                </a:moveTo>
                <a:cubicBezTo>
                  <a:pt x="10717" y="11351"/>
                  <a:pt x="10636" y="11481"/>
                  <a:pt x="10592" y="11633"/>
                </a:cubicBezTo>
                <a:cubicBezTo>
                  <a:pt x="10537" y="11821"/>
                  <a:pt x="10525" y="11895"/>
                  <a:pt x="10616" y="12080"/>
                </a:cubicBezTo>
                <a:cubicBezTo>
                  <a:pt x="10653" y="12156"/>
                  <a:pt x="10762" y="12256"/>
                  <a:pt x="10840" y="12278"/>
                </a:cubicBezTo>
                <a:cubicBezTo>
                  <a:pt x="10926" y="12303"/>
                  <a:pt x="11031" y="12268"/>
                  <a:pt x="11088" y="12204"/>
                </a:cubicBezTo>
                <a:cubicBezTo>
                  <a:pt x="11173" y="12108"/>
                  <a:pt x="11224" y="11957"/>
                  <a:pt x="11237" y="11832"/>
                </a:cubicBezTo>
                <a:cubicBezTo>
                  <a:pt x="11253" y="11678"/>
                  <a:pt x="11183" y="11413"/>
                  <a:pt x="11112" y="11286"/>
                </a:cubicBezTo>
                <a:cubicBezTo>
                  <a:pt x="11025" y="11131"/>
                  <a:pt x="10969" y="11058"/>
                  <a:pt x="10815" y="11038"/>
                </a:cubicBezTo>
              </a:path>
              <a:path w="3821" h="1340">
                <a:moveTo>
                  <a:pt x="10269" y="11559"/>
                </a:moveTo>
                <a:cubicBezTo>
                  <a:pt x="10444" y="11620"/>
                  <a:pt x="10627" y="11646"/>
                  <a:pt x="10815" y="11658"/>
                </a:cubicBezTo>
                <a:cubicBezTo>
                  <a:pt x="10940" y="11658"/>
                  <a:pt x="10982" y="11658"/>
                  <a:pt x="11063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4411800" y="4170240"/>
            <a:ext cx="179280" cy="10800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12254" y="11584"/>
                </a:moveTo>
                <a:cubicBezTo>
                  <a:pt x="12370" y="11584"/>
                  <a:pt x="12485" y="11584"/>
                  <a:pt x="12601" y="11584"/>
                </a:cubicBezTo>
              </a:path>
              <a:path w="497" h="298">
                <a:moveTo>
                  <a:pt x="12378" y="11757"/>
                </a:moveTo>
                <a:cubicBezTo>
                  <a:pt x="12502" y="11797"/>
                  <a:pt x="12629" y="11834"/>
                  <a:pt x="12750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1633680" y="4616280"/>
            <a:ext cx="2305080" cy="563760"/>
          </a:xfrm>
          <a:custGeom>
            <a:avLst/>
            <a:gdLst/>
            <a:ahLst/>
            <a:rect l="l" t="t" r="r" b="b"/>
            <a:pathLst>
              <a:path w="6401" h="1564">
                <a:moveTo>
                  <a:pt x="4564" y="12824"/>
                </a:moveTo>
                <a:cubicBezTo>
                  <a:pt x="4598" y="12926"/>
                  <a:pt x="4574" y="13015"/>
                  <a:pt x="4589" y="13122"/>
                </a:cubicBezTo>
                <a:cubicBezTo>
                  <a:pt x="4610" y="13269"/>
                  <a:pt x="4589" y="13414"/>
                  <a:pt x="4589" y="13568"/>
                </a:cubicBezTo>
                <a:cubicBezTo>
                  <a:pt x="4589" y="13712"/>
                  <a:pt x="4586" y="13897"/>
                  <a:pt x="4564" y="14039"/>
                </a:cubicBezTo>
                <a:cubicBezTo>
                  <a:pt x="4542" y="14083"/>
                  <a:pt x="4529" y="14095"/>
                  <a:pt x="4564" y="14114"/>
                </a:cubicBezTo>
              </a:path>
              <a:path w="6401" h="1564">
                <a:moveTo>
                  <a:pt x="5110" y="13345"/>
                </a:moveTo>
                <a:cubicBezTo>
                  <a:pt x="5110" y="13544"/>
                  <a:pt x="5110" y="13704"/>
                  <a:pt x="5135" y="13891"/>
                </a:cubicBezTo>
                <a:cubicBezTo>
                  <a:pt x="5135" y="13940"/>
                  <a:pt x="5135" y="13957"/>
                  <a:pt x="5135" y="13990"/>
                </a:cubicBezTo>
              </a:path>
              <a:path w="6401" h="1564">
                <a:moveTo>
                  <a:pt x="4887" y="13543"/>
                </a:moveTo>
                <a:cubicBezTo>
                  <a:pt x="5009" y="13568"/>
                  <a:pt x="5136" y="13602"/>
                  <a:pt x="5259" y="13618"/>
                </a:cubicBezTo>
                <a:cubicBezTo>
                  <a:pt x="5284" y="13618"/>
                  <a:pt x="5308" y="13618"/>
                  <a:pt x="5333" y="13618"/>
                </a:cubicBezTo>
              </a:path>
              <a:path w="6401" h="1564">
                <a:moveTo>
                  <a:pt x="5779" y="13221"/>
                </a:moveTo>
                <a:cubicBezTo>
                  <a:pt x="5855" y="13136"/>
                  <a:pt x="5885" y="13114"/>
                  <a:pt x="6003" y="13146"/>
                </a:cubicBezTo>
                <a:cubicBezTo>
                  <a:pt x="6146" y="13184"/>
                  <a:pt x="6190" y="13338"/>
                  <a:pt x="6201" y="13469"/>
                </a:cubicBezTo>
                <a:cubicBezTo>
                  <a:pt x="6211" y="13597"/>
                  <a:pt x="6162" y="13730"/>
                  <a:pt x="6102" y="13841"/>
                </a:cubicBezTo>
                <a:cubicBezTo>
                  <a:pt x="6047" y="13942"/>
                  <a:pt x="5962" y="13971"/>
                  <a:pt x="5879" y="14015"/>
                </a:cubicBezTo>
                <a:cubicBezTo>
                  <a:pt x="5871" y="14023"/>
                  <a:pt x="5862" y="14031"/>
                  <a:pt x="5854" y="14039"/>
                </a:cubicBezTo>
                <a:cubicBezTo>
                  <a:pt x="5784" y="13970"/>
                  <a:pt x="5736" y="13865"/>
                  <a:pt x="5854" y="13791"/>
                </a:cubicBezTo>
                <a:cubicBezTo>
                  <a:pt x="5972" y="13716"/>
                  <a:pt x="6054" y="13867"/>
                  <a:pt x="6127" y="13940"/>
                </a:cubicBezTo>
                <a:cubicBezTo>
                  <a:pt x="6260" y="14073"/>
                  <a:pt x="6258" y="14095"/>
                  <a:pt x="6449" y="14114"/>
                </a:cubicBezTo>
              </a:path>
              <a:path w="6401" h="1564">
                <a:moveTo>
                  <a:pt x="6796" y="13097"/>
                </a:moveTo>
                <a:cubicBezTo>
                  <a:pt x="6796" y="13307"/>
                  <a:pt x="6809" y="13508"/>
                  <a:pt x="6821" y="13717"/>
                </a:cubicBezTo>
                <a:cubicBezTo>
                  <a:pt x="6828" y="13844"/>
                  <a:pt x="6838" y="13963"/>
                  <a:pt x="6846" y="14089"/>
                </a:cubicBezTo>
              </a:path>
              <a:path w="6401" h="1564">
                <a:moveTo>
                  <a:pt x="6623" y="13543"/>
                </a:moveTo>
                <a:cubicBezTo>
                  <a:pt x="6724" y="13510"/>
                  <a:pt x="6796" y="13524"/>
                  <a:pt x="6896" y="13568"/>
                </a:cubicBezTo>
                <a:cubicBezTo>
                  <a:pt x="7002" y="13615"/>
                  <a:pt x="7100" y="13637"/>
                  <a:pt x="7218" y="13643"/>
                </a:cubicBezTo>
                <a:cubicBezTo>
                  <a:pt x="7235" y="13643"/>
                  <a:pt x="7251" y="13643"/>
                  <a:pt x="7268" y="13643"/>
                </a:cubicBezTo>
                <a:cubicBezTo>
                  <a:pt x="7182" y="13715"/>
                  <a:pt x="7116" y="13751"/>
                  <a:pt x="7094" y="13866"/>
                </a:cubicBezTo>
                <a:cubicBezTo>
                  <a:pt x="7082" y="13929"/>
                  <a:pt x="7098" y="14016"/>
                  <a:pt x="7169" y="14039"/>
                </a:cubicBezTo>
                <a:cubicBezTo>
                  <a:pt x="7260" y="14069"/>
                  <a:pt x="7272" y="14019"/>
                  <a:pt x="7317" y="13965"/>
                </a:cubicBezTo>
                <a:cubicBezTo>
                  <a:pt x="7378" y="13891"/>
                  <a:pt x="7402" y="13836"/>
                  <a:pt x="7417" y="13742"/>
                </a:cubicBezTo>
                <a:cubicBezTo>
                  <a:pt x="7417" y="13697"/>
                  <a:pt x="7420" y="13684"/>
                  <a:pt x="7392" y="13667"/>
                </a:cubicBezTo>
                <a:cubicBezTo>
                  <a:pt x="7392" y="13753"/>
                  <a:pt x="7404" y="13812"/>
                  <a:pt x="7441" y="13891"/>
                </a:cubicBezTo>
                <a:cubicBezTo>
                  <a:pt x="7467" y="13946"/>
                  <a:pt x="7490" y="13969"/>
                  <a:pt x="7541" y="13990"/>
                </a:cubicBezTo>
              </a:path>
              <a:path w="6401" h="1564">
                <a:moveTo>
                  <a:pt x="7615" y="13667"/>
                </a:moveTo>
                <a:cubicBezTo>
                  <a:pt x="7596" y="13773"/>
                  <a:pt x="7582" y="13842"/>
                  <a:pt x="7615" y="13940"/>
                </a:cubicBezTo>
                <a:cubicBezTo>
                  <a:pt x="7623" y="13957"/>
                  <a:pt x="7632" y="13973"/>
                  <a:pt x="7640" y="13990"/>
                </a:cubicBezTo>
                <a:cubicBezTo>
                  <a:pt x="7689" y="13916"/>
                  <a:pt x="7680" y="13848"/>
                  <a:pt x="7714" y="13767"/>
                </a:cubicBezTo>
                <a:cubicBezTo>
                  <a:pt x="7741" y="13703"/>
                  <a:pt x="7771" y="13646"/>
                  <a:pt x="7813" y="13593"/>
                </a:cubicBezTo>
                <a:cubicBezTo>
                  <a:pt x="7896" y="13640"/>
                  <a:pt x="7927" y="13676"/>
                  <a:pt x="7962" y="13767"/>
                </a:cubicBezTo>
                <a:cubicBezTo>
                  <a:pt x="7997" y="13857"/>
                  <a:pt x="8006" y="13968"/>
                  <a:pt x="8012" y="14064"/>
                </a:cubicBezTo>
                <a:cubicBezTo>
                  <a:pt x="8012" y="14072"/>
                  <a:pt x="8012" y="14081"/>
                  <a:pt x="8012" y="14089"/>
                </a:cubicBezTo>
              </a:path>
              <a:path w="6401" h="1564">
                <a:moveTo>
                  <a:pt x="8086" y="13072"/>
                </a:moveTo>
                <a:cubicBezTo>
                  <a:pt x="8223" y="12951"/>
                  <a:pt x="8221" y="12918"/>
                  <a:pt x="8384" y="12973"/>
                </a:cubicBezTo>
                <a:cubicBezTo>
                  <a:pt x="8464" y="13000"/>
                  <a:pt x="8587" y="13067"/>
                  <a:pt x="8508" y="13171"/>
                </a:cubicBezTo>
                <a:cubicBezTo>
                  <a:pt x="8480" y="13209"/>
                  <a:pt x="8375" y="13239"/>
                  <a:pt x="8359" y="13295"/>
                </a:cubicBezTo>
                <a:cubicBezTo>
                  <a:pt x="8330" y="13396"/>
                  <a:pt x="8375" y="13450"/>
                  <a:pt x="8458" y="13494"/>
                </a:cubicBezTo>
                <a:cubicBezTo>
                  <a:pt x="8547" y="13538"/>
                  <a:pt x="8568" y="13554"/>
                  <a:pt x="8632" y="13543"/>
                </a:cubicBezTo>
              </a:path>
              <a:path w="6401" h="1564">
                <a:moveTo>
                  <a:pt x="9128" y="13097"/>
                </a:moveTo>
                <a:cubicBezTo>
                  <a:pt x="9078" y="13177"/>
                  <a:pt x="8985" y="13255"/>
                  <a:pt x="8954" y="13345"/>
                </a:cubicBezTo>
                <a:cubicBezTo>
                  <a:pt x="8898" y="13505"/>
                  <a:pt x="8884" y="13674"/>
                  <a:pt x="8880" y="13841"/>
                </a:cubicBezTo>
                <a:cubicBezTo>
                  <a:pt x="8877" y="13969"/>
                  <a:pt x="8911" y="14191"/>
                  <a:pt x="9004" y="14288"/>
                </a:cubicBezTo>
                <a:cubicBezTo>
                  <a:pt x="9061" y="14347"/>
                  <a:pt x="9162" y="14422"/>
                  <a:pt x="9252" y="14387"/>
                </a:cubicBezTo>
                <a:cubicBezTo>
                  <a:pt x="9397" y="14331"/>
                  <a:pt x="9502" y="14257"/>
                  <a:pt x="9599" y="14139"/>
                </a:cubicBezTo>
                <a:cubicBezTo>
                  <a:pt x="9716" y="13997"/>
                  <a:pt x="9743" y="13896"/>
                  <a:pt x="9748" y="13717"/>
                </a:cubicBezTo>
                <a:cubicBezTo>
                  <a:pt x="9752" y="13580"/>
                  <a:pt x="9758" y="13438"/>
                  <a:pt x="9674" y="13320"/>
                </a:cubicBezTo>
                <a:cubicBezTo>
                  <a:pt x="9599" y="13214"/>
                  <a:pt x="9454" y="13105"/>
                  <a:pt x="9327" y="13072"/>
                </a:cubicBezTo>
                <a:cubicBezTo>
                  <a:pt x="9203" y="13040"/>
                  <a:pt x="9142" y="13047"/>
                  <a:pt x="9153" y="13146"/>
                </a:cubicBezTo>
              </a:path>
              <a:path w="6401" h="1564">
                <a:moveTo>
                  <a:pt x="9872" y="13519"/>
                </a:moveTo>
                <a:cubicBezTo>
                  <a:pt x="9594" y="13519"/>
                  <a:pt x="9303" y="13491"/>
                  <a:pt x="9029" y="13543"/>
                </a:cubicBezTo>
                <a:cubicBezTo>
                  <a:pt x="8892" y="13569"/>
                  <a:pt x="8676" y="13535"/>
                  <a:pt x="8632" y="13667"/>
                </a:cubicBezTo>
                <a:cubicBezTo>
                  <a:pt x="8640" y="13675"/>
                  <a:pt x="8649" y="13684"/>
                  <a:pt x="8657" y="13692"/>
                </a:cubicBezTo>
              </a:path>
              <a:path w="6401" h="1564">
                <a:moveTo>
                  <a:pt x="10319" y="13816"/>
                </a:moveTo>
                <a:cubicBezTo>
                  <a:pt x="10492" y="13847"/>
                  <a:pt x="10646" y="13878"/>
                  <a:pt x="10815" y="13915"/>
                </a:cubicBezTo>
              </a:path>
              <a:path w="6401" h="1564">
                <a:moveTo>
                  <a:pt x="10542" y="13891"/>
                </a:moveTo>
                <a:cubicBezTo>
                  <a:pt x="10624" y="13999"/>
                  <a:pt x="10709" y="14006"/>
                  <a:pt x="10840" y="14039"/>
                </a:cubicBezTo>
                <a:cubicBezTo>
                  <a:pt x="10873" y="14047"/>
                  <a:pt x="10906" y="14056"/>
                  <a:pt x="10939" y="140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4303800" y="4732200"/>
            <a:ext cx="2019240" cy="474840"/>
          </a:xfrm>
          <a:custGeom>
            <a:avLst/>
            <a:gdLst/>
            <a:ahLst/>
            <a:rect l="l" t="t" r="r" b="b"/>
            <a:pathLst>
              <a:path w="5607" h="1316">
                <a:moveTo>
                  <a:pt x="12105" y="13146"/>
                </a:moveTo>
                <a:cubicBezTo>
                  <a:pt x="12054" y="13269"/>
                  <a:pt x="12009" y="13360"/>
                  <a:pt x="11981" y="13494"/>
                </a:cubicBezTo>
                <a:cubicBezTo>
                  <a:pt x="11944" y="13670"/>
                  <a:pt x="11968" y="13815"/>
                  <a:pt x="11981" y="13990"/>
                </a:cubicBezTo>
                <a:cubicBezTo>
                  <a:pt x="11990" y="14109"/>
                  <a:pt x="12007" y="14224"/>
                  <a:pt x="12030" y="14337"/>
                </a:cubicBezTo>
              </a:path>
              <a:path w="5607" h="1316">
                <a:moveTo>
                  <a:pt x="12650" y="13395"/>
                </a:moveTo>
                <a:cubicBezTo>
                  <a:pt x="12657" y="13535"/>
                  <a:pt x="12677" y="13678"/>
                  <a:pt x="12700" y="13816"/>
                </a:cubicBezTo>
                <a:cubicBezTo>
                  <a:pt x="12717" y="13919"/>
                  <a:pt x="12725" y="14010"/>
                  <a:pt x="12725" y="14114"/>
                </a:cubicBezTo>
              </a:path>
              <a:path w="5607" h="1316">
                <a:moveTo>
                  <a:pt x="12427" y="13791"/>
                </a:moveTo>
                <a:cubicBezTo>
                  <a:pt x="12543" y="13814"/>
                  <a:pt x="12656" y="13832"/>
                  <a:pt x="12774" y="13841"/>
                </a:cubicBezTo>
              </a:path>
              <a:path w="5607" h="1316">
                <a:moveTo>
                  <a:pt x="13469" y="13395"/>
                </a:moveTo>
                <a:cubicBezTo>
                  <a:pt x="13690" y="13471"/>
                  <a:pt x="13747" y="13470"/>
                  <a:pt x="13717" y="13717"/>
                </a:cubicBezTo>
                <a:cubicBezTo>
                  <a:pt x="13691" y="13925"/>
                  <a:pt x="13542" y="14038"/>
                  <a:pt x="13370" y="14139"/>
                </a:cubicBezTo>
                <a:cubicBezTo>
                  <a:pt x="13305" y="14177"/>
                  <a:pt x="13282" y="14144"/>
                  <a:pt x="13221" y="14114"/>
                </a:cubicBezTo>
                <a:cubicBezTo>
                  <a:pt x="13240" y="14066"/>
                  <a:pt x="13285" y="13933"/>
                  <a:pt x="13345" y="13915"/>
                </a:cubicBezTo>
                <a:cubicBezTo>
                  <a:pt x="13450" y="13884"/>
                  <a:pt x="13550" y="13941"/>
                  <a:pt x="13618" y="14015"/>
                </a:cubicBezTo>
                <a:cubicBezTo>
                  <a:pt x="13704" y="14110"/>
                  <a:pt x="13758" y="14209"/>
                  <a:pt x="13866" y="14263"/>
                </a:cubicBezTo>
              </a:path>
              <a:path w="5607" h="1316">
                <a:moveTo>
                  <a:pt x="14263" y="13320"/>
                </a:moveTo>
                <a:cubicBezTo>
                  <a:pt x="14277" y="13502"/>
                  <a:pt x="14288" y="13681"/>
                  <a:pt x="14288" y="13866"/>
                </a:cubicBezTo>
                <a:cubicBezTo>
                  <a:pt x="14288" y="14007"/>
                  <a:pt x="14288" y="14147"/>
                  <a:pt x="14288" y="14288"/>
                </a:cubicBezTo>
              </a:path>
              <a:path w="5607" h="1316">
                <a:moveTo>
                  <a:pt x="14064" y="13742"/>
                </a:moveTo>
                <a:cubicBezTo>
                  <a:pt x="14172" y="13796"/>
                  <a:pt x="14277" y="13822"/>
                  <a:pt x="14387" y="13866"/>
                </a:cubicBezTo>
                <a:cubicBezTo>
                  <a:pt x="14483" y="13913"/>
                  <a:pt x="14512" y="13930"/>
                  <a:pt x="14585" y="13915"/>
                </a:cubicBezTo>
              </a:path>
              <a:path w="5607" h="1316">
                <a:moveTo>
                  <a:pt x="14784" y="13866"/>
                </a:moveTo>
                <a:cubicBezTo>
                  <a:pt x="14754" y="13856"/>
                  <a:pt x="14611" y="13857"/>
                  <a:pt x="14585" y="13915"/>
                </a:cubicBezTo>
                <a:cubicBezTo>
                  <a:pt x="14567" y="13956"/>
                  <a:pt x="14530" y="14154"/>
                  <a:pt x="14610" y="14188"/>
                </a:cubicBezTo>
                <a:cubicBezTo>
                  <a:pt x="14703" y="14227"/>
                  <a:pt x="14772" y="14101"/>
                  <a:pt x="14808" y="14039"/>
                </a:cubicBezTo>
                <a:cubicBezTo>
                  <a:pt x="14833" y="13990"/>
                  <a:pt x="14842" y="13973"/>
                  <a:pt x="14858" y="13940"/>
                </a:cubicBezTo>
                <a:cubicBezTo>
                  <a:pt x="14858" y="14071"/>
                  <a:pt x="14864" y="14089"/>
                  <a:pt x="14957" y="14188"/>
                </a:cubicBezTo>
                <a:cubicBezTo>
                  <a:pt x="14965" y="14196"/>
                  <a:pt x="14974" y="14205"/>
                  <a:pt x="14982" y="14213"/>
                </a:cubicBezTo>
              </a:path>
              <a:path w="5607" h="1316">
                <a:moveTo>
                  <a:pt x="15205" y="13841"/>
                </a:moveTo>
                <a:cubicBezTo>
                  <a:pt x="15205" y="13949"/>
                  <a:pt x="15218" y="14036"/>
                  <a:pt x="15230" y="14139"/>
                </a:cubicBezTo>
                <a:cubicBezTo>
                  <a:pt x="15230" y="14200"/>
                  <a:pt x="15221" y="14216"/>
                  <a:pt x="15255" y="14238"/>
                </a:cubicBezTo>
                <a:cubicBezTo>
                  <a:pt x="15283" y="14160"/>
                  <a:pt x="15317" y="14089"/>
                  <a:pt x="15354" y="14015"/>
                </a:cubicBezTo>
                <a:cubicBezTo>
                  <a:pt x="15398" y="13927"/>
                  <a:pt x="15430" y="13907"/>
                  <a:pt x="15528" y="13940"/>
                </a:cubicBezTo>
                <a:cubicBezTo>
                  <a:pt x="15609" y="13967"/>
                  <a:pt x="15642" y="14088"/>
                  <a:pt x="15652" y="14163"/>
                </a:cubicBezTo>
                <a:cubicBezTo>
                  <a:pt x="15664" y="14250"/>
                  <a:pt x="15649" y="14332"/>
                  <a:pt x="15627" y="14412"/>
                </a:cubicBezTo>
              </a:path>
              <a:path w="5607" h="1316">
                <a:moveTo>
                  <a:pt x="15652" y="13742"/>
                </a:moveTo>
                <a:cubicBezTo>
                  <a:pt x="15691" y="13626"/>
                  <a:pt x="15730" y="13433"/>
                  <a:pt x="15801" y="13320"/>
                </a:cubicBezTo>
                <a:cubicBezTo>
                  <a:pt x="15890" y="13179"/>
                  <a:pt x="16081" y="13444"/>
                  <a:pt x="16098" y="13469"/>
                </a:cubicBezTo>
                <a:cubicBezTo>
                  <a:pt x="16136" y="13526"/>
                  <a:pt x="16080" y="13626"/>
                  <a:pt x="16024" y="13643"/>
                </a:cubicBezTo>
                <a:cubicBezTo>
                  <a:pt x="15946" y="13666"/>
                  <a:pt x="15942" y="13645"/>
                  <a:pt x="15925" y="13593"/>
                </a:cubicBezTo>
                <a:cubicBezTo>
                  <a:pt x="16053" y="13604"/>
                  <a:pt x="16174" y="13630"/>
                  <a:pt x="16297" y="13667"/>
                </a:cubicBezTo>
                <a:cubicBezTo>
                  <a:pt x="16370" y="13692"/>
                  <a:pt x="16394" y="13700"/>
                  <a:pt x="16446" y="13692"/>
                </a:cubicBezTo>
              </a:path>
              <a:path w="5607" h="1316">
                <a:moveTo>
                  <a:pt x="16694" y="13419"/>
                </a:moveTo>
                <a:cubicBezTo>
                  <a:pt x="16522" y="13625"/>
                  <a:pt x="16444" y="13730"/>
                  <a:pt x="16470" y="14015"/>
                </a:cubicBezTo>
                <a:cubicBezTo>
                  <a:pt x="16483" y="14154"/>
                  <a:pt x="16563" y="14322"/>
                  <a:pt x="16669" y="14412"/>
                </a:cubicBezTo>
                <a:cubicBezTo>
                  <a:pt x="16746" y="14478"/>
                  <a:pt x="16860" y="14462"/>
                  <a:pt x="16942" y="14412"/>
                </a:cubicBezTo>
                <a:cubicBezTo>
                  <a:pt x="17047" y="14348"/>
                  <a:pt x="17165" y="14175"/>
                  <a:pt x="17214" y="14064"/>
                </a:cubicBezTo>
                <a:cubicBezTo>
                  <a:pt x="17295" y="13882"/>
                  <a:pt x="17309" y="13716"/>
                  <a:pt x="17214" y="13543"/>
                </a:cubicBezTo>
                <a:cubicBezTo>
                  <a:pt x="17182" y="13484"/>
                  <a:pt x="17084" y="13378"/>
                  <a:pt x="17016" y="13469"/>
                </a:cubicBezTo>
                <a:cubicBezTo>
                  <a:pt x="17016" y="13477"/>
                  <a:pt x="17016" y="13486"/>
                  <a:pt x="17016" y="13494"/>
                </a:cubicBezTo>
              </a:path>
              <a:path w="5607" h="1316">
                <a:moveTo>
                  <a:pt x="17562" y="13866"/>
                </a:moveTo>
                <a:cubicBezTo>
                  <a:pt x="17318" y="13866"/>
                  <a:pt x="17083" y="13887"/>
                  <a:pt x="16842" y="13891"/>
                </a:cubicBezTo>
                <a:cubicBezTo>
                  <a:pt x="16628" y="13895"/>
                  <a:pt x="16409" y="13886"/>
                  <a:pt x="16197" y="13915"/>
                </a:cubicBezTo>
                <a:cubicBezTo>
                  <a:pt x="16105" y="13928"/>
                  <a:pt x="16011" y="13958"/>
                  <a:pt x="15925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6777000" y="795240"/>
            <a:ext cx="17928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8876" y="2381"/>
                </a:moveTo>
                <a:cubicBezTo>
                  <a:pt x="18910" y="2339"/>
                  <a:pt x="18918" y="2294"/>
                  <a:pt x="18951" y="2257"/>
                </a:cubicBezTo>
                <a:cubicBezTo>
                  <a:pt x="19015" y="2185"/>
                  <a:pt x="19050" y="2201"/>
                  <a:pt x="19100" y="2257"/>
                </a:cubicBezTo>
                <a:cubicBezTo>
                  <a:pt x="19127" y="2287"/>
                  <a:pt x="19151" y="2444"/>
                  <a:pt x="19149" y="2480"/>
                </a:cubicBezTo>
                <a:cubicBezTo>
                  <a:pt x="19145" y="2532"/>
                  <a:pt x="19117" y="2665"/>
                  <a:pt x="19075" y="2704"/>
                </a:cubicBezTo>
                <a:cubicBezTo>
                  <a:pt x="19033" y="2743"/>
                  <a:pt x="18970" y="2763"/>
                  <a:pt x="18926" y="2803"/>
                </a:cubicBezTo>
                <a:cubicBezTo>
                  <a:pt x="18918" y="2811"/>
                  <a:pt x="18909" y="2820"/>
                  <a:pt x="18901" y="2828"/>
                </a:cubicBezTo>
                <a:cubicBezTo>
                  <a:pt x="18838" y="2791"/>
                  <a:pt x="18798" y="2772"/>
                  <a:pt x="18852" y="2704"/>
                </a:cubicBezTo>
                <a:cubicBezTo>
                  <a:pt x="18902" y="2640"/>
                  <a:pt x="18946" y="2654"/>
                  <a:pt x="19025" y="2654"/>
                </a:cubicBezTo>
                <a:cubicBezTo>
                  <a:pt x="19099" y="2654"/>
                  <a:pt x="19231" y="2680"/>
                  <a:pt x="19298" y="2704"/>
                </a:cubicBezTo>
                <a:cubicBezTo>
                  <a:pt x="19306" y="2712"/>
                  <a:pt x="19315" y="2721"/>
                  <a:pt x="19323" y="27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2411280" y="160200"/>
            <a:ext cx="411120" cy="696960"/>
          </a:xfrm>
          <a:custGeom>
            <a:avLst/>
            <a:gdLst/>
            <a:ahLst/>
            <a:rect l="l" t="t" r="r" b="b"/>
            <a:pathLst>
              <a:path w="1142" h="1936">
                <a:moveTo>
                  <a:pt x="6697" y="1389"/>
                </a:moveTo>
                <a:cubicBezTo>
                  <a:pt x="6749" y="1480"/>
                  <a:pt x="6771" y="1590"/>
                  <a:pt x="6821" y="1687"/>
                </a:cubicBezTo>
                <a:cubicBezTo>
                  <a:pt x="6901" y="1843"/>
                  <a:pt x="6969" y="1960"/>
                  <a:pt x="7094" y="2084"/>
                </a:cubicBezTo>
                <a:cubicBezTo>
                  <a:pt x="7116" y="2106"/>
                  <a:pt x="7251" y="2229"/>
                  <a:pt x="7293" y="2183"/>
                </a:cubicBezTo>
                <a:cubicBezTo>
                  <a:pt x="7301" y="2158"/>
                  <a:pt x="7309" y="2133"/>
                  <a:pt x="7317" y="2108"/>
                </a:cubicBezTo>
              </a:path>
              <a:path w="1142" h="1936">
                <a:moveTo>
                  <a:pt x="7243" y="1290"/>
                </a:moveTo>
                <a:cubicBezTo>
                  <a:pt x="7183" y="1425"/>
                  <a:pt x="7119" y="1548"/>
                  <a:pt x="7069" y="1687"/>
                </a:cubicBezTo>
                <a:cubicBezTo>
                  <a:pt x="7024" y="1810"/>
                  <a:pt x="6958" y="1944"/>
                  <a:pt x="6896" y="2059"/>
                </a:cubicBezTo>
                <a:cubicBezTo>
                  <a:pt x="6846" y="2152"/>
                  <a:pt x="6768" y="2224"/>
                  <a:pt x="6747" y="2332"/>
                </a:cubicBezTo>
                <a:cubicBezTo>
                  <a:pt x="6747" y="2348"/>
                  <a:pt x="6747" y="2365"/>
                  <a:pt x="6747" y="2381"/>
                </a:cubicBezTo>
              </a:path>
              <a:path w="1142" h="1936">
                <a:moveTo>
                  <a:pt x="7119" y="943"/>
                </a:moveTo>
                <a:cubicBezTo>
                  <a:pt x="7334" y="818"/>
                  <a:pt x="7347" y="716"/>
                  <a:pt x="7466" y="794"/>
                </a:cubicBezTo>
                <a:cubicBezTo>
                  <a:pt x="7498" y="857"/>
                  <a:pt x="7545" y="941"/>
                  <a:pt x="7516" y="1017"/>
                </a:cubicBezTo>
                <a:cubicBezTo>
                  <a:pt x="7476" y="1119"/>
                  <a:pt x="7424" y="1177"/>
                  <a:pt x="7342" y="1240"/>
                </a:cubicBezTo>
                <a:cubicBezTo>
                  <a:pt x="7317" y="1265"/>
                  <a:pt x="7309" y="1273"/>
                  <a:pt x="7293" y="1290"/>
                </a:cubicBezTo>
                <a:cubicBezTo>
                  <a:pt x="7351" y="1326"/>
                  <a:pt x="7442" y="1325"/>
                  <a:pt x="7516" y="1315"/>
                </a:cubicBezTo>
                <a:cubicBezTo>
                  <a:pt x="7665" y="1285"/>
                  <a:pt x="7732" y="1270"/>
                  <a:pt x="7838" y="1240"/>
                </a:cubicBezTo>
              </a:path>
              <a:path w="1142" h="1936">
                <a:moveTo>
                  <a:pt x="7169" y="695"/>
                </a:moveTo>
                <a:cubicBezTo>
                  <a:pt x="7204" y="754"/>
                  <a:pt x="7193" y="820"/>
                  <a:pt x="7193" y="893"/>
                </a:cubicBezTo>
                <a:cubicBezTo>
                  <a:pt x="7193" y="951"/>
                  <a:pt x="7168" y="1036"/>
                  <a:pt x="7193" y="1067"/>
                </a:cubicBezTo>
                <a:cubicBezTo>
                  <a:pt x="7241" y="1128"/>
                  <a:pt x="7349" y="1049"/>
                  <a:pt x="7392" y="1017"/>
                </a:cubicBezTo>
                <a:cubicBezTo>
                  <a:pt x="7464" y="963"/>
                  <a:pt x="7499" y="897"/>
                  <a:pt x="7541" y="819"/>
                </a:cubicBezTo>
              </a:path>
              <a:path w="1142" h="1936">
                <a:moveTo>
                  <a:pt x="7441" y="446"/>
                </a:moveTo>
                <a:cubicBezTo>
                  <a:pt x="7441" y="588"/>
                  <a:pt x="7449" y="728"/>
                  <a:pt x="7466" y="868"/>
                </a:cubicBezTo>
                <a:cubicBezTo>
                  <a:pt x="7486" y="1033"/>
                  <a:pt x="7530" y="1204"/>
                  <a:pt x="7565" y="1364"/>
                </a:cubicBezTo>
                <a:cubicBezTo>
                  <a:pt x="7578" y="1425"/>
                  <a:pt x="7603" y="1440"/>
                  <a:pt x="7615" y="1488"/>
                </a:cubicBezTo>
              </a:path>
              <a:path w="1142" h="1936">
                <a:moveTo>
                  <a:pt x="7144" y="670"/>
                </a:moveTo>
                <a:cubicBezTo>
                  <a:pt x="7135" y="778"/>
                  <a:pt x="7102" y="863"/>
                  <a:pt x="7144" y="967"/>
                </a:cubicBezTo>
                <a:cubicBezTo>
                  <a:pt x="7173" y="1038"/>
                  <a:pt x="7256" y="1035"/>
                  <a:pt x="7317" y="992"/>
                </a:cubicBezTo>
                <a:cubicBezTo>
                  <a:pt x="7370" y="954"/>
                  <a:pt x="7406" y="923"/>
                  <a:pt x="7466" y="893"/>
                </a:cubicBezTo>
              </a:path>
              <a:path w="1142" h="1936">
                <a:moveTo>
                  <a:pt x="7466" y="546"/>
                </a:moveTo>
                <a:cubicBezTo>
                  <a:pt x="7466" y="767"/>
                  <a:pt x="7484" y="974"/>
                  <a:pt x="7491" y="1191"/>
                </a:cubicBezTo>
                <a:cubicBezTo>
                  <a:pt x="7494" y="1288"/>
                  <a:pt x="7503" y="1293"/>
                  <a:pt x="7565" y="13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3224160" y="696960"/>
            <a:ext cx="160560" cy="17280"/>
          </a:xfrm>
          <a:custGeom>
            <a:avLst/>
            <a:gdLst/>
            <a:ahLst/>
            <a:rect l="l" t="t" r="r" b="b"/>
            <a:pathLst>
              <a:path w="448" h="50">
                <a:moveTo>
                  <a:pt x="8954" y="1984"/>
                </a:moveTo>
                <a:cubicBezTo>
                  <a:pt x="9107" y="1977"/>
                  <a:pt x="9253" y="1967"/>
                  <a:pt x="9401" y="19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3840120" y="187200"/>
            <a:ext cx="419040" cy="741600"/>
          </a:xfrm>
          <a:custGeom>
            <a:avLst/>
            <a:gdLst/>
            <a:ahLst/>
            <a:rect l="l" t="t" r="r" b="b"/>
            <a:pathLst>
              <a:path w="1167" h="2060">
                <a:moveTo>
                  <a:pt x="10666" y="1513"/>
                </a:moveTo>
                <a:cubicBezTo>
                  <a:pt x="10718" y="1657"/>
                  <a:pt x="10765" y="1890"/>
                  <a:pt x="10864" y="2009"/>
                </a:cubicBezTo>
                <a:cubicBezTo>
                  <a:pt x="10881" y="2029"/>
                  <a:pt x="11027" y="2135"/>
                  <a:pt x="11063" y="2133"/>
                </a:cubicBezTo>
                <a:cubicBezTo>
                  <a:pt x="11112" y="2108"/>
                  <a:pt x="11129" y="2100"/>
                  <a:pt x="11162" y="2084"/>
                </a:cubicBezTo>
              </a:path>
              <a:path w="1167" h="2060">
                <a:moveTo>
                  <a:pt x="11336" y="1290"/>
                </a:moveTo>
                <a:cubicBezTo>
                  <a:pt x="11297" y="1444"/>
                  <a:pt x="11270" y="1603"/>
                  <a:pt x="11237" y="1761"/>
                </a:cubicBezTo>
                <a:cubicBezTo>
                  <a:pt x="11207" y="1906"/>
                  <a:pt x="11191" y="2060"/>
                  <a:pt x="11187" y="2208"/>
                </a:cubicBezTo>
                <a:cubicBezTo>
                  <a:pt x="11184" y="2319"/>
                  <a:pt x="11162" y="2417"/>
                  <a:pt x="11162" y="2530"/>
                </a:cubicBezTo>
                <a:cubicBezTo>
                  <a:pt x="11162" y="2572"/>
                  <a:pt x="11154" y="2588"/>
                  <a:pt x="11187" y="2580"/>
                </a:cubicBezTo>
              </a:path>
              <a:path w="1167" h="2060">
                <a:moveTo>
                  <a:pt x="11584" y="719"/>
                </a:moveTo>
                <a:cubicBezTo>
                  <a:pt x="11575" y="795"/>
                  <a:pt x="11544" y="848"/>
                  <a:pt x="11509" y="918"/>
                </a:cubicBezTo>
                <a:cubicBezTo>
                  <a:pt x="11592" y="968"/>
                  <a:pt x="11591" y="908"/>
                  <a:pt x="11683" y="893"/>
                </a:cubicBezTo>
                <a:cubicBezTo>
                  <a:pt x="11756" y="893"/>
                  <a:pt x="11780" y="894"/>
                  <a:pt x="11807" y="843"/>
                </a:cubicBezTo>
              </a:path>
              <a:path w="1167" h="2060">
                <a:moveTo>
                  <a:pt x="11832" y="521"/>
                </a:moveTo>
                <a:cubicBezTo>
                  <a:pt x="11827" y="747"/>
                  <a:pt x="11845" y="1015"/>
                  <a:pt x="11782" y="1240"/>
                </a:cubicBezTo>
                <a:cubicBezTo>
                  <a:pt x="11750" y="1304"/>
                  <a:pt x="11738" y="1335"/>
                  <a:pt x="11733" y="13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045200" y="2259000"/>
            <a:ext cx="1159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9893" y="6276"/>
                </a:moveTo>
                <a:cubicBezTo>
                  <a:pt x="19837" y="6276"/>
                  <a:pt x="19767" y="6277"/>
                  <a:pt x="19720" y="6300"/>
                </a:cubicBezTo>
                <a:cubicBezTo>
                  <a:pt x="19700" y="6310"/>
                  <a:pt x="19595" y="6378"/>
                  <a:pt x="19571" y="6375"/>
                </a:cubicBezTo>
                <a:cubicBezTo>
                  <a:pt x="19571" y="6367"/>
                  <a:pt x="19571" y="6358"/>
                  <a:pt x="19571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685800" y="609480"/>
          <a:ext cx="73915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391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Ink 7"/>
          <p:cNvSpPr/>
          <p:nvPr/>
        </p:nvSpPr>
        <p:spPr>
          <a:xfrm>
            <a:off x="3633840" y="1571760"/>
            <a:ext cx="4027320" cy="839520"/>
          </a:xfrm>
          <a:custGeom>
            <a:avLst/>
            <a:gdLst/>
            <a:ahLst/>
            <a:rect l="l" t="t" r="r" b="b"/>
            <a:pathLst>
              <a:path w="11187" h="2332">
                <a:moveTo>
                  <a:pt x="10914" y="4366"/>
                </a:moveTo>
                <a:cubicBezTo>
                  <a:pt x="10934" y="4405"/>
                  <a:pt x="10914" y="4472"/>
                  <a:pt x="10914" y="4539"/>
                </a:cubicBezTo>
                <a:cubicBezTo>
                  <a:pt x="10914" y="4626"/>
                  <a:pt x="10954" y="4731"/>
                  <a:pt x="10939" y="4812"/>
                </a:cubicBezTo>
                <a:cubicBezTo>
                  <a:pt x="10925" y="4883"/>
                  <a:pt x="10898" y="4964"/>
                  <a:pt x="10889" y="5035"/>
                </a:cubicBezTo>
                <a:cubicBezTo>
                  <a:pt x="10851" y="5339"/>
                  <a:pt x="10889" y="5672"/>
                  <a:pt x="10889" y="5978"/>
                </a:cubicBezTo>
              </a:path>
              <a:path w="11187" h="2332">
                <a:moveTo>
                  <a:pt x="11509" y="5085"/>
                </a:moveTo>
                <a:cubicBezTo>
                  <a:pt x="11423" y="5118"/>
                  <a:pt x="11397" y="5090"/>
                  <a:pt x="11311" y="5085"/>
                </a:cubicBezTo>
                <a:cubicBezTo>
                  <a:pt x="11230" y="5080"/>
                  <a:pt x="11162" y="5098"/>
                  <a:pt x="11088" y="5110"/>
                </a:cubicBezTo>
                <a:cubicBezTo>
                  <a:pt x="10964" y="5130"/>
                  <a:pt x="10832" y="5103"/>
                  <a:pt x="10716" y="5085"/>
                </a:cubicBezTo>
                <a:cubicBezTo>
                  <a:pt x="10563" y="5062"/>
                  <a:pt x="10398" y="5079"/>
                  <a:pt x="10244" y="5060"/>
                </a:cubicBezTo>
                <a:cubicBezTo>
                  <a:pt x="10197" y="5054"/>
                  <a:pt x="10144" y="5060"/>
                  <a:pt x="10096" y="5060"/>
                </a:cubicBezTo>
              </a:path>
              <a:path w="11187" h="2332">
                <a:moveTo>
                  <a:pt x="12179" y="6077"/>
                </a:moveTo>
                <a:cubicBezTo>
                  <a:pt x="12170" y="6001"/>
                  <a:pt x="12141" y="5918"/>
                  <a:pt x="12129" y="5854"/>
                </a:cubicBezTo>
                <a:cubicBezTo>
                  <a:pt x="12117" y="5788"/>
                  <a:pt x="12071" y="5738"/>
                  <a:pt x="12055" y="5680"/>
                </a:cubicBezTo>
                <a:cubicBezTo>
                  <a:pt x="12038" y="5617"/>
                  <a:pt x="12015" y="5569"/>
                  <a:pt x="11981" y="5507"/>
                </a:cubicBezTo>
                <a:cubicBezTo>
                  <a:pt x="11952" y="5454"/>
                  <a:pt x="11921" y="5403"/>
                  <a:pt x="11881" y="5358"/>
                </a:cubicBezTo>
                <a:cubicBezTo>
                  <a:pt x="11831" y="5301"/>
                  <a:pt x="11783" y="5238"/>
                  <a:pt x="11708" y="5234"/>
                </a:cubicBezTo>
                <a:cubicBezTo>
                  <a:pt x="11612" y="5228"/>
                  <a:pt x="11638" y="5275"/>
                  <a:pt x="11609" y="5333"/>
                </a:cubicBezTo>
                <a:cubicBezTo>
                  <a:pt x="11578" y="5395"/>
                  <a:pt x="11584" y="5457"/>
                  <a:pt x="11584" y="5531"/>
                </a:cubicBezTo>
                <a:cubicBezTo>
                  <a:pt x="11584" y="5604"/>
                  <a:pt x="11566" y="5664"/>
                  <a:pt x="11559" y="5730"/>
                </a:cubicBezTo>
                <a:cubicBezTo>
                  <a:pt x="11550" y="5809"/>
                  <a:pt x="11560" y="5906"/>
                  <a:pt x="11584" y="5978"/>
                </a:cubicBezTo>
                <a:cubicBezTo>
                  <a:pt x="11592" y="5995"/>
                  <a:pt x="11601" y="6011"/>
                  <a:pt x="11609" y="6028"/>
                </a:cubicBezTo>
                <a:cubicBezTo>
                  <a:pt x="11671" y="6019"/>
                  <a:pt x="11708" y="5998"/>
                  <a:pt x="11757" y="5953"/>
                </a:cubicBezTo>
                <a:cubicBezTo>
                  <a:pt x="11815" y="5900"/>
                  <a:pt x="11846" y="5884"/>
                  <a:pt x="11906" y="5854"/>
                </a:cubicBezTo>
                <a:cubicBezTo>
                  <a:pt x="11954" y="5830"/>
                  <a:pt x="11976" y="5768"/>
                  <a:pt x="12005" y="5730"/>
                </a:cubicBezTo>
                <a:cubicBezTo>
                  <a:pt x="12029" y="5698"/>
                  <a:pt x="12046" y="5688"/>
                  <a:pt x="12080" y="5680"/>
                </a:cubicBezTo>
              </a:path>
              <a:path w="11187" h="2332">
                <a:moveTo>
                  <a:pt x="12353" y="6028"/>
                </a:moveTo>
                <a:cubicBezTo>
                  <a:pt x="12386" y="5973"/>
                  <a:pt x="12378" y="5922"/>
                  <a:pt x="12378" y="5854"/>
                </a:cubicBezTo>
                <a:cubicBezTo>
                  <a:pt x="12378" y="5725"/>
                  <a:pt x="12385" y="5607"/>
                  <a:pt x="12402" y="5482"/>
                </a:cubicBezTo>
                <a:cubicBezTo>
                  <a:pt x="12409" y="5429"/>
                  <a:pt x="12424" y="5378"/>
                  <a:pt x="12427" y="5333"/>
                </a:cubicBezTo>
                <a:cubicBezTo>
                  <a:pt x="12431" y="5271"/>
                  <a:pt x="12459" y="5233"/>
                  <a:pt x="12502" y="5184"/>
                </a:cubicBezTo>
                <a:cubicBezTo>
                  <a:pt x="12540" y="5141"/>
                  <a:pt x="12617" y="5114"/>
                  <a:pt x="12675" y="5135"/>
                </a:cubicBezTo>
                <a:cubicBezTo>
                  <a:pt x="12718" y="5151"/>
                  <a:pt x="12755" y="5224"/>
                  <a:pt x="12774" y="5259"/>
                </a:cubicBezTo>
                <a:cubicBezTo>
                  <a:pt x="12807" y="5321"/>
                  <a:pt x="12815" y="5369"/>
                  <a:pt x="12849" y="5432"/>
                </a:cubicBezTo>
                <a:cubicBezTo>
                  <a:pt x="12882" y="5494"/>
                  <a:pt x="12912" y="5572"/>
                  <a:pt x="12923" y="5631"/>
                </a:cubicBezTo>
                <a:cubicBezTo>
                  <a:pt x="12936" y="5700"/>
                  <a:pt x="12939" y="5795"/>
                  <a:pt x="12948" y="5854"/>
                </a:cubicBezTo>
                <a:cubicBezTo>
                  <a:pt x="12959" y="5927"/>
                  <a:pt x="12961" y="6014"/>
                  <a:pt x="12973" y="6077"/>
                </a:cubicBezTo>
                <a:cubicBezTo>
                  <a:pt x="12973" y="6094"/>
                  <a:pt x="12973" y="6110"/>
                  <a:pt x="12973" y="6127"/>
                </a:cubicBezTo>
              </a:path>
              <a:path w="11187" h="2332">
                <a:moveTo>
                  <a:pt x="13097" y="4614"/>
                </a:moveTo>
                <a:cubicBezTo>
                  <a:pt x="13159" y="4590"/>
                  <a:pt x="13212" y="4585"/>
                  <a:pt x="13271" y="4614"/>
                </a:cubicBezTo>
                <a:cubicBezTo>
                  <a:pt x="13313" y="4634"/>
                  <a:pt x="13356" y="4692"/>
                  <a:pt x="13345" y="4738"/>
                </a:cubicBezTo>
                <a:cubicBezTo>
                  <a:pt x="13330" y="4799"/>
                  <a:pt x="13247" y="4835"/>
                  <a:pt x="13196" y="4862"/>
                </a:cubicBezTo>
                <a:cubicBezTo>
                  <a:pt x="13153" y="4884"/>
                  <a:pt x="13141" y="4887"/>
                  <a:pt x="13122" y="4911"/>
                </a:cubicBezTo>
                <a:cubicBezTo>
                  <a:pt x="13185" y="4920"/>
                  <a:pt x="13242" y="4943"/>
                  <a:pt x="13295" y="4986"/>
                </a:cubicBezTo>
                <a:cubicBezTo>
                  <a:pt x="13342" y="5025"/>
                  <a:pt x="13363" y="5071"/>
                  <a:pt x="13345" y="5135"/>
                </a:cubicBezTo>
                <a:cubicBezTo>
                  <a:pt x="13326" y="5202"/>
                  <a:pt x="13282" y="5230"/>
                  <a:pt x="13221" y="5234"/>
                </a:cubicBezTo>
                <a:cubicBezTo>
                  <a:pt x="13164" y="5237"/>
                  <a:pt x="13141" y="5236"/>
                  <a:pt x="13097" y="5209"/>
                </a:cubicBezTo>
              </a:path>
              <a:path w="11187" h="2332">
                <a:moveTo>
                  <a:pt x="13965" y="6077"/>
                </a:moveTo>
                <a:cubicBezTo>
                  <a:pt x="13920" y="6021"/>
                  <a:pt x="13914" y="5970"/>
                  <a:pt x="13891" y="5904"/>
                </a:cubicBezTo>
                <a:cubicBezTo>
                  <a:pt x="13863" y="5822"/>
                  <a:pt x="13841" y="5728"/>
                  <a:pt x="13791" y="5655"/>
                </a:cubicBezTo>
                <a:cubicBezTo>
                  <a:pt x="13768" y="5621"/>
                  <a:pt x="13703" y="5546"/>
                  <a:pt x="13692" y="5507"/>
                </a:cubicBezTo>
                <a:cubicBezTo>
                  <a:pt x="13692" y="5490"/>
                  <a:pt x="13692" y="5474"/>
                  <a:pt x="13692" y="5457"/>
                </a:cubicBezTo>
              </a:path>
              <a:path w="11187" h="2332">
                <a:moveTo>
                  <a:pt x="13568" y="6102"/>
                </a:moveTo>
                <a:cubicBezTo>
                  <a:pt x="13619" y="6073"/>
                  <a:pt x="13677" y="6042"/>
                  <a:pt x="13692" y="5978"/>
                </a:cubicBezTo>
                <a:cubicBezTo>
                  <a:pt x="13706" y="5919"/>
                  <a:pt x="13733" y="5862"/>
                  <a:pt x="13767" y="5804"/>
                </a:cubicBezTo>
                <a:cubicBezTo>
                  <a:pt x="13795" y="5757"/>
                  <a:pt x="13833" y="5699"/>
                  <a:pt x="13866" y="5655"/>
                </a:cubicBezTo>
                <a:cubicBezTo>
                  <a:pt x="13899" y="5612"/>
                  <a:pt x="13909" y="5561"/>
                  <a:pt x="13940" y="5507"/>
                </a:cubicBezTo>
              </a:path>
              <a:path w="11187" h="2332">
                <a:moveTo>
                  <a:pt x="15007" y="6325"/>
                </a:moveTo>
                <a:cubicBezTo>
                  <a:pt x="14964" y="6283"/>
                  <a:pt x="14894" y="6242"/>
                  <a:pt x="14858" y="6201"/>
                </a:cubicBezTo>
                <a:cubicBezTo>
                  <a:pt x="14819" y="6157"/>
                  <a:pt x="14791" y="6079"/>
                  <a:pt x="14759" y="6028"/>
                </a:cubicBezTo>
                <a:cubicBezTo>
                  <a:pt x="14700" y="5934"/>
                  <a:pt x="14668" y="5829"/>
                  <a:pt x="14635" y="5730"/>
                </a:cubicBezTo>
                <a:cubicBezTo>
                  <a:pt x="14611" y="5659"/>
                  <a:pt x="14577" y="5580"/>
                  <a:pt x="14560" y="5507"/>
                </a:cubicBezTo>
                <a:cubicBezTo>
                  <a:pt x="14536" y="5404"/>
                  <a:pt x="14511" y="5313"/>
                  <a:pt x="14511" y="5209"/>
                </a:cubicBezTo>
                <a:cubicBezTo>
                  <a:pt x="14511" y="5117"/>
                  <a:pt x="14486" y="5061"/>
                  <a:pt x="14511" y="4961"/>
                </a:cubicBezTo>
                <a:cubicBezTo>
                  <a:pt x="14528" y="4894"/>
                  <a:pt x="14579" y="4819"/>
                  <a:pt x="14610" y="4762"/>
                </a:cubicBezTo>
                <a:cubicBezTo>
                  <a:pt x="14639" y="4708"/>
                  <a:pt x="14668" y="4662"/>
                  <a:pt x="14709" y="4614"/>
                </a:cubicBezTo>
                <a:cubicBezTo>
                  <a:pt x="14764" y="4549"/>
                  <a:pt x="14779" y="4567"/>
                  <a:pt x="14808" y="4490"/>
                </a:cubicBezTo>
              </a:path>
              <a:path w="11187" h="2332">
                <a:moveTo>
                  <a:pt x="15553" y="5035"/>
                </a:moveTo>
                <a:cubicBezTo>
                  <a:pt x="15496" y="5056"/>
                  <a:pt x="15428" y="5061"/>
                  <a:pt x="15379" y="5085"/>
                </a:cubicBezTo>
                <a:cubicBezTo>
                  <a:pt x="15301" y="5124"/>
                  <a:pt x="15235" y="5148"/>
                  <a:pt x="15180" y="5209"/>
                </a:cubicBezTo>
                <a:cubicBezTo>
                  <a:pt x="15131" y="5263"/>
                  <a:pt x="15162" y="5290"/>
                  <a:pt x="15205" y="5333"/>
                </a:cubicBezTo>
                <a:cubicBezTo>
                  <a:pt x="15251" y="5380"/>
                  <a:pt x="15295" y="5402"/>
                  <a:pt x="15354" y="5432"/>
                </a:cubicBezTo>
                <a:cubicBezTo>
                  <a:pt x="15450" y="5480"/>
                  <a:pt x="15518" y="5522"/>
                  <a:pt x="15602" y="5581"/>
                </a:cubicBezTo>
                <a:cubicBezTo>
                  <a:pt x="15653" y="5617"/>
                  <a:pt x="15712" y="5627"/>
                  <a:pt x="15751" y="5680"/>
                </a:cubicBezTo>
                <a:cubicBezTo>
                  <a:pt x="15796" y="5741"/>
                  <a:pt x="15846" y="5807"/>
                  <a:pt x="15850" y="5879"/>
                </a:cubicBezTo>
                <a:cubicBezTo>
                  <a:pt x="15854" y="5938"/>
                  <a:pt x="15812" y="6010"/>
                  <a:pt x="15751" y="6028"/>
                </a:cubicBezTo>
                <a:cubicBezTo>
                  <a:pt x="15664" y="6054"/>
                  <a:pt x="15579" y="6052"/>
                  <a:pt x="15478" y="6052"/>
                </a:cubicBezTo>
                <a:cubicBezTo>
                  <a:pt x="15416" y="6052"/>
                  <a:pt x="15376" y="6068"/>
                  <a:pt x="15329" y="6077"/>
                </a:cubicBezTo>
                <a:cubicBezTo>
                  <a:pt x="15288" y="6077"/>
                  <a:pt x="15280" y="6077"/>
                  <a:pt x="15255" y="6077"/>
                </a:cubicBezTo>
              </a:path>
              <a:path w="11187" h="2332">
                <a:moveTo>
                  <a:pt x="16197" y="5457"/>
                </a:moveTo>
                <a:cubicBezTo>
                  <a:pt x="16294" y="5450"/>
                  <a:pt x="16324" y="5449"/>
                  <a:pt x="16396" y="5383"/>
                </a:cubicBezTo>
                <a:cubicBezTo>
                  <a:pt x="16440" y="5342"/>
                  <a:pt x="16530" y="5271"/>
                  <a:pt x="16545" y="5209"/>
                </a:cubicBezTo>
                <a:cubicBezTo>
                  <a:pt x="16561" y="5141"/>
                  <a:pt x="16540" y="5083"/>
                  <a:pt x="16495" y="5035"/>
                </a:cubicBezTo>
                <a:cubicBezTo>
                  <a:pt x="16452" y="4989"/>
                  <a:pt x="16359" y="4969"/>
                  <a:pt x="16297" y="4986"/>
                </a:cubicBezTo>
                <a:cubicBezTo>
                  <a:pt x="16214" y="5009"/>
                  <a:pt x="16193" y="5049"/>
                  <a:pt x="16148" y="5110"/>
                </a:cubicBezTo>
                <a:cubicBezTo>
                  <a:pt x="16114" y="5156"/>
                  <a:pt x="16100" y="5246"/>
                  <a:pt x="16098" y="5308"/>
                </a:cubicBezTo>
                <a:cubicBezTo>
                  <a:pt x="16095" y="5387"/>
                  <a:pt x="16108" y="5502"/>
                  <a:pt x="16123" y="5581"/>
                </a:cubicBezTo>
                <a:cubicBezTo>
                  <a:pt x="16138" y="5658"/>
                  <a:pt x="16200" y="5790"/>
                  <a:pt x="16247" y="5854"/>
                </a:cubicBezTo>
                <a:cubicBezTo>
                  <a:pt x="16284" y="5904"/>
                  <a:pt x="16327" y="6012"/>
                  <a:pt x="16371" y="6052"/>
                </a:cubicBezTo>
                <a:cubicBezTo>
                  <a:pt x="16406" y="6085"/>
                  <a:pt x="16504" y="6155"/>
                  <a:pt x="16545" y="6176"/>
                </a:cubicBezTo>
                <a:cubicBezTo>
                  <a:pt x="16628" y="6217"/>
                  <a:pt x="16728" y="6239"/>
                  <a:pt x="16818" y="6251"/>
                </a:cubicBezTo>
                <a:cubicBezTo>
                  <a:pt x="16899" y="6262"/>
                  <a:pt x="16975" y="6246"/>
                  <a:pt x="17041" y="6226"/>
                </a:cubicBezTo>
                <a:cubicBezTo>
                  <a:pt x="17049" y="6226"/>
                  <a:pt x="17058" y="6226"/>
                  <a:pt x="17066" y="6226"/>
                </a:cubicBezTo>
              </a:path>
              <a:path w="11187" h="2332">
                <a:moveTo>
                  <a:pt x="17363" y="5184"/>
                </a:moveTo>
                <a:cubicBezTo>
                  <a:pt x="17308" y="5151"/>
                  <a:pt x="17258" y="5159"/>
                  <a:pt x="17190" y="5159"/>
                </a:cubicBezTo>
                <a:cubicBezTo>
                  <a:pt x="17102" y="5159"/>
                  <a:pt x="17059" y="5235"/>
                  <a:pt x="17016" y="5308"/>
                </a:cubicBezTo>
                <a:cubicBezTo>
                  <a:pt x="16980" y="5370"/>
                  <a:pt x="16951" y="5463"/>
                  <a:pt x="16942" y="5531"/>
                </a:cubicBezTo>
                <a:cubicBezTo>
                  <a:pt x="16930" y="5623"/>
                  <a:pt x="16955" y="5696"/>
                  <a:pt x="16991" y="5779"/>
                </a:cubicBezTo>
                <a:cubicBezTo>
                  <a:pt x="17016" y="5838"/>
                  <a:pt x="17075" y="5960"/>
                  <a:pt x="17115" y="6003"/>
                </a:cubicBezTo>
                <a:cubicBezTo>
                  <a:pt x="17143" y="6032"/>
                  <a:pt x="17226" y="6078"/>
                  <a:pt x="17264" y="6102"/>
                </a:cubicBezTo>
                <a:cubicBezTo>
                  <a:pt x="17312" y="6133"/>
                  <a:pt x="17390" y="6167"/>
                  <a:pt x="17438" y="6176"/>
                </a:cubicBezTo>
                <a:cubicBezTo>
                  <a:pt x="17476" y="6183"/>
                  <a:pt x="17523" y="6176"/>
                  <a:pt x="17562" y="6176"/>
                </a:cubicBezTo>
              </a:path>
              <a:path w="11187" h="2332">
                <a:moveTo>
                  <a:pt x="17587" y="4638"/>
                </a:moveTo>
                <a:cubicBezTo>
                  <a:pt x="17633" y="4611"/>
                  <a:pt x="17679" y="4592"/>
                  <a:pt x="17735" y="4589"/>
                </a:cubicBezTo>
                <a:cubicBezTo>
                  <a:pt x="17790" y="4586"/>
                  <a:pt x="17840" y="4630"/>
                  <a:pt x="17884" y="4663"/>
                </a:cubicBezTo>
                <a:cubicBezTo>
                  <a:pt x="17913" y="4685"/>
                  <a:pt x="17997" y="4722"/>
                  <a:pt x="18008" y="4762"/>
                </a:cubicBezTo>
                <a:cubicBezTo>
                  <a:pt x="18023" y="4816"/>
                  <a:pt x="17968" y="4867"/>
                  <a:pt x="17959" y="4911"/>
                </a:cubicBezTo>
                <a:cubicBezTo>
                  <a:pt x="17947" y="4973"/>
                  <a:pt x="17954" y="4966"/>
                  <a:pt x="17909" y="5011"/>
                </a:cubicBezTo>
                <a:cubicBezTo>
                  <a:pt x="17940" y="5041"/>
                  <a:pt x="17993" y="5099"/>
                  <a:pt x="18033" y="5110"/>
                </a:cubicBezTo>
                <a:cubicBezTo>
                  <a:pt x="18085" y="5110"/>
                  <a:pt x="18103" y="5111"/>
                  <a:pt x="18132" y="5135"/>
                </a:cubicBezTo>
              </a:path>
              <a:path w="11187" h="2332">
                <a:moveTo>
                  <a:pt x="18876" y="6201"/>
                </a:moveTo>
                <a:cubicBezTo>
                  <a:pt x="18867" y="6125"/>
                  <a:pt x="18837" y="6094"/>
                  <a:pt x="18802" y="6028"/>
                </a:cubicBezTo>
                <a:cubicBezTo>
                  <a:pt x="18779" y="5985"/>
                  <a:pt x="18739" y="5898"/>
                  <a:pt x="18728" y="5854"/>
                </a:cubicBezTo>
                <a:cubicBezTo>
                  <a:pt x="18711" y="5787"/>
                  <a:pt x="18697" y="5739"/>
                  <a:pt x="18653" y="5680"/>
                </a:cubicBezTo>
                <a:cubicBezTo>
                  <a:pt x="18616" y="5630"/>
                  <a:pt x="18593" y="5578"/>
                  <a:pt x="18554" y="5531"/>
                </a:cubicBezTo>
                <a:cubicBezTo>
                  <a:pt x="18521" y="5491"/>
                  <a:pt x="18476" y="5444"/>
                  <a:pt x="18430" y="5432"/>
                </a:cubicBezTo>
              </a:path>
              <a:path w="11187" h="2332">
                <a:moveTo>
                  <a:pt x="18405" y="6251"/>
                </a:moveTo>
                <a:cubicBezTo>
                  <a:pt x="18472" y="6241"/>
                  <a:pt x="18480" y="6224"/>
                  <a:pt x="18529" y="6176"/>
                </a:cubicBezTo>
                <a:cubicBezTo>
                  <a:pt x="18551" y="6155"/>
                  <a:pt x="18596" y="6063"/>
                  <a:pt x="18604" y="6028"/>
                </a:cubicBezTo>
                <a:cubicBezTo>
                  <a:pt x="18621" y="5955"/>
                  <a:pt x="18649" y="5897"/>
                  <a:pt x="18678" y="5829"/>
                </a:cubicBezTo>
                <a:cubicBezTo>
                  <a:pt x="18716" y="5742"/>
                  <a:pt x="18740" y="5679"/>
                  <a:pt x="18752" y="5581"/>
                </a:cubicBezTo>
                <a:cubicBezTo>
                  <a:pt x="18761" y="5510"/>
                  <a:pt x="18806" y="5456"/>
                  <a:pt x="18827" y="5383"/>
                </a:cubicBezTo>
                <a:cubicBezTo>
                  <a:pt x="18827" y="5375"/>
                  <a:pt x="18827" y="5366"/>
                  <a:pt x="18827" y="5358"/>
                </a:cubicBezTo>
              </a:path>
              <a:path w="11187" h="2332">
                <a:moveTo>
                  <a:pt x="19348" y="5779"/>
                </a:moveTo>
                <a:cubicBezTo>
                  <a:pt x="19402" y="5771"/>
                  <a:pt x="19454" y="5764"/>
                  <a:pt x="19496" y="5730"/>
                </a:cubicBezTo>
                <a:cubicBezTo>
                  <a:pt x="19566" y="5673"/>
                  <a:pt x="19633" y="5680"/>
                  <a:pt x="19720" y="5680"/>
                </a:cubicBezTo>
                <a:cubicBezTo>
                  <a:pt x="19816" y="5680"/>
                  <a:pt x="19880" y="5661"/>
                  <a:pt x="19968" y="5655"/>
                </a:cubicBezTo>
                <a:cubicBezTo>
                  <a:pt x="19976" y="5655"/>
                  <a:pt x="19985" y="5655"/>
                  <a:pt x="19993" y="5655"/>
                </a:cubicBezTo>
              </a:path>
              <a:path w="11187" h="2332">
                <a:moveTo>
                  <a:pt x="20365" y="6350"/>
                </a:moveTo>
                <a:cubicBezTo>
                  <a:pt x="20384" y="6278"/>
                  <a:pt x="20402" y="6203"/>
                  <a:pt x="20389" y="6127"/>
                </a:cubicBezTo>
                <a:cubicBezTo>
                  <a:pt x="20370" y="6020"/>
                  <a:pt x="20365" y="5939"/>
                  <a:pt x="20365" y="5829"/>
                </a:cubicBezTo>
                <a:cubicBezTo>
                  <a:pt x="20365" y="5515"/>
                  <a:pt x="20365" y="5201"/>
                  <a:pt x="20365" y="4887"/>
                </a:cubicBezTo>
              </a:path>
              <a:path w="11187" h="2332">
                <a:moveTo>
                  <a:pt x="21084" y="6697"/>
                </a:moveTo>
                <a:cubicBezTo>
                  <a:pt x="21131" y="6668"/>
                  <a:pt x="21198" y="6638"/>
                  <a:pt x="21208" y="6573"/>
                </a:cubicBezTo>
                <a:cubicBezTo>
                  <a:pt x="21222" y="6478"/>
                  <a:pt x="21211" y="6370"/>
                  <a:pt x="21233" y="6276"/>
                </a:cubicBezTo>
                <a:cubicBezTo>
                  <a:pt x="21252" y="6196"/>
                  <a:pt x="21278" y="6112"/>
                  <a:pt x="21282" y="6028"/>
                </a:cubicBezTo>
                <a:cubicBezTo>
                  <a:pt x="21291" y="5823"/>
                  <a:pt x="21249" y="5691"/>
                  <a:pt x="21208" y="5482"/>
                </a:cubicBezTo>
                <a:cubicBezTo>
                  <a:pt x="21188" y="5379"/>
                  <a:pt x="21153" y="5323"/>
                  <a:pt x="21109" y="5234"/>
                </a:cubicBezTo>
                <a:cubicBezTo>
                  <a:pt x="21070" y="5156"/>
                  <a:pt x="21025" y="5091"/>
                  <a:pt x="20985" y="5011"/>
                </a:cubicBezTo>
                <a:cubicBezTo>
                  <a:pt x="20949" y="4939"/>
                  <a:pt x="20886" y="4893"/>
                  <a:pt x="20836" y="4837"/>
                </a:cubicBezTo>
                <a:cubicBezTo>
                  <a:pt x="20765" y="4757"/>
                  <a:pt x="20684" y="4693"/>
                  <a:pt x="20613" y="4614"/>
                </a:cubicBezTo>
                <a:cubicBezTo>
                  <a:pt x="20588" y="4564"/>
                  <a:pt x="20580" y="4547"/>
                  <a:pt x="20538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Ink 8"/>
          <p:cNvSpPr/>
          <p:nvPr/>
        </p:nvSpPr>
        <p:spPr>
          <a:xfrm>
            <a:off x="4394160" y="2643120"/>
            <a:ext cx="2552760" cy="679680"/>
          </a:xfrm>
          <a:custGeom>
            <a:avLst/>
            <a:gdLst/>
            <a:ahLst/>
            <a:rect l="l" t="t" r="r" b="b"/>
            <a:pathLst>
              <a:path w="7095" h="1886">
                <a:moveTo>
                  <a:pt x="12725" y="7367"/>
                </a:moveTo>
                <a:cubicBezTo>
                  <a:pt x="12716" y="7437"/>
                  <a:pt x="12700" y="7492"/>
                  <a:pt x="12700" y="7565"/>
                </a:cubicBezTo>
                <a:cubicBezTo>
                  <a:pt x="12700" y="7824"/>
                  <a:pt x="12700" y="8081"/>
                  <a:pt x="12725" y="8334"/>
                </a:cubicBezTo>
                <a:cubicBezTo>
                  <a:pt x="12734" y="8425"/>
                  <a:pt x="12714" y="8507"/>
                  <a:pt x="12700" y="8582"/>
                </a:cubicBezTo>
                <a:cubicBezTo>
                  <a:pt x="12688" y="8645"/>
                  <a:pt x="12679" y="8718"/>
                  <a:pt x="12675" y="8781"/>
                </a:cubicBezTo>
                <a:cubicBezTo>
                  <a:pt x="12671" y="8857"/>
                  <a:pt x="12663" y="8943"/>
                  <a:pt x="12700" y="9004"/>
                </a:cubicBezTo>
              </a:path>
              <a:path w="7095" h="1886">
                <a:moveTo>
                  <a:pt x="13122" y="8161"/>
                </a:moveTo>
                <a:lnTo>
                  <a:pt x="13122" y="8161"/>
                </a:lnTo>
              </a:path>
              <a:path w="7095" h="1886">
                <a:moveTo>
                  <a:pt x="12948" y="8186"/>
                </a:moveTo>
                <a:cubicBezTo>
                  <a:pt x="12743" y="8186"/>
                  <a:pt x="12518" y="8174"/>
                  <a:pt x="12328" y="8210"/>
                </a:cubicBezTo>
                <a:cubicBezTo>
                  <a:pt x="12290" y="8217"/>
                  <a:pt x="12243" y="8210"/>
                  <a:pt x="12204" y="8210"/>
                </a:cubicBezTo>
              </a:path>
              <a:path w="7095" h="1886">
                <a:moveTo>
                  <a:pt x="13146" y="8880"/>
                </a:moveTo>
                <a:cubicBezTo>
                  <a:pt x="13146" y="8727"/>
                  <a:pt x="13145" y="8579"/>
                  <a:pt x="13122" y="8434"/>
                </a:cubicBezTo>
                <a:cubicBezTo>
                  <a:pt x="13104" y="8320"/>
                  <a:pt x="13126" y="8186"/>
                  <a:pt x="13146" y="8086"/>
                </a:cubicBezTo>
                <a:cubicBezTo>
                  <a:pt x="13161" y="8007"/>
                  <a:pt x="13158" y="7948"/>
                  <a:pt x="13246" y="7938"/>
                </a:cubicBezTo>
                <a:cubicBezTo>
                  <a:pt x="13326" y="7929"/>
                  <a:pt x="13331" y="7984"/>
                  <a:pt x="13370" y="8037"/>
                </a:cubicBezTo>
                <a:cubicBezTo>
                  <a:pt x="13410" y="8091"/>
                  <a:pt x="13418" y="8136"/>
                  <a:pt x="13444" y="8186"/>
                </a:cubicBezTo>
                <a:cubicBezTo>
                  <a:pt x="13471" y="8240"/>
                  <a:pt x="13474" y="8299"/>
                  <a:pt x="13494" y="8359"/>
                </a:cubicBezTo>
                <a:cubicBezTo>
                  <a:pt x="13518" y="8429"/>
                  <a:pt x="13518" y="8516"/>
                  <a:pt x="13543" y="8582"/>
                </a:cubicBezTo>
                <a:cubicBezTo>
                  <a:pt x="13558" y="8621"/>
                  <a:pt x="13607" y="8668"/>
                  <a:pt x="13618" y="8706"/>
                </a:cubicBezTo>
                <a:cubicBezTo>
                  <a:pt x="13634" y="8760"/>
                  <a:pt x="13630" y="8808"/>
                  <a:pt x="13667" y="8855"/>
                </a:cubicBezTo>
                <a:cubicBezTo>
                  <a:pt x="13685" y="8877"/>
                  <a:pt x="13734" y="8950"/>
                  <a:pt x="13742" y="8979"/>
                </a:cubicBezTo>
                <a:cubicBezTo>
                  <a:pt x="13742" y="8996"/>
                  <a:pt x="13742" y="9012"/>
                  <a:pt x="13742" y="9029"/>
                </a:cubicBezTo>
              </a:path>
              <a:path w="7095" h="1886">
                <a:moveTo>
                  <a:pt x="13171" y="8880"/>
                </a:moveTo>
                <a:cubicBezTo>
                  <a:pt x="13231" y="8871"/>
                  <a:pt x="13290" y="8843"/>
                  <a:pt x="13345" y="8806"/>
                </a:cubicBezTo>
                <a:cubicBezTo>
                  <a:pt x="13389" y="8776"/>
                  <a:pt x="13430" y="8744"/>
                  <a:pt x="13469" y="8706"/>
                </a:cubicBezTo>
                <a:cubicBezTo>
                  <a:pt x="13512" y="8664"/>
                  <a:pt x="13508" y="8666"/>
                  <a:pt x="13568" y="8657"/>
                </a:cubicBezTo>
              </a:path>
              <a:path w="7095" h="1886">
                <a:moveTo>
                  <a:pt x="13841" y="8880"/>
                </a:moveTo>
                <a:cubicBezTo>
                  <a:pt x="13841" y="8792"/>
                  <a:pt x="13825" y="8713"/>
                  <a:pt x="13816" y="8632"/>
                </a:cubicBezTo>
                <a:cubicBezTo>
                  <a:pt x="13804" y="8518"/>
                  <a:pt x="13826" y="8418"/>
                  <a:pt x="13841" y="8310"/>
                </a:cubicBezTo>
                <a:cubicBezTo>
                  <a:pt x="13852" y="8232"/>
                  <a:pt x="13860" y="8211"/>
                  <a:pt x="13915" y="8161"/>
                </a:cubicBezTo>
                <a:cubicBezTo>
                  <a:pt x="13960" y="8120"/>
                  <a:pt x="14019" y="8125"/>
                  <a:pt x="14064" y="8161"/>
                </a:cubicBezTo>
                <a:cubicBezTo>
                  <a:pt x="14101" y="8191"/>
                  <a:pt x="14162" y="8223"/>
                  <a:pt x="14188" y="8260"/>
                </a:cubicBezTo>
                <a:cubicBezTo>
                  <a:pt x="14262" y="8364"/>
                  <a:pt x="14287" y="8500"/>
                  <a:pt x="14337" y="8607"/>
                </a:cubicBezTo>
                <a:cubicBezTo>
                  <a:pt x="14358" y="8652"/>
                  <a:pt x="14402" y="8682"/>
                  <a:pt x="14412" y="8731"/>
                </a:cubicBezTo>
                <a:cubicBezTo>
                  <a:pt x="14412" y="8776"/>
                  <a:pt x="14408" y="8789"/>
                  <a:pt x="14436" y="8806"/>
                </a:cubicBezTo>
              </a:path>
              <a:path w="7095" h="1886">
                <a:moveTo>
                  <a:pt x="14238" y="7565"/>
                </a:moveTo>
                <a:cubicBezTo>
                  <a:pt x="14279" y="7525"/>
                  <a:pt x="14322" y="7451"/>
                  <a:pt x="14387" y="7466"/>
                </a:cubicBezTo>
                <a:cubicBezTo>
                  <a:pt x="14415" y="7473"/>
                  <a:pt x="14502" y="7533"/>
                  <a:pt x="14511" y="7565"/>
                </a:cubicBezTo>
                <a:cubicBezTo>
                  <a:pt x="14532" y="7638"/>
                  <a:pt x="14523" y="7678"/>
                  <a:pt x="14511" y="7739"/>
                </a:cubicBezTo>
                <a:cubicBezTo>
                  <a:pt x="14511" y="7784"/>
                  <a:pt x="14515" y="7797"/>
                  <a:pt x="14486" y="7813"/>
                </a:cubicBezTo>
                <a:cubicBezTo>
                  <a:pt x="14538" y="7806"/>
                  <a:pt x="14603" y="7768"/>
                  <a:pt x="14660" y="7789"/>
                </a:cubicBezTo>
                <a:cubicBezTo>
                  <a:pt x="14710" y="7808"/>
                  <a:pt x="14731" y="7870"/>
                  <a:pt x="14734" y="7913"/>
                </a:cubicBezTo>
                <a:cubicBezTo>
                  <a:pt x="14737" y="7970"/>
                  <a:pt x="14699" y="8019"/>
                  <a:pt x="14660" y="8062"/>
                </a:cubicBezTo>
                <a:cubicBezTo>
                  <a:pt x="14632" y="8093"/>
                  <a:pt x="14593" y="8110"/>
                  <a:pt x="14560" y="8136"/>
                </a:cubicBezTo>
              </a:path>
              <a:path w="7095" h="1886">
                <a:moveTo>
                  <a:pt x="15255" y="8880"/>
                </a:moveTo>
                <a:cubicBezTo>
                  <a:pt x="15216" y="8813"/>
                  <a:pt x="15208" y="8749"/>
                  <a:pt x="15180" y="8682"/>
                </a:cubicBezTo>
                <a:cubicBezTo>
                  <a:pt x="15162" y="8638"/>
                  <a:pt x="15110" y="8572"/>
                  <a:pt x="15081" y="8533"/>
                </a:cubicBezTo>
                <a:cubicBezTo>
                  <a:pt x="15050" y="8492"/>
                  <a:pt x="15010" y="8452"/>
                  <a:pt x="14982" y="8409"/>
                </a:cubicBezTo>
                <a:cubicBezTo>
                  <a:pt x="14974" y="8392"/>
                  <a:pt x="14965" y="8376"/>
                  <a:pt x="14957" y="8359"/>
                </a:cubicBezTo>
              </a:path>
              <a:path w="7095" h="1886">
                <a:moveTo>
                  <a:pt x="14982" y="8979"/>
                </a:moveTo>
                <a:cubicBezTo>
                  <a:pt x="14982" y="8896"/>
                  <a:pt x="14989" y="8832"/>
                  <a:pt x="15007" y="8756"/>
                </a:cubicBezTo>
                <a:cubicBezTo>
                  <a:pt x="15025" y="8681"/>
                  <a:pt x="15025" y="8575"/>
                  <a:pt x="15056" y="8508"/>
                </a:cubicBezTo>
                <a:cubicBezTo>
                  <a:pt x="15080" y="8457"/>
                  <a:pt x="15101" y="8415"/>
                  <a:pt x="15131" y="8359"/>
                </a:cubicBezTo>
                <a:cubicBezTo>
                  <a:pt x="15151" y="8319"/>
                  <a:pt x="15160" y="8313"/>
                  <a:pt x="15156" y="8285"/>
                </a:cubicBezTo>
              </a:path>
              <a:path w="7095" h="1886">
                <a:moveTo>
                  <a:pt x="15999" y="9203"/>
                </a:moveTo>
                <a:cubicBezTo>
                  <a:pt x="15944" y="9139"/>
                  <a:pt x="15883" y="9058"/>
                  <a:pt x="15850" y="8979"/>
                </a:cubicBezTo>
                <a:cubicBezTo>
                  <a:pt x="15818" y="8903"/>
                  <a:pt x="15784" y="8833"/>
                  <a:pt x="15751" y="8756"/>
                </a:cubicBezTo>
                <a:cubicBezTo>
                  <a:pt x="15723" y="8690"/>
                  <a:pt x="15704" y="8627"/>
                  <a:pt x="15677" y="8558"/>
                </a:cubicBezTo>
                <a:cubicBezTo>
                  <a:pt x="15645" y="8474"/>
                  <a:pt x="15605" y="8373"/>
                  <a:pt x="15602" y="8285"/>
                </a:cubicBezTo>
                <a:cubicBezTo>
                  <a:pt x="15599" y="8196"/>
                  <a:pt x="15613" y="8133"/>
                  <a:pt x="15627" y="8062"/>
                </a:cubicBezTo>
                <a:cubicBezTo>
                  <a:pt x="15641" y="7992"/>
                  <a:pt x="15658" y="7931"/>
                  <a:pt x="15677" y="7863"/>
                </a:cubicBezTo>
                <a:cubicBezTo>
                  <a:pt x="15700" y="7782"/>
                  <a:pt x="15724" y="7732"/>
                  <a:pt x="15751" y="7665"/>
                </a:cubicBezTo>
                <a:cubicBezTo>
                  <a:pt x="15776" y="7603"/>
                  <a:pt x="15789" y="7530"/>
                  <a:pt x="15850" y="7491"/>
                </a:cubicBezTo>
                <a:cubicBezTo>
                  <a:pt x="15911" y="7452"/>
                  <a:pt x="15897" y="7420"/>
                  <a:pt x="15949" y="7367"/>
                </a:cubicBezTo>
                <a:cubicBezTo>
                  <a:pt x="15957" y="7359"/>
                  <a:pt x="15966" y="7350"/>
                  <a:pt x="15974" y="7342"/>
                </a:cubicBezTo>
              </a:path>
              <a:path w="7095" h="1886">
                <a:moveTo>
                  <a:pt x="16520" y="7714"/>
                </a:moveTo>
                <a:cubicBezTo>
                  <a:pt x="16544" y="7809"/>
                  <a:pt x="16545" y="7888"/>
                  <a:pt x="16545" y="7987"/>
                </a:cubicBezTo>
                <a:cubicBezTo>
                  <a:pt x="16545" y="8091"/>
                  <a:pt x="16495" y="8206"/>
                  <a:pt x="16520" y="8310"/>
                </a:cubicBezTo>
                <a:cubicBezTo>
                  <a:pt x="16537" y="8381"/>
                  <a:pt x="16545" y="8431"/>
                  <a:pt x="16545" y="8508"/>
                </a:cubicBezTo>
                <a:cubicBezTo>
                  <a:pt x="16545" y="8580"/>
                  <a:pt x="16524" y="8617"/>
                  <a:pt x="16520" y="8682"/>
                </a:cubicBezTo>
                <a:cubicBezTo>
                  <a:pt x="16511" y="8838"/>
                  <a:pt x="16520" y="8997"/>
                  <a:pt x="16520" y="9153"/>
                </a:cubicBezTo>
              </a:path>
              <a:path w="7095" h="1886">
                <a:moveTo>
                  <a:pt x="16892" y="8409"/>
                </a:moveTo>
                <a:cubicBezTo>
                  <a:pt x="16823" y="8400"/>
                  <a:pt x="16760" y="8368"/>
                  <a:pt x="16694" y="8359"/>
                </a:cubicBezTo>
                <a:cubicBezTo>
                  <a:pt x="16564" y="8342"/>
                  <a:pt x="16415" y="8352"/>
                  <a:pt x="16297" y="8334"/>
                </a:cubicBezTo>
                <a:cubicBezTo>
                  <a:pt x="16242" y="8326"/>
                  <a:pt x="16200" y="8320"/>
                  <a:pt x="16148" y="8310"/>
                </a:cubicBezTo>
              </a:path>
              <a:path w="7095" h="1886">
                <a:moveTo>
                  <a:pt x="17314" y="9054"/>
                </a:moveTo>
                <a:cubicBezTo>
                  <a:pt x="17277" y="8992"/>
                  <a:pt x="17290" y="8946"/>
                  <a:pt x="17264" y="8880"/>
                </a:cubicBezTo>
                <a:cubicBezTo>
                  <a:pt x="17241" y="8823"/>
                  <a:pt x="17223" y="8736"/>
                  <a:pt x="17190" y="8682"/>
                </a:cubicBezTo>
                <a:cubicBezTo>
                  <a:pt x="17150" y="8616"/>
                  <a:pt x="17143" y="8549"/>
                  <a:pt x="17115" y="8483"/>
                </a:cubicBezTo>
                <a:cubicBezTo>
                  <a:pt x="17105" y="8459"/>
                  <a:pt x="17059" y="8427"/>
                  <a:pt x="17041" y="8409"/>
                </a:cubicBezTo>
                <a:cubicBezTo>
                  <a:pt x="16991" y="8458"/>
                  <a:pt x="16969" y="8485"/>
                  <a:pt x="16966" y="8558"/>
                </a:cubicBezTo>
                <a:cubicBezTo>
                  <a:pt x="16961" y="8672"/>
                  <a:pt x="16973" y="8774"/>
                  <a:pt x="16991" y="8880"/>
                </a:cubicBezTo>
                <a:cubicBezTo>
                  <a:pt x="16991" y="8925"/>
                  <a:pt x="16987" y="8938"/>
                  <a:pt x="17016" y="8954"/>
                </a:cubicBezTo>
                <a:cubicBezTo>
                  <a:pt x="17073" y="8898"/>
                  <a:pt x="17120" y="8845"/>
                  <a:pt x="17190" y="8806"/>
                </a:cubicBezTo>
              </a:path>
              <a:path w="7095" h="1886">
                <a:moveTo>
                  <a:pt x="17413" y="9004"/>
                </a:moveTo>
                <a:cubicBezTo>
                  <a:pt x="17444" y="8942"/>
                  <a:pt x="17438" y="8880"/>
                  <a:pt x="17438" y="8806"/>
                </a:cubicBezTo>
                <a:cubicBezTo>
                  <a:pt x="17438" y="8709"/>
                  <a:pt x="17450" y="8627"/>
                  <a:pt x="17462" y="8533"/>
                </a:cubicBezTo>
                <a:cubicBezTo>
                  <a:pt x="17473" y="8452"/>
                  <a:pt x="17500" y="8435"/>
                  <a:pt x="17562" y="8384"/>
                </a:cubicBezTo>
                <a:cubicBezTo>
                  <a:pt x="17619" y="8337"/>
                  <a:pt x="17641" y="8364"/>
                  <a:pt x="17686" y="8409"/>
                </a:cubicBezTo>
                <a:cubicBezTo>
                  <a:pt x="17722" y="8445"/>
                  <a:pt x="17773" y="8481"/>
                  <a:pt x="17785" y="8533"/>
                </a:cubicBezTo>
                <a:cubicBezTo>
                  <a:pt x="17802" y="8605"/>
                  <a:pt x="17813" y="8687"/>
                  <a:pt x="17835" y="8756"/>
                </a:cubicBezTo>
                <a:cubicBezTo>
                  <a:pt x="17856" y="8820"/>
                  <a:pt x="17898" y="8897"/>
                  <a:pt x="17909" y="8954"/>
                </a:cubicBezTo>
                <a:cubicBezTo>
                  <a:pt x="17922" y="9018"/>
                  <a:pt x="17927" y="9074"/>
                  <a:pt x="17959" y="9128"/>
                </a:cubicBezTo>
              </a:path>
              <a:path w="7095" h="1886">
                <a:moveTo>
                  <a:pt x="17835" y="7789"/>
                </a:moveTo>
                <a:cubicBezTo>
                  <a:pt x="17869" y="7754"/>
                  <a:pt x="17902" y="7695"/>
                  <a:pt x="17959" y="7714"/>
                </a:cubicBezTo>
                <a:cubicBezTo>
                  <a:pt x="18023" y="7736"/>
                  <a:pt x="18030" y="7836"/>
                  <a:pt x="18033" y="7888"/>
                </a:cubicBezTo>
                <a:cubicBezTo>
                  <a:pt x="18036" y="7951"/>
                  <a:pt x="18002" y="8069"/>
                  <a:pt x="18008" y="8111"/>
                </a:cubicBezTo>
                <a:cubicBezTo>
                  <a:pt x="18017" y="8178"/>
                  <a:pt x="18078" y="8207"/>
                  <a:pt x="18132" y="8210"/>
                </a:cubicBezTo>
                <a:cubicBezTo>
                  <a:pt x="18174" y="8210"/>
                  <a:pt x="18182" y="8210"/>
                  <a:pt x="18207" y="8210"/>
                </a:cubicBezTo>
              </a:path>
              <a:path w="7095" h="1886">
                <a:moveTo>
                  <a:pt x="18827" y="9004"/>
                </a:moveTo>
                <a:cubicBezTo>
                  <a:pt x="18795" y="8952"/>
                  <a:pt x="18775" y="8895"/>
                  <a:pt x="18752" y="8830"/>
                </a:cubicBezTo>
                <a:cubicBezTo>
                  <a:pt x="18726" y="8758"/>
                  <a:pt x="18699" y="8693"/>
                  <a:pt x="18653" y="8632"/>
                </a:cubicBezTo>
                <a:cubicBezTo>
                  <a:pt x="18599" y="8560"/>
                  <a:pt x="18596" y="8475"/>
                  <a:pt x="18529" y="8409"/>
                </a:cubicBezTo>
                <a:cubicBezTo>
                  <a:pt x="18521" y="8401"/>
                  <a:pt x="18512" y="8392"/>
                  <a:pt x="18504" y="8384"/>
                </a:cubicBezTo>
              </a:path>
              <a:path w="7095" h="1886">
                <a:moveTo>
                  <a:pt x="18529" y="8954"/>
                </a:moveTo>
                <a:cubicBezTo>
                  <a:pt x="18539" y="8873"/>
                  <a:pt x="18588" y="8836"/>
                  <a:pt x="18604" y="8756"/>
                </a:cubicBezTo>
                <a:cubicBezTo>
                  <a:pt x="18615" y="8701"/>
                  <a:pt x="18617" y="8652"/>
                  <a:pt x="18653" y="8607"/>
                </a:cubicBezTo>
                <a:cubicBezTo>
                  <a:pt x="18709" y="8538"/>
                  <a:pt x="18722" y="8479"/>
                  <a:pt x="18802" y="8434"/>
                </a:cubicBezTo>
              </a:path>
              <a:path w="7095" h="1886">
                <a:moveTo>
                  <a:pt x="19100" y="9227"/>
                </a:moveTo>
                <a:cubicBezTo>
                  <a:pt x="19175" y="9217"/>
                  <a:pt x="19187" y="9198"/>
                  <a:pt x="19224" y="9128"/>
                </a:cubicBezTo>
                <a:cubicBezTo>
                  <a:pt x="19266" y="9049"/>
                  <a:pt x="19286" y="8968"/>
                  <a:pt x="19298" y="8880"/>
                </a:cubicBezTo>
                <a:cubicBezTo>
                  <a:pt x="19311" y="8782"/>
                  <a:pt x="19288" y="8624"/>
                  <a:pt x="19273" y="8533"/>
                </a:cubicBezTo>
                <a:cubicBezTo>
                  <a:pt x="19257" y="8437"/>
                  <a:pt x="19227" y="8328"/>
                  <a:pt x="19199" y="8235"/>
                </a:cubicBezTo>
                <a:cubicBezTo>
                  <a:pt x="19171" y="8142"/>
                  <a:pt x="19146" y="7996"/>
                  <a:pt x="19100" y="7913"/>
                </a:cubicBezTo>
                <a:cubicBezTo>
                  <a:pt x="19064" y="7848"/>
                  <a:pt x="18999" y="7750"/>
                  <a:pt x="18951" y="7689"/>
                </a:cubicBezTo>
                <a:cubicBezTo>
                  <a:pt x="18896" y="7619"/>
                  <a:pt x="18824" y="7565"/>
                  <a:pt x="18752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9"/>
          <p:cNvSpPr/>
          <p:nvPr/>
        </p:nvSpPr>
        <p:spPr>
          <a:xfrm>
            <a:off x="4938840" y="3554280"/>
            <a:ext cx="1106280" cy="588960"/>
          </a:xfrm>
          <a:custGeom>
            <a:avLst/>
            <a:gdLst/>
            <a:ahLst/>
            <a:rect l="l" t="t" r="r" b="b"/>
            <a:pathLst>
              <a:path w="3077" h="1638">
                <a:moveTo>
                  <a:pt x="14436" y="9872"/>
                </a:moveTo>
                <a:cubicBezTo>
                  <a:pt x="14398" y="9937"/>
                  <a:pt x="14412" y="10016"/>
                  <a:pt x="14412" y="10096"/>
                </a:cubicBezTo>
                <a:cubicBezTo>
                  <a:pt x="14412" y="10183"/>
                  <a:pt x="14433" y="10258"/>
                  <a:pt x="14436" y="10344"/>
                </a:cubicBezTo>
                <a:cubicBezTo>
                  <a:pt x="14440" y="10443"/>
                  <a:pt x="14422" y="10522"/>
                  <a:pt x="14412" y="10616"/>
                </a:cubicBezTo>
                <a:cubicBezTo>
                  <a:pt x="14402" y="10707"/>
                  <a:pt x="14412" y="10801"/>
                  <a:pt x="14387" y="10889"/>
                </a:cubicBezTo>
                <a:cubicBezTo>
                  <a:pt x="14357" y="10997"/>
                  <a:pt x="14311" y="11106"/>
                  <a:pt x="14288" y="11212"/>
                </a:cubicBezTo>
                <a:cubicBezTo>
                  <a:pt x="14272" y="11287"/>
                  <a:pt x="14226" y="11368"/>
                  <a:pt x="14213" y="11435"/>
                </a:cubicBezTo>
                <a:cubicBezTo>
                  <a:pt x="14213" y="11480"/>
                  <a:pt x="14217" y="11493"/>
                  <a:pt x="14188" y="11509"/>
                </a:cubicBezTo>
              </a:path>
              <a:path w="3077" h="1638">
                <a:moveTo>
                  <a:pt x="14932" y="10616"/>
                </a:moveTo>
                <a:cubicBezTo>
                  <a:pt x="14851" y="10643"/>
                  <a:pt x="14748" y="10657"/>
                  <a:pt x="14660" y="10641"/>
                </a:cubicBezTo>
                <a:cubicBezTo>
                  <a:pt x="14544" y="10619"/>
                  <a:pt x="14425" y="10618"/>
                  <a:pt x="14312" y="10592"/>
                </a:cubicBezTo>
                <a:cubicBezTo>
                  <a:pt x="14229" y="10573"/>
                  <a:pt x="14150" y="10546"/>
                  <a:pt x="14064" y="10542"/>
                </a:cubicBezTo>
                <a:cubicBezTo>
                  <a:pt x="13969" y="10538"/>
                  <a:pt x="13888" y="10517"/>
                  <a:pt x="13791" y="10517"/>
                </a:cubicBezTo>
                <a:cubicBezTo>
                  <a:pt x="13750" y="10517"/>
                  <a:pt x="13742" y="10517"/>
                  <a:pt x="13717" y="10517"/>
                </a:cubicBezTo>
              </a:path>
              <a:path w="3077" h="1638">
                <a:moveTo>
                  <a:pt x="15255" y="11237"/>
                </a:moveTo>
                <a:cubicBezTo>
                  <a:pt x="15255" y="11163"/>
                  <a:pt x="15234" y="11109"/>
                  <a:pt x="15230" y="11038"/>
                </a:cubicBezTo>
                <a:cubicBezTo>
                  <a:pt x="15226" y="10962"/>
                  <a:pt x="15192" y="10859"/>
                  <a:pt x="15156" y="10790"/>
                </a:cubicBezTo>
                <a:cubicBezTo>
                  <a:pt x="15128" y="10736"/>
                  <a:pt x="15073" y="10661"/>
                  <a:pt x="15032" y="10616"/>
                </a:cubicBezTo>
                <a:cubicBezTo>
                  <a:pt x="14989" y="10568"/>
                  <a:pt x="14939" y="10593"/>
                  <a:pt x="14908" y="10641"/>
                </a:cubicBezTo>
                <a:cubicBezTo>
                  <a:pt x="14864" y="10710"/>
                  <a:pt x="14883" y="10812"/>
                  <a:pt x="14883" y="10889"/>
                </a:cubicBezTo>
                <a:cubicBezTo>
                  <a:pt x="14883" y="10997"/>
                  <a:pt x="14883" y="11104"/>
                  <a:pt x="14883" y="11212"/>
                </a:cubicBezTo>
                <a:cubicBezTo>
                  <a:pt x="14938" y="11156"/>
                  <a:pt x="14952" y="11123"/>
                  <a:pt x="14982" y="11063"/>
                </a:cubicBezTo>
                <a:cubicBezTo>
                  <a:pt x="15000" y="11027"/>
                  <a:pt x="15036" y="10905"/>
                  <a:pt x="15081" y="10889"/>
                </a:cubicBezTo>
                <a:cubicBezTo>
                  <a:pt x="15131" y="10889"/>
                  <a:pt x="15147" y="10889"/>
                  <a:pt x="15180" y="10889"/>
                </a:cubicBezTo>
              </a:path>
              <a:path w="3077" h="1638">
                <a:moveTo>
                  <a:pt x="15404" y="11261"/>
                </a:moveTo>
                <a:cubicBezTo>
                  <a:pt x="15376" y="11186"/>
                  <a:pt x="15358" y="11093"/>
                  <a:pt x="15354" y="11013"/>
                </a:cubicBezTo>
                <a:cubicBezTo>
                  <a:pt x="15348" y="10907"/>
                  <a:pt x="15323" y="10732"/>
                  <a:pt x="15379" y="10641"/>
                </a:cubicBezTo>
                <a:cubicBezTo>
                  <a:pt x="15418" y="10577"/>
                  <a:pt x="15451" y="10602"/>
                  <a:pt x="15503" y="10641"/>
                </a:cubicBezTo>
                <a:cubicBezTo>
                  <a:pt x="15560" y="10684"/>
                  <a:pt x="15613" y="10745"/>
                  <a:pt x="15627" y="10815"/>
                </a:cubicBezTo>
                <a:cubicBezTo>
                  <a:pt x="15640" y="10882"/>
                  <a:pt x="15672" y="10944"/>
                  <a:pt x="15701" y="11013"/>
                </a:cubicBezTo>
                <a:cubicBezTo>
                  <a:pt x="15728" y="11077"/>
                  <a:pt x="15748" y="11147"/>
                  <a:pt x="15751" y="11212"/>
                </a:cubicBezTo>
                <a:cubicBezTo>
                  <a:pt x="15751" y="11273"/>
                  <a:pt x="15742" y="11289"/>
                  <a:pt x="15776" y="11311"/>
                </a:cubicBezTo>
              </a:path>
              <a:path w="3077" h="1638">
                <a:moveTo>
                  <a:pt x="15949" y="9947"/>
                </a:moveTo>
                <a:cubicBezTo>
                  <a:pt x="15888" y="9947"/>
                  <a:pt x="15804" y="9947"/>
                  <a:pt x="15751" y="9971"/>
                </a:cubicBezTo>
                <a:cubicBezTo>
                  <a:pt x="15700" y="9994"/>
                  <a:pt x="15739" y="10086"/>
                  <a:pt x="15751" y="10120"/>
                </a:cubicBezTo>
                <a:cubicBezTo>
                  <a:pt x="15776" y="10191"/>
                  <a:pt x="15776" y="10243"/>
                  <a:pt x="15776" y="10319"/>
                </a:cubicBezTo>
                <a:cubicBezTo>
                  <a:pt x="15846" y="10319"/>
                  <a:pt x="15912" y="10307"/>
                  <a:pt x="15974" y="10344"/>
                </a:cubicBezTo>
                <a:cubicBezTo>
                  <a:pt x="15999" y="10368"/>
                  <a:pt x="16008" y="10376"/>
                  <a:pt x="16024" y="10393"/>
                </a:cubicBezTo>
                <a:cubicBezTo>
                  <a:pt x="15987" y="10439"/>
                  <a:pt x="15966" y="10502"/>
                  <a:pt x="15900" y="10517"/>
                </a:cubicBezTo>
                <a:cubicBezTo>
                  <a:pt x="15855" y="10517"/>
                  <a:pt x="15842" y="10514"/>
                  <a:pt x="15825" y="10542"/>
                </a:cubicBezTo>
              </a:path>
              <a:path w="3077" h="1638">
                <a:moveTo>
                  <a:pt x="16793" y="11509"/>
                </a:moveTo>
                <a:cubicBezTo>
                  <a:pt x="16782" y="11424"/>
                  <a:pt x="16747" y="11337"/>
                  <a:pt x="16718" y="11261"/>
                </a:cubicBezTo>
                <a:cubicBezTo>
                  <a:pt x="16701" y="11218"/>
                  <a:pt x="16679" y="11114"/>
                  <a:pt x="16644" y="11088"/>
                </a:cubicBezTo>
                <a:cubicBezTo>
                  <a:pt x="16561" y="11025"/>
                  <a:pt x="16573" y="11007"/>
                  <a:pt x="16520" y="10914"/>
                </a:cubicBezTo>
                <a:cubicBezTo>
                  <a:pt x="16494" y="10867"/>
                  <a:pt x="16454" y="10809"/>
                  <a:pt x="16421" y="10765"/>
                </a:cubicBezTo>
                <a:cubicBezTo>
                  <a:pt x="16398" y="10742"/>
                  <a:pt x="16394" y="10734"/>
                  <a:pt x="16371" y="10740"/>
                </a:cubicBezTo>
              </a:path>
              <a:path w="3077" h="1638">
                <a:moveTo>
                  <a:pt x="16346" y="11385"/>
                </a:moveTo>
                <a:cubicBezTo>
                  <a:pt x="16356" y="11317"/>
                  <a:pt x="16387" y="11300"/>
                  <a:pt x="16421" y="11237"/>
                </a:cubicBezTo>
                <a:cubicBezTo>
                  <a:pt x="16464" y="11157"/>
                  <a:pt x="16487" y="11096"/>
                  <a:pt x="16520" y="11013"/>
                </a:cubicBezTo>
                <a:cubicBezTo>
                  <a:pt x="16558" y="10917"/>
                  <a:pt x="16617" y="10826"/>
                  <a:pt x="16669" y="10740"/>
                </a:cubicBezTo>
                <a:cubicBezTo>
                  <a:pt x="16700" y="10690"/>
                  <a:pt x="16723" y="10677"/>
                  <a:pt x="16768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10"/>
          <p:cNvSpPr/>
          <p:nvPr/>
        </p:nvSpPr>
        <p:spPr>
          <a:xfrm>
            <a:off x="4653000" y="3321000"/>
            <a:ext cx="1768320" cy="1243080"/>
          </a:xfrm>
          <a:custGeom>
            <a:avLst/>
            <a:gdLst/>
            <a:ahLst/>
            <a:rect l="l" t="t" r="r" b="b"/>
            <a:pathLst>
              <a:path w="4913" h="3449">
                <a:moveTo>
                  <a:pt x="15974" y="12179"/>
                </a:moveTo>
                <a:cubicBezTo>
                  <a:pt x="16023" y="12175"/>
                  <a:pt x="16102" y="12173"/>
                  <a:pt x="16173" y="12154"/>
                </a:cubicBezTo>
                <a:cubicBezTo>
                  <a:pt x="16269" y="12128"/>
                  <a:pt x="16381" y="12107"/>
                  <a:pt x="16470" y="12080"/>
                </a:cubicBezTo>
                <a:cubicBezTo>
                  <a:pt x="16584" y="12045"/>
                  <a:pt x="16708" y="12015"/>
                  <a:pt x="16818" y="11981"/>
                </a:cubicBezTo>
                <a:cubicBezTo>
                  <a:pt x="16911" y="11953"/>
                  <a:pt x="16996" y="11906"/>
                  <a:pt x="17090" y="11881"/>
                </a:cubicBezTo>
                <a:cubicBezTo>
                  <a:pt x="17168" y="11860"/>
                  <a:pt x="17344" y="11846"/>
                  <a:pt x="17413" y="11807"/>
                </a:cubicBezTo>
                <a:cubicBezTo>
                  <a:pt x="17499" y="11758"/>
                  <a:pt x="17605" y="11678"/>
                  <a:pt x="17661" y="11609"/>
                </a:cubicBezTo>
                <a:cubicBezTo>
                  <a:pt x="17754" y="11495"/>
                  <a:pt x="17811" y="11330"/>
                  <a:pt x="17835" y="11187"/>
                </a:cubicBezTo>
                <a:cubicBezTo>
                  <a:pt x="17872" y="10962"/>
                  <a:pt x="17792" y="10742"/>
                  <a:pt x="17711" y="10542"/>
                </a:cubicBezTo>
                <a:cubicBezTo>
                  <a:pt x="17668" y="10437"/>
                  <a:pt x="17602" y="10313"/>
                  <a:pt x="17537" y="10220"/>
                </a:cubicBezTo>
                <a:cubicBezTo>
                  <a:pt x="17435" y="10075"/>
                  <a:pt x="17304" y="9954"/>
                  <a:pt x="17165" y="9847"/>
                </a:cubicBezTo>
                <a:cubicBezTo>
                  <a:pt x="17044" y="9754"/>
                  <a:pt x="16944" y="9658"/>
                  <a:pt x="16818" y="9575"/>
                </a:cubicBezTo>
                <a:cubicBezTo>
                  <a:pt x="16683" y="9487"/>
                  <a:pt x="16525" y="9421"/>
                  <a:pt x="16371" y="9376"/>
                </a:cubicBezTo>
                <a:cubicBezTo>
                  <a:pt x="16188" y="9323"/>
                  <a:pt x="15990" y="9278"/>
                  <a:pt x="15801" y="9252"/>
                </a:cubicBezTo>
                <a:cubicBezTo>
                  <a:pt x="15634" y="9229"/>
                  <a:pt x="15474" y="9227"/>
                  <a:pt x="15304" y="9227"/>
                </a:cubicBezTo>
                <a:cubicBezTo>
                  <a:pt x="15129" y="9227"/>
                  <a:pt x="14980" y="9253"/>
                  <a:pt x="14808" y="9277"/>
                </a:cubicBezTo>
                <a:cubicBezTo>
                  <a:pt x="14612" y="9304"/>
                  <a:pt x="14433" y="9352"/>
                  <a:pt x="14238" y="9401"/>
                </a:cubicBezTo>
                <a:cubicBezTo>
                  <a:pt x="14059" y="9446"/>
                  <a:pt x="13937" y="9504"/>
                  <a:pt x="13767" y="9575"/>
                </a:cubicBezTo>
                <a:cubicBezTo>
                  <a:pt x="13585" y="9651"/>
                  <a:pt x="13435" y="9737"/>
                  <a:pt x="13271" y="9847"/>
                </a:cubicBezTo>
                <a:cubicBezTo>
                  <a:pt x="13161" y="9920"/>
                  <a:pt x="13098" y="9958"/>
                  <a:pt x="13022" y="10071"/>
                </a:cubicBezTo>
                <a:cubicBezTo>
                  <a:pt x="12956" y="10169"/>
                  <a:pt x="12935" y="10253"/>
                  <a:pt x="12923" y="10368"/>
                </a:cubicBezTo>
                <a:cubicBezTo>
                  <a:pt x="12910" y="10497"/>
                  <a:pt x="12916" y="10668"/>
                  <a:pt x="12973" y="10790"/>
                </a:cubicBezTo>
                <a:cubicBezTo>
                  <a:pt x="13029" y="10909"/>
                  <a:pt x="13134" y="11017"/>
                  <a:pt x="13221" y="11112"/>
                </a:cubicBezTo>
                <a:cubicBezTo>
                  <a:pt x="13336" y="11237"/>
                  <a:pt x="13467" y="11372"/>
                  <a:pt x="13618" y="11460"/>
                </a:cubicBezTo>
                <a:cubicBezTo>
                  <a:pt x="13829" y="11583"/>
                  <a:pt x="14059" y="11713"/>
                  <a:pt x="14288" y="11807"/>
                </a:cubicBezTo>
                <a:cubicBezTo>
                  <a:pt x="14562" y="11920"/>
                  <a:pt x="14854" y="12077"/>
                  <a:pt x="15131" y="12179"/>
                </a:cubicBezTo>
                <a:cubicBezTo>
                  <a:pt x="15409" y="12282"/>
                  <a:pt x="15688" y="12367"/>
                  <a:pt x="15974" y="12452"/>
                </a:cubicBezTo>
                <a:cubicBezTo>
                  <a:pt x="16318" y="12554"/>
                  <a:pt x="16659" y="12614"/>
                  <a:pt x="17016" y="12650"/>
                </a:cubicBezTo>
                <a:cubicBezTo>
                  <a:pt x="17107" y="12658"/>
                  <a:pt x="17198" y="12667"/>
                  <a:pt x="17289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on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bjective:  to solve trigonometric equ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he difference between simplifying and solving?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9-12-01T14:49:50Z</dcterms:modified>
  <cp:revision>16</cp:revision>
  <dc:subject/>
  <dc:title>Lesson 5.3 part two</dc:title>
</cp:coreProperties>
</file>